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camera.wav" ContentType="audio/x-wav"/>
  <Override PartName="/ppt/media/image22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applause.wav" ContentType="audio/x-wav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1.wmf" ContentType="image/x-wmf"/>
  <Override PartName="/ppt/media/image1.jpeg" ContentType="image/jpeg"/>
  <Override PartName="/ppt/media/image23.png" ContentType="image/png"/>
  <Override PartName="/ppt/media/image20.gif" ContentType="image/gif"/>
  <Override PartName="/ppt/media/image12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gif" ContentType="image/gif"/>
  <Override PartName="/ppt/media/image16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CA3-CE47-41A1-9E7F-C518438F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DB5-8818-4FB6-843A-C1CFBD28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3AB-EE87-4678-A60B-24EE58F2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E9B-4DD7-496A-9729-0A5DB3C0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32A-E0C4-4E02-B4D3-1D475BA3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D30-B436-41E7-B57A-3A3C5813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328-EC79-41AC-BDCE-4B06A8C3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297-2121-4983-8746-D392B4B2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9F6-D3D5-4D44-9A1E-D7E005A9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423-85FC-4C1D-A58F-9902916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FC3-6A1B-41A8-BD04-70C0F872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C3B-ED9F-4642-A3BE-88B9CD4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BF63-57B0-4D5C-8C2D-E268A561E1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.xm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48000" y="1628640"/>
            <a:ext cx="16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电 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60280"/>
            <a:ext cx="85075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压表的使用注意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校零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检查电压表的指针是否对准零刻度线，如有偏差，进行校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并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电压表必须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并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在被测电路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两端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使电流从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＋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接线柱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流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压表，从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－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接线柱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流出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压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使被测电压不超出电压表量程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在已知电压大小的情况下，直接选择合适的量程；若不能判断，则先用大量程“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试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”，然后再选择合适的量程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电压的测量——电压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155736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构  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量  程：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-3V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-15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分度值：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.1V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.5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364500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电压表的读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1152720" cy="113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380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电压的测量——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1295280" y="1295280"/>
          <a:ext cx="64771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477120" cy="5562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4920" y="189000"/>
            <a:ext cx="9145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实验：练习使用电压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测量一节电池的电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测量两节串联电池的电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测量串联电路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端的电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843280" y="3789360"/>
            <a:ext cx="300816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609480"/>
            <a:ext cx="86104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下列说法中正确是（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电路两端有电压，电路中就一定有持续的电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导体中有大量的自由电荷，只要构成通路，导体中就会有电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电压是电路中形成电流的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电路中有电流不一定有电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380880"/>
            <a:ext cx="8839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关于电压表的使用，正确的是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压表不能直接测量电源电压，否则会烧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尽可能选大的量程，以免损坏电压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试触后，被测电压不超过小量程时，应选用较小量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压表接入电路时，不用考虑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+”“-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接线柱的接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920" y="765000"/>
            <a:ext cx="71294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如图，小琦用电压表测量灯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两端的电压，为了继续测量灯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L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两端的电压，她把电压表的左侧接线柱拆开，接到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点处，这种做法正确吗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19809" y="10800"/>
                </a:moveTo>
                <a:lnTo>
                  <a:pt x="9304" y="17806"/>
                </a:lnTo>
                <a:lnTo>
                  <a:pt x="9304" y="3794"/>
                </a:lnTo>
                <a:close/>
              </a:path>
              <a:path fill="darken" w="32621" h="21600">
                <a:moveTo>
                  <a:pt x="21654" y="3794"/>
                </a:moveTo>
                <a:lnTo>
                  <a:pt x="21654" y="17806"/>
                </a:lnTo>
                <a:lnTo>
                  <a:pt x="23317" y="17806"/>
                </a:lnTo>
                <a:lnTo>
                  <a:pt x="23317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76320"/>
            <a:ext cx="2819520" cy="1725480"/>
            <a:chOff x="0" y="76320"/>
            <a:chExt cx="2819520" cy="1725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0" y="76320"/>
              <a:ext cx="26640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447920" y="152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Times New Roman"/>
                  <a:ea typeface="隶书"/>
                </a:rPr>
                <a:t>思考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0" y="2060640"/>
            <a:ext cx="1219320" cy="1330200"/>
            <a:chOff x="0" y="2060640"/>
            <a:chExt cx="1219320" cy="133020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0" y="206064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2556000" y="3933720"/>
            <a:ext cx="3562200" cy="2990880"/>
            <a:chOff x="2556000" y="3933720"/>
            <a:chExt cx="3562200" cy="2990880"/>
          </a:xfrm>
        </p:grpSpPr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556000" y="3933720"/>
              <a:ext cx="35622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708360" y="52768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4560" y="53006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79640" y="1512720"/>
            <a:ext cx="581184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图，小铭连接了电路准备测量左边一只灯发光时两端的电压。电路有错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6960" y="2031840"/>
            <a:ext cx="565200" cy="2105280"/>
          </a:xfrm>
          <a:custGeom>
            <a:avLst/>
            <a:gdLst/>
            <a:ahLst/>
            <a:rect l="l" t="t" r="r" b="b"/>
            <a:pathLst>
              <a:path w="356" h="1326">
                <a:moveTo>
                  <a:pt x="356" y="0"/>
                </a:moveTo>
                <a:cubicBezTo>
                  <a:pt x="281" y="5"/>
                  <a:pt x="208" y="3"/>
                  <a:pt x="137" y="27"/>
                </a:cubicBezTo>
                <a:cubicBezTo>
                  <a:pt x="115" y="49"/>
                  <a:pt x="64" y="82"/>
                  <a:pt x="64" y="82"/>
                </a:cubicBezTo>
                <a:cubicBezTo>
                  <a:pt x="16" y="152"/>
                  <a:pt x="16" y="239"/>
                  <a:pt x="0" y="320"/>
                </a:cubicBezTo>
                <a:cubicBezTo>
                  <a:pt x="3" y="536"/>
                  <a:pt x="1" y="753"/>
                  <a:pt x="9" y="969"/>
                </a:cubicBezTo>
                <a:cubicBezTo>
                  <a:pt x="11" y="1033"/>
                  <a:pt x="32" y="1168"/>
                  <a:pt x="91" y="1207"/>
                </a:cubicBezTo>
                <a:cubicBezTo>
                  <a:pt x="104" y="1245"/>
                  <a:pt x="91" y="1326"/>
                  <a:pt x="91" y="1326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65560" y="4238640"/>
            <a:ext cx="450720" cy="1384200"/>
          </a:xfrm>
          <a:custGeom>
            <a:avLst/>
            <a:gdLst/>
            <a:ahLst/>
            <a:rect l="l" t="t" r="r" b="b"/>
            <a:pathLst>
              <a:path w="284" h="872">
                <a:moveTo>
                  <a:pt x="284" y="0"/>
                </a:moveTo>
                <a:cubicBezTo>
                  <a:pt x="253" y="85"/>
                  <a:pt x="259" y="130"/>
                  <a:pt x="201" y="201"/>
                </a:cubicBezTo>
                <a:cubicBezTo>
                  <a:pt x="189" y="216"/>
                  <a:pt x="177" y="231"/>
                  <a:pt x="165" y="247"/>
                </a:cubicBezTo>
                <a:cubicBezTo>
                  <a:pt x="152" y="264"/>
                  <a:pt x="128" y="301"/>
                  <a:pt x="128" y="301"/>
                </a:cubicBezTo>
                <a:cubicBezTo>
                  <a:pt x="122" y="319"/>
                  <a:pt x="116" y="338"/>
                  <a:pt x="110" y="356"/>
                </a:cubicBezTo>
                <a:cubicBezTo>
                  <a:pt x="107" y="365"/>
                  <a:pt x="101" y="384"/>
                  <a:pt x="101" y="384"/>
                </a:cubicBezTo>
                <a:cubicBezTo>
                  <a:pt x="95" y="430"/>
                  <a:pt x="87" y="468"/>
                  <a:pt x="73" y="512"/>
                </a:cubicBezTo>
                <a:cubicBezTo>
                  <a:pt x="66" y="568"/>
                  <a:pt x="69" y="628"/>
                  <a:pt x="37" y="676"/>
                </a:cubicBezTo>
                <a:cubicBezTo>
                  <a:pt x="13" y="751"/>
                  <a:pt x="23" y="767"/>
                  <a:pt x="9" y="868"/>
                </a:cubicBezTo>
                <a:cubicBezTo>
                  <a:pt x="8" y="872"/>
                  <a:pt x="3" y="862"/>
                  <a:pt x="0" y="859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76560" y="5715000"/>
            <a:ext cx="536760" cy="6192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cubicBezTo>
                  <a:pt x="63" y="30"/>
                  <a:pt x="128" y="5"/>
                  <a:pt x="192" y="2"/>
                </a:cubicBezTo>
                <a:cubicBezTo>
                  <a:pt x="241" y="0"/>
                  <a:pt x="289" y="2"/>
                  <a:pt x="338" y="2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9600" y="4716360"/>
            <a:ext cx="2810160" cy="843120"/>
          </a:xfrm>
          <a:custGeom>
            <a:avLst/>
            <a:gdLst/>
            <a:ahLst/>
            <a:rect l="l" t="t" r="r" b="b"/>
            <a:pathLst>
              <a:path w="1770" h="531">
                <a:moveTo>
                  <a:pt x="0" y="531"/>
                </a:moveTo>
                <a:cubicBezTo>
                  <a:pt x="32" y="499"/>
                  <a:pt x="39" y="464"/>
                  <a:pt x="83" y="448"/>
                </a:cubicBezTo>
                <a:cubicBezTo>
                  <a:pt x="119" y="395"/>
                  <a:pt x="147" y="351"/>
                  <a:pt x="211" y="330"/>
                </a:cubicBezTo>
                <a:cubicBezTo>
                  <a:pt x="238" y="302"/>
                  <a:pt x="236" y="288"/>
                  <a:pt x="275" y="275"/>
                </a:cubicBezTo>
                <a:cubicBezTo>
                  <a:pt x="315" y="242"/>
                  <a:pt x="346" y="207"/>
                  <a:pt x="558" y="202"/>
                </a:cubicBezTo>
                <a:cubicBezTo>
                  <a:pt x="770" y="197"/>
                  <a:pt x="1371" y="243"/>
                  <a:pt x="1545" y="247"/>
                </a:cubicBezTo>
                <a:cubicBezTo>
                  <a:pt x="1564" y="247"/>
                  <a:pt x="1600" y="229"/>
                  <a:pt x="1600" y="229"/>
                </a:cubicBezTo>
                <a:cubicBezTo>
                  <a:pt x="1655" y="177"/>
                  <a:pt x="1579" y="243"/>
                  <a:pt x="1646" y="202"/>
                </a:cubicBezTo>
                <a:cubicBezTo>
                  <a:pt x="1677" y="183"/>
                  <a:pt x="1678" y="168"/>
                  <a:pt x="1719" y="147"/>
                </a:cubicBezTo>
                <a:cubicBezTo>
                  <a:pt x="1770" y="93"/>
                  <a:pt x="1765" y="86"/>
                  <a:pt x="1765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03920" y="2395440"/>
            <a:ext cx="698400" cy="2264040"/>
          </a:xfrm>
          <a:custGeom>
            <a:avLst/>
            <a:gdLst/>
            <a:ahLst/>
            <a:rect l="l" t="t" r="r" b="b"/>
            <a:pathLst>
              <a:path w="440" h="1426">
                <a:moveTo>
                  <a:pt x="440" y="1426"/>
                </a:moveTo>
                <a:cubicBezTo>
                  <a:pt x="390" y="1393"/>
                  <a:pt x="344" y="1360"/>
                  <a:pt x="294" y="1325"/>
                </a:cubicBezTo>
                <a:cubicBezTo>
                  <a:pt x="271" y="1291"/>
                  <a:pt x="246" y="1266"/>
                  <a:pt x="212" y="1243"/>
                </a:cubicBezTo>
                <a:cubicBezTo>
                  <a:pt x="198" y="1206"/>
                  <a:pt x="173" y="1178"/>
                  <a:pt x="157" y="1142"/>
                </a:cubicBezTo>
                <a:cubicBezTo>
                  <a:pt x="0" y="795"/>
                  <a:pt x="129" y="381"/>
                  <a:pt x="12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8640" y="2351160"/>
            <a:ext cx="2102040" cy="3416400"/>
          </a:xfrm>
          <a:custGeom>
            <a:avLst/>
            <a:gdLst/>
            <a:ahLst/>
            <a:rect l="l" t="t" r="r" b="b"/>
            <a:pathLst>
              <a:path w="1324" h="2152">
                <a:moveTo>
                  <a:pt x="0" y="0"/>
                </a:moveTo>
                <a:cubicBezTo>
                  <a:pt x="6" y="0"/>
                  <a:pt x="343" y="0"/>
                  <a:pt x="457" y="18"/>
                </a:cubicBezTo>
                <a:cubicBezTo>
                  <a:pt x="582" y="42"/>
                  <a:pt x="742" y="85"/>
                  <a:pt x="855" y="145"/>
                </a:cubicBezTo>
                <a:cubicBezTo>
                  <a:pt x="968" y="205"/>
                  <a:pt x="1073" y="303"/>
                  <a:pt x="1133" y="375"/>
                </a:cubicBezTo>
                <a:cubicBezTo>
                  <a:pt x="1146" y="424"/>
                  <a:pt x="1198" y="509"/>
                  <a:pt x="1216" y="576"/>
                </a:cubicBezTo>
                <a:cubicBezTo>
                  <a:pt x="1240" y="643"/>
                  <a:pt x="1259" y="686"/>
                  <a:pt x="1277" y="776"/>
                </a:cubicBezTo>
                <a:cubicBezTo>
                  <a:pt x="1313" y="888"/>
                  <a:pt x="1299" y="999"/>
                  <a:pt x="1324" y="1116"/>
                </a:cubicBezTo>
                <a:cubicBezTo>
                  <a:pt x="1321" y="1311"/>
                  <a:pt x="1320" y="1198"/>
                  <a:pt x="1311" y="1393"/>
                </a:cubicBezTo>
                <a:cubicBezTo>
                  <a:pt x="1309" y="1439"/>
                  <a:pt x="1241" y="1797"/>
                  <a:pt x="1206" y="1820"/>
                </a:cubicBezTo>
                <a:cubicBezTo>
                  <a:pt x="1169" y="1875"/>
                  <a:pt x="1103" y="1963"/>
                  <a:pt x="1042" y="1993"/>
                </a:cubicBezTo>
                <a:cubicBezTo>
                  <a:pt x="975" y="2026"/>
                  <a:pt x="1052" y="1978"/>
                  <a:pt x="987" y="2012"/>
                </a:cubicBezTo>
                <a:cubicBezTo>
                  <a:pt x="925" y="2044"/>
                  <a:pt x="994" y="2019"/>
                  <a:pt x="932" y="2039"/>
                </a:cubicBezTo>
                <a:cubicBezTo>
                  <a:pt x="845" y="2097"/>
                  <a:pt x="741" y="2093"/>
                  <a:pt x="640" y="2103"/>
                </a:cubicBezTo>
                <a:cubicBezTo>
                  <a:pt x="453" y="2122"/>
                  <a:pt x="271" y="2133"/>
                  <a:pt x="82" y="2140"/>
                </a:cubicBezTo>
                <a:cubicBezTo>
                  <a:pt x="33" y="2152"/>
                  <a:pt x="58" y="2149"/>
                  <a:pt x="9" y="2149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19809" y="10800"/>
                </a:moveTo>
                <a:lnTo>
                  <a:pt x="9304" y="17806"/>
                </a:lnTo>
                <a:lnTo>
                  <a:pt x="9304" y="3794"/>
                </a:lnTo>
                <a:close/>
              </a:path>
              <a:path fill="darken" w="32621" h="21600">
                <a:moveTo>
                  <a:pt x="21654" y="3794"/>
                </a:moveTo>
                <a:lnTo>
                  <a:pt x="21654" y="17806"/>
                </a:lnTo>
                <a:lnTo>
                  <a:pt x="23317" y="17806"/>
                </a:lnTo>
                <a:lnTo>
                  <a:pt x="23317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15920"/>
            <a:ext cx="8458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要使电压表测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40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端的电压，正确的电路图是（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19809" y="10800"/>
                </a:moveTo>
                <a:lnTo>
                  <a:pt x="9304" y="17806"/>
                </a:lnTo>
                <a:lnTo>
                  <a:pt x="9304" y="3794"/>
                </a:lnTo>
                <a:close/>
              </a:path>
              <a:path fill="darken" w="32621" h="21600">
                <a:moveTo>
                  <a:pt x="21654" y="3794"/>
                </a:moveTo>
                <a:lnTo>
                  <a:pt x="21654" y="17806"/>
                </a:lnTo>
                <a:lnTo>
                  <a:pt x="23317" y="17806"/>
                </a:lnTo>
                <a:lnTo>
                  <a:pt x="23317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47640" y="1484280"/>
            <a:ext cx="4927680" cy="4562640"/>
            <a:chOff x="1547640" y="1484280"/>
            <a:chExt cx="4927680" cy="456264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1547640" y="1484280"/>
              <a:ext cx="492444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1547640" y="3692520"/>
              <a:ext cx="4927680" cy="235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380880"/>
            <a:ext cx="8305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图所示电路中，开关闭合后，会出现的后果是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流表与电压表被烧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流表与电压表都不会被烧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有电压表会被烧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有电流表会被烧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0" r="0" b="17496"/>
          <a:stretch/>
        </p:blipFill>
        <p:spPr>
          <a:xfrm>
            <a:off x="5410080" y="3357720"/>
            <a:ext cx="3505320" cy="304308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19809" y="10800"/>
                </a:moveTo>
                <a:lnTo>
                  <a:pt x="9304" y="17806"/>
                </a:lnTo>
                <a:lnTo>
                  <a:pt x="9304" y="3794"/>
                </a:lnTo>
                <a:close/>
              </a:path>
              <a:path fill="darken" w="32621" h="21600">
                <a:moveTo>
                  <a:pt x="21654" y="3794"/>
                </a:moveTo>
                <a:lnTo>
                  <a:pt x="21654" y="17806"/>
                </a:lnTo>
                <a:lnTo>
                  <a:pt x="23317" y="17806"/>
                </a:lnTo>
                <a:lnTo>
                  <a:pt x="23317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7956720" y="6453360"/>
            <a:ext cx="610920" cy="404640"/>
          </a:xfrm>
          <a:custGeom>
            <a:avLst/>
            <a:gdLst>
              <a:gd name="textAreaLeft" fmla="*/ 25920 w 610920"/>
              <a:gd name="textAreaRight" fmla="*/ 585000 w 610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02" h="21600">
                <a:moveTo>
                  <a:pt x="0" y="0"/>
                </a:moveTo>
                <a:lnTo>
                  <a:pt x="32602" y="0"/>
                </a:lnTo>
                <a:lnTo>
                  <a:pt x="32602" y="21600"/>
                </a:lnTo>
                <a:lnTo>
                  <a:pt x="0" y="21600"/>
                </a:lnTo>
                <a:close/>
              </a:path>
              <a:path fill="lightenLess" w="32602" h="21600">
                <a:moveTo>
                  <a:pt x="0" y="0"/>
                </a:moveTo>
                <a:lnTo>
                  <a:pt x="32602" y="0"/>
                </a:lnTo>
                <a:lnTo>
                  <a:pt x="31202" y="1400"/>
                </a:lnTo>
                <a:lnTo>
                  <a:pt x="1400" y="1400"/>
                </a:lnTo>
                <a:close/>
              </a:path>
              <a:path fill="darken" w="32602" h="21600">
                <a:moveTo>
                  <a:pt x="32602" y="0"/>
                </a:moveTo>
                <a:lnTo>
                  <a:pt x="32602" y="21600"/>
                </a:lnTo>
                <a:lnTo>
                  <a:pt x="31202" y="20200"/>
                </a:lnTo>
                <a:lnTo>
                  <a:pt x="31202" y="1400"/>
                </a:lnTo>
                <a:close/>
              </a:path>
              <a:path fill="darkenLess" w="32602" h="21600">
                <a:moveTo>
                  <a:pt x="3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02" y="20200"/>
                </a:lnTo>
                <a:close/>
              </a:path>
              <a:path fill="lighten" w="3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02" h="21600">
                <a:moveTo>
                  <a:pt x="12802" y="10800"/>
                </a:moveTo>
                <a:lnTo>
                  <a:pt x="23307" y="3794"/>
                </a:lnTo>
                <a:lnTo>
                  <a:pt x="23307" y="17806"/>
                </a:lnTo>
                <a:close/>
              </a:path>
              <a:path fill="darken" w="32602" h="21600">
                <a:moveTo>
                  <a:pt x="9294" y="3794"/>
                </a:moveTo>
                <a:lnTo>
                  <a:pt x="10957" y="3794"/>
                </a:lnTo>
                <a:lnTo>
                  <a:pt x="10957" y="17806"/>
                </a:lnTo>
                <a:lnTo>
                  <a:pt x="92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ShockwaveFlash1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5964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945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5373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感谢各位老师和家长朋友，请多多指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6093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文鼎中特广告体"/>
              </a:rPr>
              <a:t>感谢同学们的合作，请快速整理仪器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文鼎中特广告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272066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44280"/>
            <a:ext cx="853452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已知两只灯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串联的，则在①、②和③三个电表中（电流表或电压表）判断正确的是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. 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电流表，②和③是电压表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. 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③是电压表，②是电流表；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. 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②是电流表，③是电压表；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. ①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③都是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562720" y="3933720"/>
            <a:ext cx="3581280" cy="2514240"/>
            <a:chOff x="5562720" y="3933720"/>
            <a:chExt cx="3581280" cy="2514240"/>
          </a:xfrm>
        </p:grpSpPr>
        <p:sp>
          <p:nvSpPr>
            <p:cNvPr id="134" name=""/>
            <p:cNvSpPr/>
            <p:nvPr/>
          </p:nvSpPr>
          <p:spPr>
            <a:xfrm>
              <a:off x="5562720" y="3933720"/>
              <a:ext cx="3581280" cy="25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rcRect l="4801" t="8740" r="4229" b="6089"/>
            <a:stretch/>
          </p:blipFill>
          <p:spPr>
            <a:xfrm>
              <a:off x="5715000" y="4093560"/>
              <a:ext cx="3276720" cy="219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12812" y="10800"/>
                </a:moveTo>
                <a:lnTo>
                  <a:pt x="23317" y="3794"/>
                </a:lnTo>
                <a:lnTo>
                  <a:pt x="23317" y="17806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10966" y="3794"/>
                </a:lnTo>
                <a:lnTo>
                  <a:pt x="10966" y="17806"/>
                </a:lnTo>
                <a:lnTo>
                  <a:pt x="930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920" y="836640"/>
            <a:ext cx="876312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当接通开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，发现电流表指针偏转，电压表指针不动，则故障可能是（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灯丝断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灯丝断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接线短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32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接线短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0" b="12675"/>
          <a:stretch/>
        </p:blipFill>
        <p:spPr>
          <a:xfrm>
            <a:off x="1981080" y="3213000"/>
            <a:ext cx="3962520" cy="30924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8569440" y="6453360"/>
            <a:ext cx="610920" cy="404640"/>
          </a:xfrm>
          <a:custGeom>
            <a:avLst/>
            <a:gdLst>
              <a:gd name="textAreaLeft" fmla="*/ 25920 w 610920"/>
              <a:gd name="textAreaRight" fmla="*/ 585000 w 610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02" h="21600">
                <a:moveTo>
                  <a:pt x="0" y="0"/>
                </a:moveTo>
                <a:lnTo>
                  <a:pt x="32602" y="0"/>
                </a:lnTo>
                <a:lnTo>
                  <a:pt x="32602" y="21600"/>
                </a:lnTo>
                <a:lnTo>
                  <a:pt x="0" y="21600"/>
                </a:lnTo>
                <a:close/>
              </a:path>
              <a:path fill="lightenLess" w="32602" h="21600">
                <a:moveTo>
                  <a:pt x="0" y="0"/>
                </a:moveTo>
                <a:lnTo>
                  <a:pt x="32602" y="0"/>
                </a:lnTo>
                <a:lnTo>
                  <a:pt x="31202" y="1400"/>
                </a:lnTo>
                <a:lnTo>
                  <a:pt x="1400" y="1400"/>
                </a:lnTo>
                <a:close/>
              </a:path>
              <a:path fill="darken" w="32602" h="21600">
                <a:moveTo>
                  <a:pt x="32602" y="0"/>
                </a:moveTo>
                <a:lnTo>
                  <a:pt x="32602" y="21600"/>
                </a:lnTo>
                <a:lnTo>
                  <a:pt x="31202" y="20200"/>
                </a:lnTo>
                <a:lnTo>
                  <a:pt x="31202" y="1400"/>
                </a:lnTo>
                <a:close/>
              </a:path>
              <a:path fill="darkenLess" w="32602" h="21600">
                <a:moveTo>
                  <a:pt x="3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02" y="20200"/>
                </a:lnTo>
                <a:close/>
              </a:path>
              <a:path fill="lighten" w="3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02" h="21600">
                <a:moveTo>
                  <a:pt x="12802" y="10800"/>
                </a:moveTo>
                <a:lnTo>
                  <a:pt x="23307" y="3794"/>
                </a:lnTo>
                <a:lnTo>
                  <a:pt x="23307" y="17806"/>
                </a:lnTo>
                <a:close/>
              </a:path>
              <a:path fill="darken" w="32602" h="21600">
                <a:moveTo>
                  <a:pt x="9294" y="3794"/>
                </a:moveTo>
                <a:lnTo>
                  <a:pt x="10957" y="3794"/>
                </a:lnTo>
                <a:lnTo>
                  <a:pt x="10957" y="17806"/>
                </a:lnTo>
                <a:lnTo>
                  <a:pt x="92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81080" y="1654200"/>
            <a:ext cx="939636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8012"/>
          <a:stretch/>
        </p:blipFill>
        <p:spPr>
          <a:xfrm>
            <a:off x="0" y="333360"/>
            <a:ext cx="9144000" cy="63086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979640" y="692280"/>
            <a:ext cx="6840360" cy="675360"/>
            <a:chOff x="1979640" y="692280"/>
            <a:chExt cx="6840360" cy="675360"/>
          </a:xfrm>
        </p:grpSpPr>
        <p:sp>
          <p:nvSpPr>
            <p:cNvPr id="47" name=""/>
            <p:cNvSpPr/>
            <p:nvPr/>
          </p:nvSpPr>
          <p:spPr>
            <a:xfrm>
              <a:off x="3058920" y="1123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74920" y="112392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979640" y="692280"/>
              <a:ext cx="6840360" cy="675360"/>
              <a:chOff x="1979640" y="692280"/>
              <a:chExt cx="6840360" cy="675360"/>
            </a:xfrm>
          </p:grpSpPr>
          <p:sp>
            <p:nvSpPr>
              <p:cNvPr id="50" name=""/>
              <p:cNvSpPr/>
              <p:nvPr/>
            </p:nvSpPr>
            <p:spPr>
              <a:xfrm>
                <a:off x="1979640" y="907920"/>
                <a:ext cx="684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电    源                  电压                电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132000" y="692280"/>
                <a:ext cx="10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提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03640" y="692280"/>
                <a:ext cx="10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形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1979640" y="0"/>
            <a:ext cx="6840360" cy="648720"/>
            <a:chOff x="1979640" y="0"/>
            <a:chExt cx="6840360" cy="648720"/>
          </a:xfrm>
        </p:grpSpPr>
        <p:sp>
          <p:nvSpPr>
            <p:cNvPr id="54" name=""/>
            <p:cNvSpPr/>
            <p:nvPr/>
          </p:nvSpPr>
          <p:spPr>
            <a:xfrm>
              <a:off x="3060720" y="404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03640" y="404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979640" y="0"/>
              <a:ext cx="6840360" cy="648720"/>
              <a:chOff x="1979640" y="0"/>
              <a:chExt cx="6840360" cy="648720"/>
            </a:xfrm>
          </p:grpSpPr>
          <p:sp>
            <p:nvSpPr>
              <p:cNvPr id="57" name=""/>
              <p:cNvSpPr/>
              <p:nvPr/>
            </p:nvSpPr>
            <p:spPr>
              <a:xfrm>
                <a:off x="1979640" y="189000"/>
                <a:ext cx="684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抽水机                  水压                水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32000" y="0"/>
                <a:ext cx="10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提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003640" y="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形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219320"/>
            <a:ext cx="899172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电源是提供电压的装置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压是形成电流的原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单位是：伏特 简称伏（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V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常用单位千伏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kV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，毫伏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mV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80880"/>
            <a:ext cx="41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电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33360"/>
            <a:ext cx="50508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4149720"/>
            <a:ext cx="3673800" cy="18003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66"/>
                </a:solidFill>
                <a:latin typeface="黑体"/>
                <a:ea typeface="黑体"/>
              </a:rPr>
              <a:t>1 kV = 10</a:t>
            </a:r>
            <a:r>
              <a:rPr b="1" lang="en-US" sz="4400" spc="-1" strike="noStrike" baseline="30000">
                <a:solidFill>
                  <a:srgbClr val="ccff66"/>
                </a:solidFill>
                <a:latin typeface="黑体"/>
                <a:ea typeface="黑体"/>
              </a:rPr>
              <a:t>3 </a:t>
            </a:r>
            <a:r>
              <a:rPr b="1" lang="en-US" sz="4400" spc="-1" strike="noStrike">
                <a:solidFill>
                  <a:srgbClr val="ccff66"/>
                </a:solidFill>
                <a:latin typeface="黑体"/>
                <a:ea typeface="黑体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66"/>
                </a:solidFill>
                <a:latin typeface="黑体"/>
                <a:ea typeface="黑体"/>
              </a:rPr>
              <a:t>1 mV = 10</a:t>
            </a:r>
            <a:r>
              <a:rPr b="1" lang="en-US" sz="4400" spc="-1" strike="noStrike" baseline="30000">
                <a:solidFill>
                  <a:srgbClr val="ccff66"/>
                </a:solidFill>
                <a:latin typeface="黑体"/>
                <a:ea typeface="黑体"/>
              </a:rPr>
              <a:t>-3 </a:t>
            </a:r>
            <a:r>
              <a:rPr b="1" lang="en-US" sz="4400" spc="-1" strike="noStrike">
                <a:solidFill>
                  <a:srgbClr val="ccff66"/>
                </a:solidFill>
                <a:latin typeface="黑体"/>
                <a:ea typeface="黑体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75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75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84360" y="40464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比一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,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赛一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184464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256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kV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781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220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mV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37162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2.8×10</a:t>
            </a:r>
            <a:r>
              <a:rPr b="1" lang="zh-CN" sz="4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μV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m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185112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2.56×10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278136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0.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371628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95008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1219320"/>
            <a:ext cx="899172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电源提供电压的装置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压是形成电流的原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单位是：伏特 简称伏（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V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常用单位千伏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kV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，毫伏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mV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节干电池电压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.5V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家庭电路的电压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20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节蓄电池电压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V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人体安全电压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不高于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6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80880"/>
            <a:ext cx="41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、电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333360"/>
            <a:ext cx="50508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89240" y="101520"/>
            <a:ext cx="3789360" cy="6567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6041880" cy="6907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48360" y="-33480"/>
            <a:ext cx="3132000" cy="284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电鳐的模样很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扁平身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头和胸连在一起，浑身光滑无鳞，电鳐凭着自己的“电武器”，能随意放电，在海洋里几乎是无敌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能产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伏特以上的电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如果不小心踩着海底的电鳐时，它放出的电足够将一个成年人电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69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3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3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3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380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电压的测量——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5688000" cy="5662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95640" y="4941720"/>
            <a:ext cx="288720" cy="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305600">
            <a:off x="313128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36800">
            <a:off x="4140000" y="5300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电压的测量——电压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155736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构  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量  程：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-3V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-15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分度值：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.1V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；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0.5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1152720" cy="113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2:18:13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4Z</dcterms:modified>
  <cp:revision>1</cp:revision>
  <dc:subject>恒谦教育网(www.hengqian.com)</dc:subject>
  <dc:title>恒谦教育网(www.hengqian.com)</dc:title>
</cp:coreProperties>
</file>