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18E-0F74-4712-9882-31B4EEFB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B6CD-1821-41A8-A489-50BCAC8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72A-9782-4500-87D5-1EBEF472D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C61E-8E5F-485E-B9E7-3BB6698E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2FC3-9886-4DBD-976C-E82FD809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244C-091A-4990-812B-9090E327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A0A7-1538-420C-ADDC-C05F0B9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BA27-84A8-4E3F-A4A4-3D44D841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FB09-8F2B-4AB2-B8C9-42649A0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776E-E426-4684-BF37-BCE28DEC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DCE4-D898-49C2-99CA-921400F9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ADE8-31C2-45E9-9DE1-B5412353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0E3D-A906-4BDE-BB62-61FBBEB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996-B535-4D73-9108-989094EF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DAF2-9A32-436A-BFD5-D7712C7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AE36-A7F8-413C-9BA0-D8B24777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5BA20-520D-4264-A427-C6AB4D76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69D4D-7D30-4000-8BF3-A14F121F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C4BC-BA3E-4AD9-8EAA-10E6074F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0D04-2C9A-4F89-8E9C-F799E7D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DA10-5570-4D4B-9133-7A38FD36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E14F-3452-46F5-8736-03DD35C9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72B-AD43-4992-9FF8-E2A9AE49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D973D-0487-41C8-A975-74761C6C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0DBD-8747-40AD-BF03-EAD9F41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5BDD-AD7D-4278-9FC9-DB111A6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1F2F-650E-4984-B643-FDA87192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221B-0A71-49B9-BEEF-3A334163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1601-818F-466C-849F-79AB0C41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77552-544D-41D4-B1EB-2371F1E3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9A38B-F526-4C36-90AB-C6F3A0EB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B37C-2251-47D7-A0FC-9EC9E121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9CDC3-FC96-4E0C-99FE-EECB9AAB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50D-1EA4-42CB-B30B-EA1E6C44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CE179-26CA-4841-8303-1D043955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F8D3-799E-4715-A9B6-8CC545CB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44719-5EF8-4B7D-9A1D-1B959629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63CC-5658-414B-9A4A-BC00E6A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83823-61CD-4092-8EAB-4247B2A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8CF20-1484-4E84-A2D4-ADA48ADC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34C45-A107-4AA4-8152-2B55E781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BF993-D181-4B33-833D-A50E12EE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8112-752F-407C-885C-1A3DF6B4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4D7A-D548-4427-B01B-90AD8EB3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FED-3FB0-4DE4-9015-FEDE2C9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9C4D-6E8E-49FE-9EEC-1EEE39FB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DD1F-C8BC-4661-83A7-8B25266B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104C-7DBC-46AD-9C9C-CE26D5EF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3558F-9CF2-416F-B50A-C60A443D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9DC8-245D-4F52-95E7-CE0A125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EE8D-1DB8-43F8-93E3-13F9FF01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4D859-9C8A-431D-A9B8-B109347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AF62-548B-4B92-8CE1-96132F50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534CF-591B-46C4-948C-88ABB391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E5D5-707A-4D22-8040-1829335E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875-833C-4261-957D-DBC4AE4B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8091-03BF-451F-BBC4-A1E09CA3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6FAF-846C-4E9A-8604-517E586E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21561-0E43-4496-87AA-7797BCF8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8E1CA-5B9B-4421-9806-1EBC8E66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95596-FBA9-44F8-9B55-FA6E3BAD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C7C44-C4BF-4063-8A74-AC869252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ED94-27B6-4605-91AA-AB38BFF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C057E-E333-4BCB-B0BE-9B0E9076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1BC0F-FD66-45FF-9792-670BF20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311A-A482-4AAA-89D1-9A396C06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536F-99F3-4903-AAB9-BD80C9E6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E460E-F434-4493-87CD-7DA38DEC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FE9F-1F56-4C90-AEBA-AB878169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B1FC-05A7-4CAA-8BD9-170CD643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B568-D974-41DF-B075-F664086F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9066B-AA6E-4FBC-88F1-01000F1D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E63C-48FD-4E84-8287-942C2D94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A4727-46FB-4F6D-A43E-AB25095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A71AF-6D73-49FF-BC86-30E8D86A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7D528-70C3-4448-9B21-BC6F4D11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AC65C-9009-4979-8FE6-642FA537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4FB-FCC4-425F-8F16-7D922BDD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B7148-5EBF-4C1F-939E-B200BA7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4424-A2A1-4D06-8C1B-EE05C32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6821C-7988-4131-8AAC-3EF5E0C2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FB17-97D3-47F0-B4DA-7F09EA79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4A4E7-D14C-49E7-AAE5-16888BFB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5F9-8D8F-49B6-A865-D29C120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1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组合 1029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5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" name=""/>
            <p:cNvGrpSpPr/>
            <p:nvPr/>
          </p:nvGrpSpPr>
          <p:grpSpPr>
            <a:xfrm>
              <a:off x="1440" y="4363920"/>
              <a:ext cx="9140760" cy="360"/>
              <a:chOff x="1440" y="4363920"/>
              <a:chExt cx="9140760" cy="360"/>
            </a:xfrm>
          </p:grpSpPr>
          <p:sp>
            <p:nvSpPr>
              <p:cNvPr id="27" name="直接连接符 1051"/>
              <p:cNvSpPr/>
              <p:nvPr/>
            </p:nvSpPr>
            <p:spPr>
              <a:xfrm>
                <a:off x="144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 txBox="1"/>
              <p:nvPr/>
            </p:nvSpPr>
            <p:spPr>
              <a:xfrm>
                <a:off x="144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1440" y="3740040"/>
              <a:ext cx="9140760" cy="360"/>
              <a:chOff x="1440" y="3740040"/>
              <a:chExt cx="9140760" cy="360"/>
            </a:xfrm>
          </p:grpSpPr>
          <p:sp>
            <p:nvSpPr>
              <p:cNvPr id="30" name="直接连接符 1052"/>
              <p:cNvSpPr/>
              <p:nvPr/>
            </p:nvSpPr>
            <p:spPr>
              <a:xfrm>
                <a:off x="144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 txBox="1"/>
              <p:nvPr/>
            </p:nvSpPr>
            <p:spPr>
              <a:xfrm>
                <a:off x="144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1440" y="4987800"/>
              <a:ext cx="9140760" cy="360"/>
              <a:chOff x="1440" y="4987800"/>
              <a:chExt cx="9140760" cy="360"/>
            </a:xfrm>
          </p:grpSpPr>
          <p:sp>
            <p:nvSpPr>
              <p:cNvPr id="33" name="直接连接符 1053"/>
              <p:cNvSpPr/>
              <p:nvPr/>
            </p:nvSpPr>
            <p:spPr>
              <a:xfrm>
                <a:off x="144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 txBox="1"/>
              <p:nvPr/>
            </p:nvSpPr>
            <p:spPr>
              <a:xfrm>
                <a:off x="144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" name="组合 1054"/>
            <p:cNvGrpSpPr/>
            <p:nvPr/>
          </p:nvGrpSpPr>
          <p:grpSpPr>
            <a:xfrm>
              <a:off x="1440" y="622440"/>
              <a:ext cx="9140760" cy="2494080"/>
              <a:chOff x="1440" y="622440"/>
              <a:chExt cx="9140760" cy="2494080"/>
            </a:xfrm>
          </p:grpSpPr>
          <p:grpSp>
            <p:nvGrpSpPr>
              <p:cNvPr id="36" name=""/>
              <p:cNvGrpSpPr/>
              <p:nvPr/>
            </p:nvGrpSpPr>
            <p:grpSpPr>
              <a:xfrm>
                <a:off x="1440" y="1244520"/>
                <a:ext cx="9140760" cy="360"/>
                <a:chOff x="1440" y="1244520"/>
                <a:chExt cx="9140760" cy="360"/>
              </a:xfrm>
            </p:grpSpPr>
            <p:sp>
              <p:nvSpPr>
                <p:cNvPr id="37" name="直接连接符 1055"/>
                <p:cNvSpPr/>
                <p:nvPr/>
              </p:nvSpPr>
              <p:spPr>
                <a:xfrm>
                  <a:off x="144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 txBox="1"/>
                <p:nvPr/>
              </p:nvSpPr>
              <p:spPr>
                <a:xfrm>
                  <a:off x="144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1440" y="3116160"/>
                <a:ext cx="9140760" cy="360"/>
                <a:chOff x="1440" y="3116160"/>
                <a:chExt cx="9140760" cy="360"/>
              </a:xfrm>
            </p:grpSpPr>
            <p:sp>
              <p:nvSpPr>
                <p:cNvPr id="40" name="直接连接符 1056"/>
                <p:cNvSpPr/>
                <p:nvPr/>
              </p:nvSpPr>
              <p:spPr>
                <a:xfrm>
                  <a:off x="144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 txBox="1"/>
                <p:nvPr/>
              </p:nvSpPr>
              <p:spPr>
                <a:xfrm>
                  <a:off x="144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1440" y="2492280"/>
                <a:ext cx="9140760" cy="360"/>
                <a:chOff x="1440" y="2492280"/>
                <a:chExt cx="9140760" cy="360"/>
              </a:xfrm>
            </p:grpSpPr>
            <p:sp>
              <p:nvSpPr>
                <p:cNvPr id="43" name="直接连接符 1057"/>
                <p:cNvSpPr/>
                <p:nvPr/>
              </p:nvSpPr>
              <p:spPr>
                <a:xfrm>
                  <a:off x="144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 txBox="1"/>
                <p:nvPr/>
              </p:nvSpPr>
              <p:spPr>
                <a:xfrm>
                  <a:off x="144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1440" y="1868400"/>
                <a:ext cx="9140760" cy="360"/>
                <a:chOff x="1440" y="1868400"/>
                <a:chExt cx="9140760" cy="360"/>
              </a:xfrm>
            </p:grpSpPr>
            <p:sp>
              <p:nvSpPr>
                <p:cNvPr id="46" name="直接连接符 1058"/>
                <p:cNvSpPr/>
                <p:nvPr/>
              </p:nvSpPr>
              <p:spPr>
                <a:xfrm>
                  <a:off x="144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 txBox="1"/>
                <p:nvPr/>
              </p:nvSpPr>
              <p:spPr>
                <a:xfrm>
                  <a:off x="144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1440" y="622440"/>
                <a:ext cx="9140760" cy="360"/>
                <a:chOff x="1440" y="622440"/>
                <a:chExt cx="9140760" cy="360"/>
              </a:xfrm>
            </p:grpSpPr>
            <p:sp>
              <p:nvSpPr>
                <p:cNvPr id="49" name="直接连接符 1059"/>
                <p:cNvSpPr/>
                <p:nvPr/>
              </p:nvSpPr>
              <p:spPr>
                <a:xfrm>
                  <a:off x="144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 txBox="1"/>
                <p:nvPr/>
              </p:nvSpPr>
              <p:spPr>
                <a:xfrm>
                  <a:off x="144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" name=""/>
            <p:cNvGrpSpPr/>
            <p:nvPr/>
          </p:nvGrpSpPr>
          <p:grpSpPr>
            <a:xfrm>
              <a:off x="1440" y="6235560"/>
              <a:ext cx="9140760" cy="360"/>
              <a:chOff x="1440" y="6235560"/>
              <a:chExt cx="9140760" cy="360"/>
            </a:xfrm>
          </p:grpSpPr>
          <p:sp>
            <p:nvSpPr>
              <p:cNvPr id="52" name="直接连接符 1060"/>
              <p:cNvSpPr/>
              <p:nvPr/>
            </p:nvSpPr>
            <p:spPr>
              <a:xfrm>
                <a:off x="144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144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440" y="5611680"/>
              <a:ext cx="9140760" cy="360"/>
              <a:chOff x="1440" y="5611680"/>
              <a:chExt cx="9140760" cy="360"/>
            </a:xfrm>
          </p:grpSpPr>
          <p:sp>
            <p:nvSpPr>
              <p:cNvPr id="55" name="直接连接符 1061"/>
              <p:cNvSpPr/>
              <p:nvPr/>
            </p:nvSpPr>
            <p:spPr>
              <a:xfrm>
                <a:off x="144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144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48C-7A92-461E-B838-22A123D7C41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073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矩形 3074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矩形 3075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矩形 3076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3077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矩形 3078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矩形 3079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C386-F7AE-4FF0-850F-C85E92AC5D37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512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512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矩形 512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512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矩形 512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矩形 512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矩形 512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B128-D8C9-4738-9DDF-C78B9FC9B8CF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049"/>
          <p:cNvGrpSpPr/>
          <p:nvPr/>
        </p:nvGrpSpPr>
        <p:grpSpPr>
          <a:xfrm>
            <a:off x="0" y="0"/>
            <a:ext cx="9148680" cy="6851520"/>
            <a:chOff x="0" y="0"/>
            <a:chExt cx="9148680" cy="6851520"/>
          </a:xfrm>
        </p:grpSpPr>
        <p:sp>
          <p:nvSpPr>
            <p:cNvPr id="195" name="未知"/>
            <p:cNvSpPr/>
            <p:nvPr/>
          </p:nvSpPr>
          <p:spPr>
            <a:xfrm>
              <a:off x="800748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5485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901548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组合 2053"/>
            <p:cNvGrpSpPr/>
            <p:nvPr/>
          </p:nvGrpSpPr>
          <p:grpSpPr>
            <a:xfrm>
              <a:off x="455760" y="0"/>
              <a:ext cx="8092440" cy="6851520"/>
              <a:chOff x="455760" y="0"/>
              <a:chExt cx="8092440" cy="6851520"/>
            </a:xfrm>
          </p:grpSpPr>
          <p:sp>
            <p:nvSpPr>
              <p:cNvPr id="199" name="未知"/>
              <p:cNvSpPr/>
              <p:nvPr/>
            </p:nvSpPr>
            <p:spPr>
              <a:xfrm>
                <a:off x="442584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490212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532908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583380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626256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673884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717696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380664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>
                <a:off x="312084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>
                <a:off x="248436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178884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111276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45576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未知"/>
            <p:cNvSpPr/>
            <p:nvPr/>
          </p:nvSpPr>
          <p:spPr>
            <a:xfrm>
              <a:off x="792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92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58016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00100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849456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792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92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792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221" name="直接连接符 2075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224" name="直接连接符 2076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227" name="直接连接符 2077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9" name="组合 2078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231" name="直接连接符 2079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234" name="直接连接符 2080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237" name="直接连接符 2081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240" name="直接连接符 2082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243" name="直接连接符 2083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246" name="直接连接符 2084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249" name="直接连接符 2085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404-B410-4B77-912C-B2EB25657842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1025"/>
          <p:cNvGrpSpPr/>
          <p:nvPr/>
        </p:nvGrpSpPr>
        <p:grpSpPr>
          <a:xfrm>
            <a:off x="1440" y="0"/>
            <a:ext cx="9148680" cy="6851520"/>
            <a:chOff x="1440" y="0"/>
            <a:chExt cx="9148680" cy="6851520"/>
          </a:xfrm>
        </p:grpSpPr>
        <p:sp>
          <p:nvSpPr>
            <p:cNvPr id="293" name="未知"/>
            <p:cNvSpPr/>
            <p:nvPr/>
          </p:nvSpPr>
          <p:spPr>
            <a:xfrm>
              <a:off x="80089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855000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90169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组合 1029"/>
            <p:cNvGrpSpPr/>
            <p:nvPr/>
          </p:nvGrpSpPr>
          <p:grpSpPr>
            <a:xfrm>
              <a:off x="457200" y="0"/>
              <a:ext cx="8092440" cy="6851520"/>
              <a:chOff x="457200" y="0"/>
              <a:chExt cx="8092440" cy="6851520"/>
            </a:xfrm>
          </p:grpSpPr>
          <p:sp>
            <p:nvSpPr>
              <p:cNvPr id="297" name="未知"/>
              <p:cNvSpPr/>
              <p:nvPr/>
            </p:nvSpPr>
            <p:spPr>
              <a:xfrm>
                <a:off x="44272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>
                <a:off x="49035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53305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>
                <a:off x="58352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>
                <a:off x="62640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>
                <a:off x="67402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>
                <a:off x="71784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>
                <a:off x="38080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31222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24858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17902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11142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4572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未知"/>
            <p:cNvSpPr/>
            <p:nvPr/>
          </p:nvSpPr>
          <p:spPr>
            <a:xfrm>
              <a:off x="93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93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7581600" y="0"/>
              <a:ext cx="156240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8496000" y="0"/>
              <a:ext cx="64800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440" y="4363920"/>
              <a:ext cx="9140760" cy="360"/>
              <a:chOff x="1440" y="4363920"/>
              <a:chExt cx="9140760" cy="360"/>
            </a:xfrm>
          </p:grpSpPr>
          <p:sp>
            <p:nvSpPr>
              <p:cNvPr id="319" name="直接连接符 1051"/>
              <p:cNvSpPr/>
              <p:nvPr/>
            </p:nvSpPr>
            <p:spPr>
              <a:xfrm>
                <a:off x="144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144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1440" y="3740040"/>
              <a:ext cx="9140760" cy="360"/>
              <a:chOff x="1440" y="3740040"/>
              <a:chExt cx="9140760" cy="360"/>
            </a:xfrm>
          </p:grpSpPr>
          <p:sp>
            <p:nvSpPr>
              <p:cNvPr id="322" name="直接连接符 1052"/>
              <p:cNvSpPr/>
              <p:nvPr/>
            </p:nvSpPr>
            <p:spPr>
              <a:xfrm>
                <a:off x="144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144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440" y="4987800"/>
              <a:ext cx="9140760" cy="360"/>
              <a:chOff x="1440" y="4987800"/>
              <a:chExt cx="9140760" cy="360"/>
            </a:xfrm>
          </p:grpSpPr>
          <p:sp>
            <p:nvSpPr>
              <p:cNvPr id="325" name="直接连接符 1053"/>
              <p:cNvSpPr/>
              <p:nvPr/>
            </p:nvSpPr>
            <p:spPr>
              <a:xfrm>
                <a:off x="144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144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组合 1054"/>
            <p:cNvGrpSpPr/>
            <p:nvPr/>
          </p:nvGrpSpPr>
          <p:grpSpPr>
            <a:xfrm>
              <a:off x="1440" y="622440"/>
              <a:ext cx="9140760" cy="2494080"/>
              <a:chOff x="1440" y="622440"/>
              <a:chExt cx="9140760" cy="249408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1440" y="1244520"/>
                <a:ext cx="9140760" cy="360"/>
                <a:chOff x="1440" y="1244520"/>
                <a:chExt cx="9140760" cy="360"/>
              </a:xfrm>
            </p:grpSpPr>
            <p:sp>
              <p:nvSpPr>
                <p:cNvPr id="329" name="直接连接符 1055"/>
                <p:cNvSpPr/>
                <p:nvPr/>
              </p:nvSpPr>
              <p:spPr>
                <a:xfrm>
                  <a:off x="144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>
                  <a:off x="144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440" y="3116160"/>
                <a:ext cx="9140760" cy="360"/>
                <a:chOff x="1440" y="3116160"/>
                <a:chExt cx="9140760" cy="360"/>
              </a:xfrm>
            </p:grpSpPr>
            <p:sp>
              <p:nvSpPr>
                <p:cNvPr id="332" name="直接连接符 1056"/>
                <p:cNvSpPr/>
                <p:nvPr/>
              </p:nvSpPr>
              <p:spPr>
                <a:xfrm>
                  <a:off x="144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144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440" y="2492280"/>
                <a:ext cx="9140760" cy="360"/>
                <a:chOff x="1440" y="2492280"/>
                <a:chExt cx="9140760" cy="360"/>
              </a:xfrm>
            </p:grpSpPr>
            <p:sp>
              <p:nvSpPr>
                <p:cNvPr id="335" name="直接连接符 1057"/>
                <p:cNvSpPr/>
                <p:nvPr/>
              </p:nvSpPr>
              <p:spPr>
                <a:xfrm>
                  <a:off x="144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 txBox="1"/>
                <p:nvPr/>
              </p:nvSpPr>
              <p:spPr>
                <a:xfrm>
                  <a:off x="144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440" y="1868400"/>
                <a:ext cx="9140760" cy="360"/>
                <a:chOff x="1440" y="1868400"/>
                <a:chExt cx="9140760" cy="360"/>
              </a:xfrm>
            </p:grpSpPr>
            <p:sp>
              <p:nvSpPr>
                <p:cNvPr id="338" name="直接连接符 1058"/>
                <p:cNvSpPr/>
                <p:nvPr/>
              </p:nvSpPr>
              <p:spPr>
                <a:xfrm>
                  <a:off x="144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 txBox="1"/>
                <p:nvPr/>
              </p:nvSpPr>
              <p:spPr>
                <a:xfrm>
                  <a:off x="144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440" y="622440"/>
                <a:ext cx="9140760" cy="360"/>
                <a:chOff x="1440" y="622440"/>
                <a:chExt cx="9140760" cy="360"/>
              </a:xfrm>
            </p:grpSpPr>
            <p:sp>
              <p:nvSpPr>
                <p:cNvPr id="341" name="直接连接符 1059"/>
                <p:cNvSpPr/>
                <p:nvPr/>
              </p:nvSpPr>
              <p:spPr>
                <a:xfrm>
                  <a:off x="144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 txBox="1"/>
                <p:nvPr/>
              </p:nvSpPr>
              <p:spPr>
                <a:xfrm>
                  <a:off x="144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"/>
            <p:cNvGrpSpPr/>
            <p:nvPr/>
          </p:nvGrpSpPr>
          <p:grpSpPr>
            <a:xfrm>
              <a:off x="1440" y="6235560"/>
              <a:ext cx="9140760" cy="360"/>
              <a:chOff x="1440" y="6235560"/>
              <a:chExt cx="9140760" cy="360"/>
            </a:xfrm>
          </p:grpSpPr>
          <p:sp>
            <p:nvSpPr>
              <p:cNvPr id="344" name="直接连接符 1060"/>
              <p:cNvSpPr/>
              <p:nvPr/>
            </p:nvSpPr>
            <p:spPr>
              <a:xfrm>
                <a:off x="144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 txBox="1"/>
              <p:nvPr/>
            </p:nvSpPr>
            <p:spPr>
              <a:xfrm>
                <a:off x="144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1440" y="5611680"/>
              <a:ext cx="9140760" cy="360"/>
              <a:chOff x="1440" y="5611680"/>
              <a:chExt cx="9140760" cy="360"/>
            </a:xfrm>
          </p:grpSpPr>
          <p:sp>
            <p:nvSpPr>
              <p:cNvPr id="347" name="直接连接符 1061"/>
              <p:cNvSpPr/>
              <p:nvPr/>
            </p:nvSpPr>
            <p:spPr>
              <a:xfrm>
                <a:off x="144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144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9" name="图片 4" descr="物理"/>
          <p:cNvPicPr/>
          <p:nvPr/>
        </p:nvPicPr>
        <p:blipFill>
          <a:blip r:embed="rId2"/>
          <a:stretch/>
        </p:blipFill>
        <p:spPr>
          <a:xfrm>
            <a:off x="10800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5" descr="物理"/>
          <p:cNvPicPr/>
          <p:nvPr/>
        </p:nvPicPr>
        <p:blipFill>
          <a:blip r:embed="rId3"/>
          <a:stretch/>
        </p:blipFill>
        <p:spPr>
          <a:xfrm>
            <a:off x="6877080" y="5518080"/>
            <a:ext cx="2200320" cy="638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21A-F4DC-4C50-9DBF-ABEA531D54E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组合 4097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93" name="组合 4098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94" name="矩形 4099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矩形 4100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4101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97" name="矩形 4102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矩形 4103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9" name="矩形 4104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矩形 4105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矩形 4106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B5D1-8352-40CD-AAC8-4210ACDB357F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组合 6145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4" name="组合 6146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445" name="矩形 6147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矩形 6148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7" name="组合 6149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448" name="矩形 6150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矩形 6151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矩形 6152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矩形 6153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矩形 6154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1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FAEB-8C1F-425E-9381-12110371E30D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../../&#21021;&#20013;&#29289;&#29702;&#35838;&#22530;&#25945;&#23398;&#35270;&#39057;&#36164;&#26009;&#24211;/&#33258;&#28982;&#31185;&#25216;&#32032;&#26448;2/&#38738;&#34255;&#39640;&#21407;.mp3" TargetMode="External"/><Relationship Id="rId3" Type="http://schemas.openxmlformats.org/officeDocument/2006/relationships/hyperlink" Target="../../&#21021;&#20013;&#29289;&#29702;&#35838;&#22530;&#25945;&#23398;&#35270;&#39057;&#36164;&#26009;&#24211;/&#33258;&#28982;&#31185;&#25216;&#32032;&#26448;2/&#38738;&#34255;&#39640;&#21407;.mp3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8193"/>
          <p:cNvSpPr/>
          <p:nvPr/>
        </p:nvSpPr>
        <p:spPr>
          <a:xfrm>
            <a:off x="1260360" y="2133720"/>
            <a:ext cx="662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姚体"/>
              </a:rPr>
              <a:t>声音的特性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文本框 8194"/>
          <p:cNvSpPr/>
          <p:nvPr/>
        </p:nvSpPr>
        <p:spPr>
          <a:xfrm>
            <a:off x="6522840" y="5734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关庙中学：严增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20088137563821.wma" descr="20088137563821"/>
          <p:cNvPicPr/>
          <p:nvPr/>
        </p:nvPicPr>
        <p:blipFill>
          <a:blip r:embed="rId1"/>
          <a:stretch/>
        </p:blipFill>
        <p:spPr>
          <a:xfrm>
            <a:off x="-96984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mediacall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cmd type="call" cmd="playFrom(0.0)">
                                      <p:cBhvr>
                                        <p:cTn id="12" dur="193142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活动：探究音调与声源振动的什么性质有关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9640" y="2206800"/>
            <a:ext cx="38880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理学中，用音调表示声音的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尖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粗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音调与声源振动的什么性质有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卡片拨梳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发出的声音有什么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7640" y="2349360"/>
            <a:ext cx="3809880" cy="619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：用卡片拨梳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图片 17412" descr="卡片拨梳齿"/>
          <p:cNvPicPr/>
          <p:nvPr/>
        </p:nvPicPr>
        <p:blipFill>
          <a:blip r:embed="rId2"/>
          <a:stretch/>
        </p:blipFill>
        <p:spPr>
          <a:xfrm>
            <a:off x="4643280" y="3213000"/>
            <a:ext cx="4105440" cy="27892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" descr="物理"/>
          <p:cNvPicPr/>
          <p:nvPr/>
        </p:nvPicPr>
        <p:blipFill>
          <a:blip r:embed="rId3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2" descr="物理"/>
          <p:cNvPicPr/>
          <p:nvPr/>
        </p:nvPicPr>
        <p:blipFill>
          <a:blip r:embed="rId4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音调与声源振动的频率有关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9280" y="2420640"/>
            <a:ext cx="80773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声源每秒钟振动的次数——频率，用赫兹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做单位，例如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频率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这表示声源每秒钟振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；莫人的心跳每分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合每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其频率就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2Hz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音调的高低与振动的频率有关，频率越大，音调越高。频率越低，音调越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5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1-视频-2吸管哨子发声.mpg" descr="1-视频-2吸管哨子发声"/>
          <p:cNvPicPr/>
          <p:nvPr/>
        </p:nvPicPr>
        <p:blipFill>
          <a:blip r:embed="rId1"/>
          <a:stretch/>
        </p:blipFill>
        <p:spPr>
          <a:xfrm>
            <a:off x="108000" y="1701720"/>
            <a:ext cx="4397400" cy="417528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8" name="1-视频-14决定声音高低的因素.MPG" descr="1-视频-14决定声音高低的因素"/>
          <p:cNvPicPr/>
          <p:nvPr/>
        </p:nvPicPr>
        <p:blipFill>
          <a:blip r:embed="rId2"/>
          <a:stretch/>
        </p:blipFill>
        <p:spPr>
          <a:xfrm>
            <a:off x="4645080" y="1701720"/>
            <a:ext cx="4309920" cy="4176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" descr="物理"/>
          <p:cNvPicPr/>
          <p:nvPr/>
        </p:nvPicPr>
        <p:blipFill>
          <a:blip r:embed="rId3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2" descr="物理"/>
          <p:cNvPicPr/>
          <p:nvPr/>
        </p:nvPicPr>
        <p:blipFill>
          <a:blip r:embed="rId4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6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2" name="1-视频-13决定声音高低的因素.mpg" descr="1-视频-13决定声音高低的因素"/>
          <p:cNvPicPr/>
          <p:nvPr/>
        </p:nvPicPr>
        <p:blipFill>
          <a:blip r:embed="rId1"/>
          <a:stretch/>
        </p:blipFill>
        <p:spPr>
          <a:xfrm>
            <a:off x="1187280" y="1484280"/>
            <a:ext cx="6193080" cy="506880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7" dur="1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决定音调高低的因素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1-视频-15改变琴弦的音调.mpg" descr="1-视频-15改变琴弦的音调"/>
          <p:cNvPicPr/>
          <p:nvPr/>
        </p:nvPicPr>
        <p:blipFill>
          <a:blip r:embed="rId1"/>
          <a:stretch/>
        </p:blipFill>
        <p:spPr>
          <a:xfrm>
            <a:off x="1260360" y="1197000"/>
            <a:ext cx="6623280" cy="542304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58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66560" y="1123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弦振动产生声音的音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弦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粗、松、长度越长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产生的音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弦越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细、紧、长度越短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产生的音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文本框 22530"/>
          <p:cNvSpPr/>
          <p:nvPr/>
        </p:nvSpPr>
        <p:spPr>
          <a:xfrm>
            <a:off x="539640" y="4437000"/>
            <a:ext cx="7464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空气振动产生声音（笛子）的音调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空气柱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长度越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音调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</a:rPr>
              <a:t>越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64" name="古筝.mpg" descr="古筝"/>
          <p:cNvPicPr/>
          <p:nvPr/>
        </p:nvPicPr>
        <p:blipFill>
          <a:blip r:embed="rId1"/>
          <a:stretch/>
        </p:blipFill>
        <p:spPr>
          <a:xfrm>
            <a:off x="684360" y="404640"/>
            <a:ext cx="7993080" cy="599760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9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通常情况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22960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歌唱声的频率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男低音）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50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女高音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男子说话声的频率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90-14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而女子说话声的频率为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70-550Hz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所以女子说话声的音调比男子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将刻度尺的一端紧压在桌面上，另一端伸出桌面，拨动刻度尺使它，你能听到声音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改变用力的大小，声音有什么变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改变刻度尺伸出桌面的长度后，用力大小不变，刻度尺的振动频率有什么变化？音调有什么变化 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开大收音机的音量旋钮是为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增大声音的响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提高声音的音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减小声音的音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减小噪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文本框 26626"/>
          <p:cNvSpPr/>
          <p:nvPr/>
        </p:nvSpPr>
        <p:spPr>
          <a:xfrm>
            <a:off x="250920" y="34290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低音歌手独唱时由女高音歌手轻声伴唱，下面对二人声音的描述正确的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A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低、响度小；“女声”音调高、响度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高、响度大；“女声”音调低、响度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高、响度小；“女声”音调低、响度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.“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男声”音调低、响度大；“女声”音调高、响度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700360" y="764640"/>
            <a:ext cx="5616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交响乐黄河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8" name="交响乐黄河颂.mpg" descr="交响乐黄河颂"/>
          <p:cNvPicPr/>
          <p:nvPr/>
        </p:nvPicPr>
        <p:blipFill>
          <a:blip r:embed="rId1"/>
          <a:stretch/>
        </p:blipFill>
        <p:spPr>
          <a:xfrm>
            <a:off x="2484360" y="1555920"/>
            <a:ext cx="6237360" cy="467964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9219"/>
          <p:cNvSpPr/>
          <p:nvPr/>
        </p:nvSpPr>
        <p:spPr>
          <a:xfrm>
            <a:off x="179280" y="2133720"/>
            <a:ext cx="230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听到了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你能否描述你所听到的声音的特点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我们</a:t>
            </a:r>
            <a:r>
              <a:rPr b="0" lang="zh-CN" sz="5400" spc="-1" strike="noStrike">
                <a:solidFill>
                  <a:srgbClr val="ccecff"/>
                </a:solidFill>
                <a:latin typeface="隶书"/>
                <a:ea typeface="隶书"/>
              </a:rPr>
              <a:t>的</a:t>
            </a:r>
            <a:r>
              <a:rPr b="0" lang="zh-CN" sz="5400" spc="-1" strike="noStrike">
                <a:solidFill>
                  <a:srgbClr val="ffffff"/>
                </a:solidFill>
                <a:latin typeface="隶书"/>
                <a:ea typeface="隶书"/>
              </a:rPr>
              <a:t>感受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我们听到的声音可以说是千差万别的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小号声嘹亮挺拔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小提琴声柔和纤细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大提琴声稳重舒展</a:t>
            </a:r>
            <a:r>
              <a:rPr b="0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它们有强有弱，有高有低，有的浑厚，有的清脆。听了这些音乐，我们会沉浸在美的享受之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矩形 10243"/>
          <p:cNvSpPr/>
          <p:nvPr/>
        </p:nvSpPr>
        <p:spPr>
          <a:xfrm>
            <a:off x="252360" y="5734080"/>
            <a:ext cx="84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那么，哪些是乐音或声音的基本特性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06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理学中，用响度来描述声音的大小（强弱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响度与什么因素有关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文本框 11266"/>
          <p:cNvSpPr/>
          <p:nvPr/>
        </p:nvSpPr>
        <p:spPr>
          <a:xfrm>
            <a:off x="2829240" y="836640"/>
            <a:ext cx="178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声音的第一个特性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响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212720" y="1197000"/>
            <a:ext cx="418788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怎样使鼓声更响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2" name="怎样使鼓声更响.mpg" descr="怎样使鼓声更响"/>
          <p:cNvPicPr/>
          <p:nvPr/>
        </p:nvPicPr>
        <p:blipFill>
          <a:blip r:embed="rId1"/>
          <a:stretch/>
        </p:blipFill>
        <p:spPr>
          <a:xfrm>
            <a:off x="4068720" y="2133720"/>
            <a:ext cx="4700520" cy="3959280"/>
          </a:xfrm>
          <a:prstGeom prst="rect">
            <a:avLst/>
          </a:prstGeom>
          <a:ln w="0">
            <a:noFill/>
          </a:ln>
        </p:spPr>
      </p:pic>
      <p:sp>
        <p:nvSpPr>
          <p:cNvPr id="513" name="文本框 12291"/>
          <p:cNvSpPr/>
          <p:nvPr/>
        </p:nvSpPr>
        <p:spPr>
          <a:xfrm>
            <a:off x="252360" y="220500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响度与什么因素有关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演示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怎样使鼓声更响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更大的力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敲击鼓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响度与什么因素有关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360" y="2349360"/>
            <a:ext cx="38149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响度与鼓面的振动情况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何显示鼓面的振动情况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响度与振幅的关系.mpg" descr="响度与振幅的关系"/>
          <p:cNvPicPr/>
          <p:nvPr/>
        </p:nvPicPr>
        <p:blipFill>
          <a:blip r:embed="rId1"/>
          <a:stretch/>
        </p:blipFill>
        <p:spPr>
          <a:xfrm>
            <a:off x="4573440" y="2060640"/>
            <a:ext cx="4210200" cy="410508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0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扬声器纸盆里纸屑的跳动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体振动的幅度称为振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观察扬声器发声时纸屑跳动的情况，在什么情况下纸屑跳得高？什么情况下跳得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声音的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响度是由声源振动的幅度决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翩翩起舞的纸屑.mpg" descr="翩翩起舞的纸屑"/>
          <p:cNvPicPr/>
          <p:nvPr/>
        </p:nvPicPr>
        <p:blipFill>
          <a:blip r:embed="rId1"/>
          <a:stretch/>
        </p:blipFill>
        <p:spPr>
          <a:xfrm>
            <a:off x="3997440" y="2133720"/>
            <a:ext cx="4795560" cy="360036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" descr="物理"/>
          <p:cNvPicPr/>
          <p:nvPr/>
        </p:nvPicPr>
        <p:blipFill>
          <a:blip r:embed="rId2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2" descr="物理"/>
          <p:cNvPicPr/>
          <p:nvPr/>
        </p:nvPicPr>
        <p:blipFill>
          <a:blip r:embed="rId3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" dur="1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ecff"/>
                </a:solidFill>
                <a:latin typeface="Arial"/>
              </a:rPr>
              <a:t>响度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理学中，用响度来描述声音的大小（强弱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物体振动的幅度称为振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声音的响度与声源振动的幅度即振幅有关，振幅越大，响度越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响度还与人耳到声源的距离有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图片 1" descr="物理"/>
          <p:cNvPicPr/>
          <p:nvPr/>
        </p:nvPicPr>
        <p:blipFill>
          <a:blip r:embed="rId1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" descr="物理"/>
          <p:cNvPicPr/>
          <p:nvPr/>
        </p:nvPicPr>
        <p:blipFill>
          <a:blip r:embed="rId2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声音的第二个特性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音调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活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唱一首歌曲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藏高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试唱中，你感到什么时候最难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要求声音响度大而使你无法胜任，还是其他原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图片 16387" descr="IMG_0326"/>
          <p:cNvPicPr/>
          <p:nvPr/>
        </p:nvPicPr>
        <p:blipFill>
          <a:blip r:embed="rId1"/>
          <a:stretch/>
        </p:blipFill>
        <p:spPr>
          <a:xfrm>
            <a:off x="4284720" y="2622600"/>
            <a:ext cx="4554360" cy="3416400"/>
          </a:xfrm>
          <a:prstGeom prst="rect">
            <a:avLst/>
          </a:prstGeom>
          <a:ln w="0">
            <a:noFill/>
          </a:ln>
        </p:spPr>
      </p:pic>
      <p:sp>
        <p:nvSpPr>
          <p:cNvPr id="533" name="文本框 16388"/>
          <p:cNvSpPr/>
          <p:nvPr/>
        </p:nvSpPr>
        <p:spPr>
          <a:xfrm>
            <a:off x="5943600" y="5214960"/>
            <a:ext cx="1676520" cy="57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青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  <a:ea typeface="宋体"/>
                <a:hlinkClick r:id="rId3"/>
              </a:rPr>
              <a:t>藏高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图片 1" descr="物理"/>
          <p:cNvPicPr/>
          <p:nvPr/>
        </p:nvPicPr>
        <p:blipFill>
          <a:blip r:embed="rId4"/>
          <a:stretch/>
        </p:blipFill>
        <p:spPr>
          <a:xfrm>
            <a:off x="179280" y="189000"/>
            <a:ext cx="2200320" cy="6379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2" descr="物理"/>
          <p:cNvPicPr/>
          <p:nvPr/>
        </p:nvPicPr>
        <p:blipFill>
          <a:blip r:embed="rId5"/>
          <a:stretch/>
        </p:blipFill>
        <p:spPr>
          <a:xfrm>
            <a:off x="6877080" y="6237360"/>
            <a:ext cx="22003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11:12:57Z</dcterms:created>
  <dc:creator>严增光</dc:creator>
  <dc:description/>
  <dc:language>en-US</dc:language>
  <cp:lastModifiedBy>Administrator</cp:lastModifiedBy>
  <dcterms:modified xsi:type="dcterms:W3CDTF">2016-03-10T02:55:3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