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7.png" ContentType="image/png"/>
  <Override PartName="/ppt/media/image4.jpeg" ContentType="image/jpeg"/>
  <Override PartName="/ppt/media/image5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whoosh.wav" ContentType="audio/x-wav"/>
  <Override PartName="/ppt/media/image10.jpeg" ContentType="image/jpeg"/>
  <Override PartName="/ppt/media/breeze.wav" ContentType="audio/x-wav"/>
  <Override PartName="/ppt/media/image14.jpeg" ContentType="image/jpeg"/>
  <Override PartName="/ppt/media/image8.png" ContentType="image/png"/>
  <Override PartName="/ppt/media/image6.png" ContentType="image/png"/>
  <Override PartName="/ppt/media/image12.jpeg" ContentType="image/jpeg"/>
  <Override PartName="/ppt/media/click.wav" ContentType="audio/x-wav"/>
  <Override PartName="/ppt/media/image9.png" ContentType="image/png"/>
  <Override PartName="/ppt/media/image26.png" ContentType="image/png"/>
  <Override PartName="/ppt/media/image3.png" ContentType="image/png"/>
  <Override PartName="/ppt/media/image20.png" ContentType="image/png"/>
  <Override PartName="/ppt/media/hammer.wav" ContentType="audio/x-wav"/>
  <Override PartName="/ppt/media/image2.jpeg" ContentType="image/jpeg"/>
  <Override PartName="/ppt/media/image1.png" ContentType="image/png"/>
  <Override PartName="/ppt/media/image27.png" ContentType="image/png"/>
  <Override PartName="/ppt/media/drumroll.wav" ContentType="audio/x-wav"/>
  <Override PartName="/ppt/media/image24.png" ContentType="image/png"/>
  <Override PartName="/ppt/media/image11.jpeg" ContentType="image/jpeg"/>
  <Override PartName="/ppt/media/image13.jpeg" ContentType="image/jpeg"/>
  <Override PartName="/ppt/media/image23.png" ContentType="image/png"/>
  <Override PartName="/ppt/media/image15.jpeg" ContentType="image/jpeg"/>
  <Override PartName="/ppt/media/image16.jpeg" ContentType="image/jpeg"/>
  <Override PartName="/ppt/media/chimes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6CB-D903-47B0-9E91-30610EAD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F6D-D6BE-4128-BB6E-A6094FBE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046-11E1-486D-AFC7-DAD4D4DC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84D-4D9B-4F29-A11F-AA1BFA05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D7CF-503C-456E-ABAC-698FD559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30D0-B688-490F-B684-80042FB5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B59E-F7F7-45EF-947D-D84873B2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B300-A735-4022-AE34-1DB1F9D2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DCCA-5CC0-45C7-988C-56910BAF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9C41-A43C-4DFB-A0AB-9FBE43A9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AAA0-1DC7-4FBD-8601-68C1A5A0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497-10B2-40F8-B8E9-867828F4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B39F-A26B-43C7-8264-8FE935F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AF5E-FF76-4BC6-AB88-E4E1C083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0306-3692-42FF-84AA-3C2FEB9A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D7B4-29CE-468D-A8EE-FC372432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ABC1-B752-4F77-B485-FB4020D1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70DA-8634-48F0-B1ED-0FEB39EC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99AF-9938-4AEA-8137-BB837707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67E2-74D7-4CF6-8FD7-05CD0F17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B537-E65B-4519-A5EF-86CD16FC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5A53-666D-405B-9A4A-0F04D409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17B-0AA8-4B53-9885-E4330B00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D690-546A-4F7E-9071-F856ABC8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40F89-8205-439E-97E3-F80BDB7E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A6A82-7D31-44FE-8C84-C274171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8186-4F29-4E99-8B24-A549B646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CAD5-713A-49F5-BE68-7604D721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D80A-88EB-446E-9ED5-920E350A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67C2-6727-4D6E-B380-38B77415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ECF-A8E3-440C-BAC3-62384287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A43-3C2B-43EB-AC4C-9AF3EB7E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C78-D706-4BF4-9512-F5C23EEA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F46-EE3C-43DD-9AE1-977EFA91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7E8-0036-4909-9087-BB1FB170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182-1FAE-4B99-8C69-0868FE63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901E-ECA8-4C37-9033-F0F477286C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物理"/>
          <p:cNvPicPr/>
          <p:nvPr/>
        </p:nvPicPr>
        <p:blipFill>
          <a:blip r:embed="rId2"/>
          <a:stretch/>
        </p:blipFill>
        <p:spPr>
          <a:xfrm>
            <a:off x="179280" y="117360"/>
            <a:ext cx="2200320" cy="638280"/>
          </a:xfrm>
          <a:prstGeom prst="rect">
            <a:avLst/>
          </a:prstGeom>
          <a:ln w="0">
            <a:noFill/>
          </a:ln>
        </p:spPr>
      </p:pic>
      <p:pic>
        <p:nvPicPr>
          <p:cNvPr id="6" name="图片 4" descr="物理"/>
          <p:cNvPicPr/>
          <p:nvPr/>
        </p:nvPicPr>
        <p:blipFill>
          <a:blip r:embed="rId3"/>
          <a:stretch/>
        </p:blipFill>
        <p:spPr>
          <a:xfrm>
            <a:off x="6661080" y="551808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3CDF-8011-4F73-9080-D0F9F3EF0E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04B9-FEF1-4A7E-9585-2929A001F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物理"/>
          <p:cNvPicPr/>
          <p:nvPr/>
        </p:nvPicPr>
        <p:blipFill>
          <a:blip r:embed="rId2"/>
          <a:stretch/>
        </p:blipFill>
        <p:spPr>
          <a:xfrm>
            <a:off x="179280" y="117360"/>
            <a:ext cx="2200320" cy="6382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" descr="物理"/>
          <p:cNvPicPr/>
          <p:nvPr/>
        </p:nvPicPr>
        <p:blipFill>
          <a:blip r:embed="rId3"/>
          <a:stretch/>
        </p:blipFill>
        <p:spPr>
          <a:xfrm>
            <a:off x="6661080" y="5518080"/>
            <a:ext cx="2200320" cy="638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物理"/>
          <p:cNvPicPr/>
          <p:nvPr/>
        </p:nvPicPr>
        <p:blipFill>
          <a:blip r:embed="rId4"/>
          <a:stretch/>
        </p:blipFill>
        <p:spPr>
          <a:xfrm>
            <a:off x="108000" y="117360"/>
            <a:ext cx="2200320" cy="638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物理"/>
          <p:cNvPicPr/>
          <p:nvPr/>
        </p:nvPicPr>
        <p:blipFill>
          <a:blip r:embed="rId5"/>
          <a:stretch/>
        </p:blipFill>
        <p:spPr>
          <a:xfrm>
            <a:off x="6732720" y="5518080"/>
            <a:ext cx="2200320" cy="638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ECD7-4385-4DCC-BEF9-66FFFE62B6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ol.com.cn/ent/gjylkb/20070906/200796130819.htm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ews.jschina.com.cn/gb/jschina/2003/24/node11176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2008.sina.com.cn/bk/p/2008-08-19/0504228962.s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image.baidu.com/i?ct=503316480&amp;z=0&amp;tn=baiduimagedetail&amp;word=%CC%FD%D5%EF%C6%F7&amp;in=24752&amp;cl=2&amp;cm=1&amp;sc=0&amp;lm=-1&amp;pn=17&amp;rn=1&amp;di=360196321&amp;ln=2000&amp;fr=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home.xjtu.edu.cn/student/tonghui/page/jingdianduibai/1.files/1_20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484280"/>
            <a:ext cx="61214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2.2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声音的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102"/>
          <p:cNvSpPr/>
          <p:nvPr/>
        </p:nvSpPr>
        <p:spPr>
          <a:xfrm>
            <a:off x="1619280" y="40464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第二章  声现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27649"/>
          <p:cNvSpPr/>
          <p:nvPr/>
        </p:nvSpPr>
        <p:spPr>
          <a:xfrm>
            <a:off x="1296000" y="404640"/>
            <a:ext cx="69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,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简谱中的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.2.3.4.5.6.7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等表示的就是音调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7650"/>
          <p:cNvSpPr/>
          <p:nvPr/>
        </p:nvSpPr>
        <p:spPr>
          <a:xfrm>
            <a:off x="1707120" y="1138320"/>
            <a:ext cx="56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,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女高音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男中音也表示的是音调的高低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27651" descr="20079613081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2060640"/>
            <a:ext cx="4103640" cy="3192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62" name="矩形 27652"/>
          <p:cNvSpPr/>
          <p:nvPr/>
        </p:nvSpPr>
        <p:spPr>
          <a:xfrm>
            <a:off x="564480" y="5474520"/>
            <a:ext cx="272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王帕瓦罗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7653" descr="xin_54311050909026871244718"/>
          <p:cNvPicPr/>
          <p:nvPr/>
        </p:nvPicPr>
        <p:blipFill>
          <a:blip r:embed="rId3"/>
          <a:stretch/>
        </p:blipFill>
        <p:spPr>
          <a:xfrm>
            <a:off x="4346640" y="1844640"/>
            <a:ext cx="4762440" cy="38577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64" name="矩形 27654"/>
          <p:cNvSpPr/>
          <p:nvPr/>
        </p:nvSpPr>
        <p:spPr>
          <a:xfrm>
            <a:off x="4175280" y="566064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男中音歌唱家廖昌永在奥地利维也纳金色大厅表演独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想议议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苍蝇飞行的每秒振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，蝴蝶飞行时每秒振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，为什么你凭听觉能发觉飞行中的苍蝇，却不能发觉飞行中的蝴蝶？ 你知道为什么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6322"/>
          <p:cNvSpPr/>
          <p:nvPr/>
        </p:nvSpPr>
        <p:spPr>
          <a:xfrm>
            <a:off x="179280" y="3068640"/>
            <a:ext cx="914400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感受声音的频率有一定的范围。从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Hz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00Hz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声音大多数人能听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6323"/>
          <p:cNvSpPr/>
          <p:nvPr/>
        </p:nvSpPr>
        <p:spPr>
          <a:xfrm>
            <a:off x="250920" y="4915080"/>
            <a:ext cx="9144000" cy="74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超声波：高于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00Hz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声音叫超声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6324"/>
          <p:cNvSpPr/>
          <p:nvPr/>
        </p:nvSpPr>
        <p:spPr>
          <a:xfrm>
            <a:off x="250920" y="5805360"/>
            <a:ext cx="9144000" cy="7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声波：低于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Hz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声音叫次声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25604"/>
          <p:cNvSpPr/>
          <p:nvPr/>
        </p:nvSpPr>
        <p:spPr>
          <a:xfrm>
            <a:off x="1042920" y="476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活处处有物理，细心观察皆学问。如图是某学校楼梯中的一部分，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长短不同的铁护栏。在不损坏公物的前提下，一个同学用一根木棒迅速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逐一敲过铁护栏栏杆，此过程中，一定发生改变的是声音的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音调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音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响度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音色和响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25606"/>
          <p:cNvGrpSpPr/>
          <p:nvPr/>
        </p:nvGrpSpPr>
        <p:grpSpPr>
          <a:xfrm>
            <a:off x="5724360" y="3645000"/>
            <a:ext cx="2448000" cy="2305080"/>
            <a:chOff x="5724360" y="3645000"/>
            <a:chExt cx="2448000" cy="2305080"/>
          </a:xfrm>
        </p:grpSpPr>
        <p:pic>
          <p:nvPicPr>
            <p:cNvPr id="171" name="图片 25607" descr=""/>
            <p:cNvPicPr/>
            <p:nvPr/>
          </p:nvPicPr>
          <p:blipFill>
            <a:blip r:embed="rId1"/>
            <a:stretch/>
          </p:blipFill>
          <p:spPr>
            <a:xfrm>
              <a:off x="5724360" y="3645000"/>
              <a:ext cx="24480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文本框 25608"/>
            <p:cNvSpPr/>
            <p:nvPr/>
          </p:nvSpPr>
          <p:spPr>
            <a:xfrm>
              <a:off x="7472880" y="4596120"/>
              <a:ext cx="52452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25609"/>
            <p:cNvSpPr/>
            <p:nvPr/>
          </p:nvSpPr>
          <p:spPr>
            <a:xfrm>
              <a:off x="5724360" y="4786200"/>
              <a:ext cx="52452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文本框 25611"/>
          <p:cNvSpPr/>
          <p:nvPr/>
        </p:nvSpPr>
        <p:spPr>
          <a:xfrm>
            <a:off x="1042920" y="4581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护栏的长短不同，其振动频率不同，音调也就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横卷形 25613"/>
          <p:cNvSpPr/>
          <p:nvPr/>
        </p:nvSpPr>
        <p:spPr>
          <a:xfrm>
            <a:off x="1403280" y="3573360"/>
            <a:ext cx="2232000" cy="792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温馨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5614"/>
          <p:cNvSpPr/>
          <p:nvPr/>
        </p:nvSpPr>
        <p:spPr>
          <a:xfrm>
            <a:off x="414036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99640" y="907560"/>
            <a:ext cx="6048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们把高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000H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声音叫做</a:t>
            </a:r>
            <a:r>
              <a:rPr b="0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低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H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声音叫做</a:t>
            </a:r>
            <a:r>
              <a:rPr b="0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9222"/>
          <p:cNvSpPr/>
          <p:nvPr/>
        </p:nvSpPr>
        <p:spPr>
          <a:xfrm>
            <a:off x="900000" y="404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9224" descr="2006830111150"/>
          <p:cNvPicPr/>
          <p:nvPr/>
        </p:nvPicPr>
        <p:blipFill>
          <a:blip r:embed="rId1"/>
          <a:stretch/>
        </p:blipFill>
        <p:spPr>
          <a:xfrm>
            <a:off x="5364000" y="2133720"/>
            <a:ext cx="3097440" cy="251928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9225"/>
          <p:cNvSpPr/>
          <p:nvPr/>
        </p:nvSpPr>
        <p:spPr>
          <a:xfrm>
            <a:off x="900000" y="1844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议一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9226"/>
          <p:cNvSpPr/>
          <p:nvPr/>
        </p:nvSpPr>
        <p:spPr>
          <a:xfrm>
            <a:off x="971640" y="2565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一次表演中，一名训兽师向他带来的狗提问：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+1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于几？”狗立即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，观众立刻为这条聪明的狗热烈鼓掌。它真有那么聪明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9227"/>
          <p:cNvSpPr/>
          <p:nvPr/>
        </p:nvSpPr>
        <p:spPr>
          <a:xfrm>
            <a:off x="971640" y="4797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嘿嘿！原来是训兽师的助手用特殊的仪器在台下发出了四下哨声，这种哨声属于超声波，不在人的听觉频率范围内，但狗是可以听见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9228"/>
          <p:cNvSpPr/>
          <p:nvPr/>
        </p:nvSpPr>
        <p:spPr>
          <a:xfrm>
            <a:off x="5364000" y="836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超声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9229"/>
          <p:cNvSpPr/>
          <p:nvPr/>
        </p:nvSpPr>
        <p:spPr>
          <a:xfrm>
            <a:off x="4140360" y="1268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次声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58369" descr=""/>
          <p:cNvPicPr/>
          <p:nvPr/>
        </p:nvPicPr>
        <p:blipFill>
          <a:blip r:embed="rId1"/>
          <a:stretch/>
        </p:blipFill>
        <p:spPr>
          <a:xfrm>
            <a:off x="4248000" y="0"/>
            <a:ext cx="5004000" cy="37162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58370"/>
          <p:cNvSpPr/>
          <p:nvPr/>
        </p:nvSpPr>
        <p:spPr>
          <a:xfrm>
            <a:off x="0" y="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大象的活动是在无声无息中进行的，实际上它们是在用一种我们听不到的声音在进行交流，这就是次声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58371"/>
          <p:cNvSpPr/>
          <p:nvPr/>
        </p:nvSpPr>
        <p:spPr>
          <a:xfrm>
            <a:off x="0" y="400536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大自然的一些活动，像地震、火山喷发、台风、海啸等都会发出次声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58372"/>
          <p:cNvSpPr/>
          <p:nvPr/>
        </p:nvSpPr>
        <p:spPr>
          <a:xfrm>
            <a:off x="0" y="551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一些机器工作时，也会产生次声波。有些次声波对人体是有害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/>
          <p:cNvSpPr/>
          <p:nvPr/>
        </p:nvSpPr>
        <p:spPr>
          <a:xfrm>
            <a:off x="539640" y="907920"/>
            <a:ext cx="8604360" cy="5113440"/>
          </a:xfrm>
          <a:custGeom>
            <a:avLst/>
            <a:gdLst>
              <a:gd name="textAreaLeft" fmla="*/ 2151000 w 8604360"/>
              <a:gd name="textAreaRight" fmla="*/ 6453360 w 8604360"/>
              <a:gd name="textAreaTop" fmla="*/ 151200 h 5113440"/>
              <a:gd name="textAreaBottom" fmla="*/ 3835080 h 511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843280" y="1341360"/>
            <a:ext cx="4033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次声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　危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Object 7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928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2175840" y="60948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频率不同的音叉发出声音的波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59393"/>
          <p:cNvSpPr/>
          <p:nvPr/>
        </p:nvSpPr>
        <p:spPr>
          <a:xfrm>
            <a:off x="0" y="0"/>
            <a:ext cx="93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 Black"/>
                <a:ea typeface="华文行楷"/>
              </a:rPr>
              <a:t>小组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9394"/>
          <p:cNvSpPr/>
          <p:nvPr/>
        </p:nvSpPr>
        <p:spPr>
          <a:xfrm>
            <a:off x="0" y="76500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、用二胡演奏乐曲时，是怎样改变音调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59395"/>
          <p:cNvSpPr/>
          <p:nvPr/>
        </p:nvSpPr>
        <p:spPr>
          <a:xfrm>
            <a:off x="0" y="220500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楷体_GB2312"/>
              </a:rPr>
              <a:t>通过改变琴弦的松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59396"/>
          <p:cNvSpPr/>
          <p:nvPr/>
        </p:nvSpPr>
        <p:spPr>
          <a:xfrm>
            <a:off x="2050920" y="299736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楷体_GB2312"/>
              </a:rPr>
              <a:t>琴弦的长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9397"/>
          <p:cNvSpPr/>
          <p:nvPr/>
        </p:nvSpPr>
        <p:spPr>
          <a:xfrm>
            <a:off x="2124000" y="37162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楷体_GB2312"/>
              </a:rPr>
              <a:t>琴弦的粗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9398"/>
          <p:cNvSpPr/>
          <p:nvPr/>
        </p:nvSpPr>
        <p:spPr>
          <a:xfrm>
            <a:off x="0" y="443700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、吹奏笛子时，是怎样改变音调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59399"/>
          <p:cNvSpPr/>
          <p:nvPr/>
        </p:nvSpPr>
        <p:spPr>
          <a:xfrm>
            <a:off x="0" y="530064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楷体_GB2312"/>
              </a:rPr>
              <a:t>通过改变空气柱的长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动作按钮: 影片 59400"/>
          <p:cNvSpPr/>
          <p:nvPr/>
        </p:nvSpPr>
        <p:spPr>
          <a:xfrm>
            <a:off x="6877080" y="1844640"/>
            <a:ext cx="1512720" cy="719280"/>
          </a:xfrm>
          <a:custGeom>
            <a:avLst/>
            <a:gdLst>
              <a:gd name="textAreaLeft" fmla="*/ 46440 w 1512720"/>
              <a:gd name="textAreaRight" fmla="*/ 1466280 w 1512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5415" h="21600">
                <a:moveTo>
                  <a:pt x="0" y="0"/>
                </a:moveTo>
                <a:lnTo>
                  <a:pt x="45415" y="0"/>
                </a:lnTo>
                <a:lnTo>
                  <a:pt x="45415" y="21600"/>
                </a:lnTo>
                <a:lnTo>
                  <a:pt x="0" y="21600"/>
                </a:lnTo>
                <a:close/>
              </a:path>
              <a:path fill="lightenLess" w="45415" h="21600">
                <a:moveTo>
                  <a:pt x="0" y="0"/>
                </a:moveTo>
                <a:lnTo>
                  <a:pt x="45415" y="0"/>
                </a:lnTo>
                <a:lnTo>
                  <a:pt x="44015" y="1400"/>
                </a:lnTo>
                <a:lnTo>
                  <a:pt x="1400" y="1400"/>
                </a:lnTo>
                <a:close/>
              </a:path>
              <a:path fill="darken" w="45415" h="21600">
                <a:moveTo>
                  <a:pt x="45415" y="0"/>
                </a:moveTo>
                <a:lnTo>
                  <a:pt x="45415" y="21600"/>
                </a:lnTo>
                <a:lnTo>
                  <a:pt x="44015" y="20200"/>
                </a:lnTo>
                <a:lnTo>
                  <a:pt x="44015" y="1400"/>
                </a:lnTo>
                <a:close/>
              </a:path>
              <a:path fill="darkenLess" w="45415" h="21600">
                <a:moveTo>
                  <a:pt x="45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15" y="20200"/>
                </a:lnTo>
                <a:close/>
              </a:path>
              <a:path fill="lighten" w="45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15" h="21600">
                <a:moveTo>
                  <a:pt x="15701" y="7301"/>
                </a:moveTo>
                <a:lnTo>
                  <a:pt x="16615" y="7301"/>
                </a:lnTo>
                <a:lnTo>
                  <a:pt x="16998" y="7667"/>
                </a:lnTo>
                <a:lnTo>
                  <a:pt x="26206" y="7667"/>
                </a:lnTo>
                <a:lnTo>
                  <a:pt x="26763" y="8224"/>
                </a:lnTo>
                <a:lnTo>
                  <a:pt x="26763" y="8772"/>
                </a:lnTo>
                <a:lnTo>
                  <a:pt x="28609" y="8772"/>
                </a:lnTo>
                <a:lnTo>
                  <a:pt x="28974" y="8224"/>
                </a:lnTo>
                <a:lnTo>
                  <a:pt x="29714" y="8224"/>
                </a:lnTo>
                <a:lnTo>
                  <a:pt x="29714" y="13376"/>
                </a:lnTo>
                <a:lnTo>
                  <a:pt x="28974" y="13376"/>
                </a:lnTo>
                <a:lnTo>
                  <a:pt x="28609" y="12828"/>
                </a:lnTo>
                <a:lnTo>
                  <a:pt x="26763" y="12828"/>
                </a:lnTo>
                <a:lnTo>
                  <a:pt x="26763" y="14107"/>
                </a:lnTo>
                <a:lnTo>
                  <a:pt x="17181" y="14107"/>
                </a:lnTo>
                <a:lnTo>
                  <a:pt x="17181" y="9877"/>
                </a:lnTo>
                <a:lnTo>
                  <a:pt x="16998" y="9877"/>
                </a:lnTo>
                <a:lnTo>
                  <a:pt x="16615" y="10243"/>
                </a:lnTo>
                <a:lnTo>
                  <a:pt x="1570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60417"/>
          <p:cNvSpPr/>
          <p:nvPr/>
        </p:nvSpPr>
        <p:spPr>
          <a:xfrm>
            <a:off x="0" y="0"/>
            <a:ext cx="93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 Black"/>
                <a:ea typeface="华文行楷"/>
              </a:rPr>
              <a:t>课堂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0418"/>
          <p:cNvSpPr/>
          <p:nvPr/>
        </p:nvSpPr>
        <p:spPr>
          <a:xfrm>
            <a:off x="0" y="62064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声音的高低叫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_______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，它跟物体振动的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60419"/>
          <p:cNvSpPr/>
          <p:nvPr/>
        </p:nvSpPr>
        <p:spPr>
          <a:xfrm>
            <a:off x="0" y="1916280"/>
            <a:ext cx="9144000" cy="28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男同学说话声音“低沉”，是指男同学声音的 ＿＿＿低，这是因为男同学说话时，声带振动比较＿＿＿的缘故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小明在表演二胡时，用弓拉动琴弦，使琴弦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而发声；小明不断用手指去控制琴弦的长度，是为了改变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0"/>
            <a:ext cx="914400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将一把钢尺紧按在桌面上，一端伸出桌面适当的长度，拨动钢尺，就可听到钢尺振动发出的声音。逐渐增加钢尺伸出桌面的长度，钢尺振动发出声音的音调会逐渐变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当钢尺伸出桌面超过一定长度时，虽然用同样的力拨动钢尺振动，却听不到声音，这是由于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20483"/>
          <p:cNvSpPr/>
          <p:nvPr/>
        </p:nvSpPr>
        <p:spPr>
          <a:xfrm>
            <a:off x="826920" y="26028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故事引入  激发情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0487"/>
          <p:cNvSpPr/>
          <p:nvPr/>
        </p:nvSpPr>
        <p:spPr>
          <a:xfrm>
            <a:off x="971640" y="981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天晚上，两只小白兔在家里等妈妈。她们等了很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还是没有回来。这时候，她们听见轻轻的敲门声。小白兔妹妹准备开门，小白兔姐姐赶紧阻止她说：“不能开门，先问清楚是谁。”于是，小白兔妹妹说：“请问你是谁？”。大灰狼轻轻地说：“快开门，我是外婆，来看看你们的”。小白兔姐姐听了声音之后说：“妹妹，别开门，它不是外婆，它是大灰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2303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 、响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12290" descr="pic_273606"/>
          <p:cNvPicPr/>
          <p:nvPr/>
        </p:nvPicPr>
        <p:blipFill>
          <a:blip r:embed="rId1"/>
          <a:stretch/>
        </p:blipFill>
        <p:spPr>
          <a:xfrm>
            <a:off x="5867280" y="1557360"/>
            <a:ext cx="3276720" cy="417672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12293"/>
          <p:cNvSpPr/>
          <p:nvPr/>
        </p:nvSpPr>
        <p:spPr>
          <a:xfrm>
            <a:off x="900000" y="981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概念：响度就是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声音的强弱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它是人耳接收声音大小  的主观感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2294"/>
          <p:cNvSpPr/>
          <p:nvPr/>
        </p:nvSpPr>
        <p:spPr>
          <a:xfrm>
            <a:off x="900000" y="184464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探究响度与什么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2296"/>
          <p:cNvSpPr/>
          <p:nvPr/>
        </p:nvSpPr>
        <p:spPr>
          <a:xfrm>
            <a:off x="971640" y="24210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不同的力敲桌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会声音响度的不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2297"/>
          <p:cNvSpPr/>
          <p:nvPr/>
        </p:nvSpPr>
        <p:spPr>
          <a:xfrm>
            <a:off x="971640" y="328464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不同的力敲音叉，观察乒乓球被弹起的幅度，听声音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298"/>
          <p:cNvSpPr/>
          <p:nvPr/>
        </p:nvSpPr>
        <p:spPr>
          <a:xfrm>
            <a:off x="250920" y="4869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响度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振幅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有关，振幅越大，响度越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2299"/>
          <p:cNvSpPr/>
          <p:nvPr/>
        </p:nvSpPr>
        <p:spPr>
          <a:xfrm>
            <a:off x="755640" y="422100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理学中用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振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物体振动的幅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5"/>
          <p:cNvSpPr/>
          <p:nvPr/>
        </p:nvSpPr>
        <p:spPr>
          <a:xfrm>
            <a:off x="285840" y="10000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00000"/>
                </a:solidFill>
                <a:latin typeface="黑体"/>
                <a:ea typeface="黑体"/>
              </a:rPr>
              <a:t>乒乓球在实验中的作用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500040" y="328608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000"/>
                </a:solidFill>
                <a:latin typeface="华文行楷"/>
                <a:ea typeface="华文行楷"/>
              </a:rPr>
              <a:t>将音叉微小的振动放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404280"/>
            <a:ext cx="9144000" cy="25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想议议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你要喊住你前面的同学，是他离你近的时候他容易听到的你的喊声，还是他离你远的时候？这说明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2466"/>
          <p:cNvSpPr/>
          <p:nvPr/>
        </p:nvSpPr>
        <p:spPr>
          <a:xfrm>
            <a:off x="0" y="3357720"/>
            <a:ext cx="9144000" cy="25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明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听到声音的响度除了跟发声体的振幅有关以外，还跟人距发声体的距离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28674"/>
          <p:cNvSpPr/>
          <p:nvPr/>
        </p:nvSpPr>
        <p:spPr>
          <a:xfrm>
            <a:off x="503280" y="40464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另外，响度的大小与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声源的距离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有关，同一声音离声源越近，响度越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28683"/>
          <p:cNvSpPr/>
          <p:nvPr/>
        </p:nvSpPr>
        <p:spPr>
          <a:xfrm>
            <a:off x="684360" y="1268280"/>
            <a:ext cx="64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百年来，不论是在两军对垒的战场上，还是在艺术表演的舞台上，都离不开鼓。甚至在人们的日常生活中也离不开鼓。鼓，能振奋人的精神，激发人的斗志，鼓舞人们奋勇前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认为图中的鼓手们要提高击鼓声音的响度，应该采用的方法是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用更大的力击鼓，使鼓面振动振幅大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改变频率高一些的鼓来敲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离击鼓处远一些，听到的声音就会强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击鼓击得快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28685" descr="E:/工作  文件/源文件/http:/news.jschina.com.cn/gb/jschina/2003/24/node11176/node11177/node11290/images/0016717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3789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28687"/>
          <p:cNvSpPr/>
          <p:nvPr/>
        </p:nvSpPr>
        <p:spPr>
          <a:xfrm>
            <a:off x="7020000" y="2708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内容占位符 35844" descr="图文-马拉多纳助战阿根廷男篮 情不自禁大声呼喊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341360"/>
            <a:ext cx="2592360" cy="194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22" name="内容占位符 35845" descr="喇叭喊话的女孩预览图 点击看大图"/>
          <p:cNvPicPr/>
          <p:nvPr/>
        </p:nvPicPr>
        <p:blipFill>
          <a:blip r:embed="rId3"/>
          <a:stretch/>
        </p:blipFill>
        <p:spPr>
          <a:xfrm>
            <a:off x="4643280" y="1268280"/>
            <a:ext cx="2305080" cy="20163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223" name="文本框 35846"/>
          <p:cNvSpPr/>
          <p:nvPr/>
        </p:nvSpPr>
        <p:spPr>
          <a:xfrm>
            <a:off x="755640" y="260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议一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35847"/>
          <p:cNvSpPr/>
          <p:nvPr/>
        </p:nvSpPr>
        <p:spPr>
          <a:xfrm>
            <a:off x="900000" y="765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中的两个情景有什么共同点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848"/>
          <p:cNvSpPr/>
          <p:nvPr/>
        </p:nvSpPr>
        <p:spPr>
          <a:xfrm>
            <a:off x="1403280" y="3500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减少声音的分散，增大声音的响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849"/>
          <p:cNvSpPr/>
          <p:nvPr/>
        </p:nvSpPr>
        <p:spPr>
          <a:xfrm>
            <a:off x="900000" y="4076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能举个生活中利用这个原理的工具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5850"/>
          <p:cNvSpPr/>
          <p:nvPr/>
        </p:nvSpPr>
        <p:spPr>
          <a:xfrm>
            <a:off x="2050920" y="465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听诊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35852" descr="u=462266274,4287259696&amp;fm=3&amp;gp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458136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63489"/>
          <p:cNvSpPr/>
          <p:nvPr/>
        </p:nvSpPr>
        <p:spPr>
          <a:xfrm>
            <a:off x="1187280" y="16286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外，人耳听见的声音响度还与到声源的距离有关，距离越远，听到的声音越小，即响度越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3490"/>
          <p:cNvSpPr/>
          <p:nvPr/>
        </p:nvSpPr>
        <p:spPr>
          <a:xfrm>
            <a:off x="1219320" y="3733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声音集中向某个方向传播，可以减少声音的分散，增大响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086600" y="533520"/>
            <a:ext cx="1981080" cy="360"/>
            <a:chOff x="7086600" y="533520"/>
            <a:chExt cx="1981080" cy="360"/>
          </a:xfrm>
        </p:grpSpPr>
        <p:sp>
          <p:nvSpPr>
            <p:cNvPr id="232" name="直接连接符 63491"/>
            <p:cNvSpPr/>
            <p:nvPr/>
          </p:nvSpPr>
          <p:spPr>
            <a:xfrm>
              <a:off x="7086600" y="533520"/>
              <a:ext cx="198108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7086600" y="53352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文本框 63492"/>
          <p:cNvSpPr/>
          <p:nvPr/>
        </p:nvSpPr>
        <p:spPr>
          <a:xfrm>
            <a:off x="7238880" y="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声音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14337"/>
          <p:cNvSpPr/>
          <p:nvPr/>
        </p:nvSpPr>
        <p:spPr>
          <a:xfrm>
            <a:off x="684360" y="549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 、音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4340"/>
          <p:cNvSpPr/>
          <p:nvPr/>
        </p:nvSpPr>
        <p:spPr>
          <a:xfrm>
            <a:off x="755640" y="1125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音色又叫音品，它是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声音的品质与特征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不同发声体发出声音的音色是一般是不同的听声辩人、辩动物、辩乐器等就是主要是根据音色不同来判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14341" descr="Wang-Guowei"/>
          <p:cNvPicPr/>
          <p:nvPr/>
        </p:nvPicPr>
        <p:blipFill>
          <a:blip r:embed="rId1"/>
          <a:stretch/>
        </p:blipFill>
        <p:spPr>
          <a:xfrm>
            <a:off x="324000" y="2781360"/>
            <a:ext cx="2952720" cy="35528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4342" descr="图文：2007中国地产慈善之夜嘉宾陈曦"/>
          <p:cNvPicPr/>
          <p:nvPr/>
        </p:nvPicPr>
        <p:blipFill>
          <a:blip r:embed="rId2"/>
          <a:stretch/>
        </p:blipFill>
        <p:spPr>
          <a:xfrm>
            <a:off x="5651640" y="2708280"/>
            <a:ext cx="2997000" cy="385452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3419640" y="4508640"/>
            <a:ext cx="2089080" cy="360"/>
            <a:chOff x="3419640" y="4508640"/>
            <a:chExt cx="2089080" cy="360"/>
          </a:xfrm>
        </p:grpSpPr>
        <p:sp>
          <p:nvSpPr>
            <p:cNvPr id="240" name="直接连接符 14343"/>
            <p:cNvSpPr/>
            <p:nvPr/>
          </p:nvSpPr>
          <p:spPr>
            <a:xfrm>
              <a:off x="3419640" y="4508640"/>
              <a:ext cx="20890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419640" y="4508640"/>
              <a:ext cx="20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文本框 14344"/>
          <p:cNvSpPr/>
          <p:nvPr/>
        </p:nvSpPr>
        <p:spPr>
          <a:xfrm>
            <a:off x="3664080" y="3645000"/>
            <a:ext cx="16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区分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梁祝erhu协奏曲.mp3" descr=""/>
          <p:cNvPicPr/>
          <p:nvPr/>
        </p:nvPicPr>
        <p:blipFill>
          <a:blip r:embed="rId3"/>
          <a:stretch/>
        </p:blipFill>
        <p:spPr>
          <a:xfrm>
            <a:off x="2987640" y="595008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244" name="梁祝小提琴协奏曲.mp3" descr=""/>
          <p:cNvPicPr/>
          <p:nvPr/>
        </p:nvPicPr>
        <p:blipFill>
          <a:blip r:embed="rId4"/>
          <a:stretch/>
        </p:blipFill>
        <p:spPr>
          <a:xfrm>
            <a:off x="4859280" y="59500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25824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6588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音色与什么因素有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音色与发声体的材料、结构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ject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5341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30724"/>
          <p:cNvSpPr/>
          <p:nvPr/>
        </p:nvSpPr>
        <p:spPr>
          <a:xfrm>
            <a:off x="611280" y="333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红楼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林黛玉进贾府时，有一段对王熙凤的描写：“只听后院中有人笑声，说：我不曾迎接远客！”黛玉只见得一听此声音，仆人们个个敛声屏气，恭肃严整，原们人们都知道这是人称“凤辣子”的王熙凤要进来了。“不见其人，先闻其声”也能判断谁在说话，依据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说话的响度不同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说话的音调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说话的音色不同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说话的语气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30726" descr="1_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213000"/>
            <a:ext cx="4601880" cy="31147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30727"/>
          <p:cNvSpPr/>
          <p:nvPr/>
        </p:nvSpPr>
        <p:spPr>
          <a:xfrm>
            <a:off x="5580000" y="184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64513"/>
          <p:cNvSpPr/>
          <p:nvPr/>
        </p:nvSpPr>
        <p:spPr>
          <a:xfrm>
            <a:off x="703440" y="1251000"/>
            <a:ext cx="7753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二、关于音调、响度、音色的综合辨析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64514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8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50177"/>
          <p:cNvSpPr/>
          <p:nvPr/>
        </p:nvSpPr>
        <p:spPr>
          <a:xfrm>
            <a:off x="971640" y="9079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Webdings"/>
                <a:ea typeface="Webdings"/>
              </a:rPr>
              <a:t>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声音有轻有响、有高有低，不同的声音还有不同的特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50178"/>
          <p:cNvSpPr/>
          <p:nvPr/>
        </p:nvSpPr>
        <p:spPr>
          <a:xfrm>
            <a:off x="971640" y="3429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Webdings"/>
                <a:ea typeface="Webdings"/>
              </a:rPr>
              <a:t>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们分别与哪些因素有关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50179"/>
          <p:cNvGrpSpPr/>
          <p:nvPr/>
        </p:nvGrpSpPr>
        <p:grpSpPr>
          <a:xfrm>
            <a:off x="971640" y="2133720"/>
            <a:ext cx="4571640" cy="1129680"/>
            <a:chOff x="971640" y="2133720"/>
            <a:chExt cx="4571640" cy="1129680"/>
          </a:xfrm>
        </p:grpSpPr>
        <p:sp>
          <p:nvSpPr>
            <p:cNvPr id="136" name="文本框 50180"/>
            <p:cNvSpPr/>
            <p:nvPr/>
          </p:nvSpPr>
          <p:spPr>
            <a:xfrm>
              <a:off x="971640" y="2133720"/>
              <a:ext cx="448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Webdings"/>
                  <a:ea typeface="Webdings"/>
                </a:rPr>
                <a:t>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声音的三个特征是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50181"/>
            <p:cNvSpPr/>
            <p:nvPr/>
          </p:nvSpPr>
          <p:spPr>
            <a:xfrm>
              <a:off x="1395000" y="2620800"/>
              <a:ext cx="414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响度、音调、音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5537" descr=""/>
          <p:cNvPicPr/>
          <p:nvPr/>
        </p:nvPicPr>
        <p:blipFill>
          <a:blip r:embed="rId1"/>
          <a:stretch/>
        </p:blipFill>
        <p:spPr>
          <a:xfrm>
            <a:off x="901800" y="1433520"/>
            <a:ext cx="734220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65538" descr=""/>
          <p:cNvPicPr/>
          <p:nvPr/>
        </p:nvPicPr>
        <p:blipFill>
          <a:blip r:embed="rId2"/>
          <a:stretch/>
        </p:blipFill>
        <p:spPr>
          <a:xfrm>
            <a:off x="927000" y="3543480"/>
            <a:ext cx="73137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66561"/>
          <p:cNvSpPr/>
          <p:nvPr/>
        </p:nvSpPr>
        <p:spPr>
          <a:xfrm>
            <a:off x="731880" y="2673360"/>
            <a:ext cx="7753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区分音调与响度的不同，一个是声音的高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音的粗细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个是声音的强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音的大小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66562" descr="规律方法"/>
          <p:cNvPicPr/>
          <p:nvPr/>
        </p:nvPicPr>
        <p:blipFill>
          <a:blip r:embed="rId1"/>
          <a:stretch/>
        </p:blipFill>
        <p:spPr>
          <a:xfrm>
            <a:off x="755640" y="1268280"/>
            <a:ext cx="23763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67585"/>
          <p:cNvSpPr/>
          <p:nvPr/>
        </p:nvSpPr>
        <p:spPr>
          <a:xfrm>
            <a:off x="0" y="260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【典例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下列关于声音的说法中不正确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．“响鼓也要重槌敲”，说明声音是由振动产生的，且振幅越大响度越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．“震耳欲聋”说明声音的音调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．“闻其声知其人”，说明可以根据音色来判断说话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．“隔墙有耳”说明固体能传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文本框 68609"/>
          <p:cNvSpPr/>
          <p:nvPr/>
        </p:nvSpPr>
        <p:spPr>
          <a:xfrm>
            <a:off x="712800" y="1427040"/>
            <a:ext cx="77533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题考查对声音三个特性的理解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音是由于物体振动产生的，并且物体振动的幅度越大响度越大，所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正确；“震耳欲聋”指的是声音的响度大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错误；音色是声音的品质、特色，是由发声体本身决定，与发声体的材料、结构有关，所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正确；“隔墙有耳”说明声音能通过固体传播，所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正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0920" y="572760"/>
            <a:ext cx="7964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我的收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10920" y="148392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节课我们主要学习了以下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音调：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它是指声音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高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它取决于物体振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频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度：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它表示声音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强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其大小决定于两个因素，一是物体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振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大小，二是距离发声体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远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音色：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它是指声音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品质及特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它主要决定于发声体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材料和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声波和次声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69633"/>
          <p:cNvSpPr/>
          <p:nvPr/>
        </p:nvSpPr>
        <p:spPr>
          <a:xfrm>
            <a:off x="723960" y="1908000"/>
            <a:ext cx="7721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凤凰传奇组合歌唱中，一般是女高音放声歌唱，男低音轻声伴唱．这里的高低是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音调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响度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音色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振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高音是指女声歌唱的声音音调高，男低音是指音调低，而放声歌唱是指响度大．故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文本框 70657"/>
          <p:cNvSpPr/>
          <p:nvPr/>
        </p:nvSpPr>
        <p:spPr>
          <a:xfrm>
            <a:off x="701640" y="1859040"/>
            <a:ext cx="77216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(2010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莆田中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些老师上课时使用便携扩音设备，使声音更加洪亮，这是为了增大声音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音调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音色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频率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响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扩音设备，使声音更加洪亮，是为了增大声音的响度，使响度更大，听得更清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71681"/>
          <p:cNvSpPr/>
          <p:nvPr/>
        </p:nvSpPr>
        <p:spPr>
          <a:xfrm>
            <a:off x="660240" y="1646280"/>
            <a:ext cx="77216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们生活在声音的海洋里，鸟语、流水、琴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们能把这些声音分辨出来，主要是依据声音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响度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音调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音色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频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语、流水、琴声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物体的发声体不同，故所发出声音的音色不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72705"/>
          <p:cNvSpPr/>
          <p:nvPr/>
        </p:nvSpPr>
        <p:spPr>
          <a:xfrm>
            <a:off x="669960" y="606600"/>
            <a:ext cx="77216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4.(2010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盐城中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如图所示，用一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硬卡片先后快拨和慢拨木梳的齿，听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卡片声音发生变化．这个实验用来探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．音调是否与声源振动频率有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．声音能否在真空中传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．声音能否在固体中传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．声音传播是否需要时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用硬卡片以不同的速度拨动时，卡片振动的快慢不同，听到的声音的音调不同，故此实验用来探究音调是否与声源振动的频率有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72706" descr=""/>
          <p:cNvPicPr/>
          <p:nvPr/>
        </p:nvPicPr>
        <p:blipFill>
          <a:blip r:embed="rId1"/>
          <a:stretch/>
        </p:blipFill>
        <p:spPr>
          <a:xfrm>
            <a:off x="5638680" y="882720"/>
            <a:ext cx="2781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文本框 73729"/>
          <p:cNvSpPr/>
          <p:nvPr/>
        </p:nvSpPr>
        <p:spPr>
          <a:xfrm>
            <a:off x="690480" y="1058760"/>
            <a:ext cx="7721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所示，啄木鸟用尖锐的喙在树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啄几下就可以判断出树干中是否有虫子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是因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色是由发声体的材料和结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因素决定的，有虫子的树干和无虫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树干相比较，其内部结构发生了变化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虫子的树干内有空心，其结构发生了变化，所以音色不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73730" descr=""/>
          <p:cNvPicPr/>
          <p:nvPr/>
        </p:nvPicPr>
        <p:blipFill>
          <a:blip r:embed="rId1"/>
          <a:stretch/>
        </p:blipFill>
        <p:spPr>
          <a:xfrm>
            <a:off x="5729400" y="1235160"/>
            <a:ext cx="26193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51201"/>
          <p:cNvSpPr/>
          <p:nvPr/>
        </p:nvSpPr>
        <p:spPr>
          <a:xfrm>
            <a:off x="1187280" y="220500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隶书"/>
                <a:ea typeface="隶书"/>
              </a:rPr>
              <a:t>第二节  声音的特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74753"/>
          <p:cNvSpPr/>
          <p:nvPr/>
        </p:nvSpPr>
        <p:spPr>
          <a:xfrm>
            <a:off x="690480" y="1058760"/>
            <a:ext cx="7721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如图所示，是猫、蝙蝠和海豚的发声频率范围和听觉频率范围，三种动物相比较，发声频率范围最小的动物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听觉频率范围最大的动物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74754" descr=""/>
          <p:cNvPicPr/>
          <p:nvPr/>
        </p:nvPicPr>
        <p:blipFill>
          <a:blip r:embed="rId1"/>
          <a:stretch/>
        </p:blipFill>
        <p:spPr>
          <a:xfrm>
            <a:off x="1166760" y="2822400"/>
            <a:ext cx="67708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文本框 75777"/>
          <p:cNvSpPr/>
          <p:nvPr/>
        </p:nvSpPr>
        <p:spPr>
          <a:xfrm>
            <a:off x="733320" y="2347920"/>
            <a:ext cx="77216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题图中可知猫的发声频率范围小，蝙蝠的发声和听觉频率范围相接近，海豚的听觉频率范围最大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猫  海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76801"/>
          <p:cNvSpPr/>
          <p:nvPr/>
        </p:nvSpPr>
        <p:spPr>
          <a:xfrm>
            <a:off x="650880" y="1274760"/>
            <a:ext cx="77216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水壶向暖水瓶中倒水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所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凭经验就可以听出暖水瓶里装得满不满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为什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声音就可以知道水装得满不满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根据倒水时，发出的声音的音调来判断的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要装满时，听到的声音音调变高，比较尖细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76802" descr=""/>
          <p:cNvPicPr/>
          <p:nvPr/>
        </p:nvPicPr>
        <p:blipFill>
          <a:blip r:embed="rId1"/>
          <a:stretch/>
        </p:blipFill>
        <p:spPr>
          <a:xfrm>
            <a:off x="6475320" y="1500120"/>
            <a:ext cx="15811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文本框 77825"/>
          <p:cNvSpPr/>
          <p:nvPr/>
        </p:nvSpPr>
        <p:spPr>
          <a:xfrm>
            <a:off x="720720" y="2138400"/>
            <a:ext cx="7721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因为，向暖水瓶里装水时，暖水瓶中的空气柱会振动发声，当快要装满时，瓶中的空气柱又短又细，振动时发出的声音音调高，所以，当我们听到比较尖细的声音时就知道快装满了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78849"/>
          <p:cNvSpPr/>
          <p:nvPr/>
        </p:nvSpPr>
        <p:spPr>
          <a:xfrm>
            <a:off x="739800" y="836640"/>
            <a:ext cx="7682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所示是声音输入到示波器上时显示振幅与时间关系的波形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其中声音音调相同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，响度相同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78850" descr=""/>
          <p:cNvPicPr/>
          <p:nvPr/>
        </p:nvPicPr>
        <p:blipFill>
          <a:blip r:embed="rId1"/>
          <a:stretch/>
        </p:blipFill>
        <p:spPr>
          <a:xfrm>
            <a:off x="2178000" y="2470320"/>
            <a:ext cx="534204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文本框 79873"/>
          <p:cNvSpPr/>
          <p:nvPr/>
        </p:nvSpPr>
        <p:spPr>
          <a:xfrm>
            <a:off x="719280" y="2035080"/>
            <a:ext cx="76816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调是由频率决定的，甲和乙在相同时间内振动的次数相同，即频率相同，即甲和乙音调相同；响度和振幅有关，乙和丙的振幅相同，即乙和丙的响度相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  乙  乙  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80897"/>
          <p:cNvSpPr/>
          <p:nvPr/>
        </p:nvSpPr>
        <p:spPr>
          <a:xfrm>
            <a:off x="709560" y="973080"/>
            <a:ext cx="76820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一种专门存放贵重物品的“银行”，当人们存放了自己的贵重物品后，要用仪器记录下自己的“手纹”、“眼纹”、“声纹”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以便今后用这些自己独有的特征才能亲自取走物品，防止被别人领走，这里的“声纹”记录的是人说话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音调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响度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音色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三者都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说话的音调、响度都可以发生变化，但是人说话的音色一般不会发生变化，而且，不同的人说话的音色是不同的，“声纹”主要是记录了人说话的音色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ic048"/>
          <p:cNvPicPr/>
          <p:nvPr/>
        </p:nvPicPr>
        <p:blipFill>
          <a:blip r:embed="rId1"/>
          <a:stretch/>
        </p:blipFill>
        <p:spPr>
          <a:xfrm>
            <a:off x="0" y="0"/>
            <a:ext cx="460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0" y="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99"/>
                </a:solidFill>
                <a:latin typeface="Times New Roman"/>
              </a:rPr>
              <a:t>音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060720" y="1916280"/>
            <a:ext cx="2214720" cy="990360"/>
          </a:xfrm>
          <a:prstGeom prst="ellipse">
            <a:avLst/>
          </a:prstGeom>
          <a:solidFill>
            <a:srgbClr val="ffcc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76720" y="21319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0" y="368784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什么因素决定音调的高低？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将一把钢尺紧按在桌面上，一端伸出桌边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，拨动钢尺，听它振动发出的声音，同时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注意钢尺振动的快慢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改变钢尺伸出桌边的长度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，再次拨动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注意使钢尺两次振动幅度大致相同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比较两种情况下钢尺振动的快慢和发声的音调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2995200"/>
            <a:ext cx="9144000" cy="22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000"/>
                </a:solidFill>
                <a:latin typeface="黑体"/>
                <a:ea typeface="黑体"/>
              </a:rPr>
              <a:t>音调的高低取决于发声体振动的快慢，振动越快音调越高，振动越慢音调越低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52225" descr=""/>
          <p:cNvPicPr/>
          <p:nvPr/>
        </p:nvPicPr>
        <p:blipFill>
          <a:blip r:embed="rId1"/>
          <a:stretch/>
        </p:blipFill>
        <p:spPr>
          <a:xfrm>
            <a:off x="5648400" y="2205000"/>
            <a:ext cx="3495600" cy="18097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52226"/>
          <p:cNvSpPr/>
          <p:nvPr/>
        </p:nvSpPr>
        <p:spPr>
          <a:xfrm>
            <a:off x="0" y="3492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活动二：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将硬纸片从梳子齿上划过，第一次较慢的划过，第二次较快的划过，注意听它两次振动发出的声音的音调的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52227"/>
          <p:cNvSpPr/>
          <p:nvPr/>
        </p:nvSpPr>
        <p:spPr>
          <a:xfrm>
            <a:off x="0" y="2637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思考：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哪一次发出的声音的音调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52228"/>
          <p:cNvSpPr/>
          <p:nvPr/>
        </p:nvSpPr>
        <p:spPr>
          <a:xfrm>
            <a:off x="34920" y="429264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实验结论：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较快划过时，即硬纸片振动快时，发出的音调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53249"/>
          <p:cNvSpPr/>
          <p:nvPr/>
        </p:nvSpPr>
        <p:spPr>
          <a:xfrm>
            <a:off x="34920" y="4428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</a:rPr>
              <a:t>音调与频率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53250"/>
          <p:cNvSpPr/>
          <p:nvPr/>
        </p:nvSpPr>
        <p:spPr>
          <a:xfrm>
            <a:off x="108000" y="692280"/>
            <a:ext cx="896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在物理学里，用每秒振动的次数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—</a:t>
            </a:r>
            <a:r>
              <a:rPr b="1" lang="zh-CN" sz="4400" spc="-1" strike="noStrike">
                <a:solidFill>
                  <a:srgbClr val="99cc00"/>
                </a:solidFill>
                <a:latin typeface="Arial Black"/>
              </a:rPr>
              <a:t>频率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来表示物体振动的快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3251"/>
          <p:cNvSpPr/>
          <p:nvPr/>
        </p:nvSpPr>
        <p:spPr>
          <a:xfrm>
            <a:off x="179280" y="2060640"/>
            <a:ext cx="8964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频率的单位是赫兹，符号：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H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标注 53252"/>
          <p:cNvSpPr/>
          <p:nvPr/>
        </p:nvSpPr>
        <p:spPr>
          <a:xfrm>
            <a:off x="250920" y="2781360"/>
            <a:ext cx="8424720" cy="1439640"/>
          </a:xfrm>
          <a:prstGeom prst="wedgeRoundRectCallout">
            <a:avLst>
              <a:gd name="adj1" fmla="val 36092"/>
              <a:gd name="adj2" fmla="val -55625"/>
              <a:gd name="adj3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物体在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1s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内如果振动次数是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次，它的频率就是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100H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3253"/>
          <p:cNvSpPr/>
          <p:nvPr/>
        </p:nvSpPr>
        <p:spPr>
          <a:xfrm>
            <a:off x="179280" y="4508640"/>
            <a:ext cx="8964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音调的高低跟发声体振动的频率有关，振动频率越大，音调越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23555"/>
          <p:cNvSpPr/>
          <p:nvPr/>
        </p:nvSpPr>
        <p:spPr>
          <a:xfrm>
            <a:off x="684360" y="40464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 、音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3556"/>
          <p:cNvSpPr/>
          <p:nvPr/>
        </p:nvSpPr>
        <p:spPr>
          <a:xfrm>
            <a:off x="826920" y="981000"/>
            <a:ext cx="69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概念：音调是指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声音的高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也就是我们平时所说的声音的粗细。声音越粗、越低沉，音调越低；声音越细、越尖，音调越高。比如，儿童说话的声音比较“清脆”，就是说儿童说话的音调比较高，其原因是儿童说话时，声带振动比较快的缘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3558"/>
          <p:cNvSpPr/>
          <p:nvPr/>
        </p:nvSpPr>
        <p:spPr>
          <a:xfrm>
            <a:off x="826920" y="29973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决定因素：音调的高低是由发声体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振动的频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决定的，频率越高，音调越高；频率越低，音调越低。物体的振动频率与发声体的结构有关，一般而言，大而长的物体振动频率低，小而短的物体振动频率高；物体绷得越紧，振动频率越高；物体越薄、越细，振动频率越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3559"/>
          <p:cNvSpPr/>
          <p:nvPr/>
        </p:nvSpPr>
        <p:spPr>
          <a:xfrm>
            <a:off x="971640" y="5373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频率：物体每秒振动的次数 单位 赫兹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z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14:20:11Z</dcterms:created>
  <dc:creator>USER</dc:creator>
  <dc:description/>
  <dc:language>en-US</dc:language>
  <cp:lastModifiedBy>Administrator</cp:lastModifiedBy>
  <dcterms:modified xsi:type="dcterms:W3CDTF">2016-03-10T03:26:18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