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whoosh.wav" ContentType="audio/x-wav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2016-94BC-4C75-8480-EFD51E414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0FBC-924F-4388-9C49-05153962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6D20-9285-4535-A98A-E63E1C898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1B6D-BEAD-4DF6-BFD8-EA8242716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B7BC-B4D0-4C91-8F71-4E71CB885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1C05-69F5-44F1-A4ED-2589080A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D3DB-0607-48FD-89EF-93DB7829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7C48-EA07-4EEC-9BC9-A09191F0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617B-58A3-41AF-AC67-40F8A081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6358-9D26-43A5-B56A-2741FFF4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C900-B2D9-4146-8761-D76C2146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21E2-25DA-47B7-A1B4-0BD02961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0812-C391-49EC-922F-EF60B990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8386-3F48-4973-A509-8487E567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316D-26F5-4901-B1AA-2B3674AC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26FC-0CCD-48E4-A0A9-5B2D26350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A499-A88C-483A-8D2F-1959352D4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B8CD-C577-45E4-A91A-60F3CC88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92FB-CB9D-4A82-B3ED-ECFAD9D8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3734-98CF-4F75-9663-DB11EE37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30FA-EA55-4E84-80E7-AB33C167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9CB3-EFAD-4805-B943-7E4B8323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112F-65A9-47A8-943F-904E7E74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B0C2-0567-46FE-919B-597DA541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0B41-C67A-4DD1-8ED1-3B907C6A2727}" type="slidenum"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398160" cy="6915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7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8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5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4705-1500-44D9-AAA7-32156F44ACC8}" type="slidenum"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6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000" y="907560"/>
            <a:ext cx="7343640" cy="20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>
                <a:solidFill>
                  <a:srgbClr val="996633"/>
                </a:solidFill>
                <a:latin typeface="Times New Roman"/>
              </a:rPr>
              <a:t>电和磁</a:t>
            </a:r>
            <a:endParaRPr b="0" i="1" lang="en-US" sz="8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996633"/>
                </a:solidFill>
                <a:latin typeface="Times New Roman"/>
              </a:rPr>
              <a:t>想一想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通电后，轻轻敲板，铁屑为什么会产生规则排列？铁屑的排列与什么现象一样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铁屑磁化变成“小磁针”，轻敲使铁屑可自由转动．使铁屑按磁场进行排列．其排列与条形磁体的排列相同，通电螺线管相当于条形磁体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996633"/>
                </a:solidFill>
                <a:latin typeface="Times New Roman"/>
              </a:rPr>
              <a:t>想一想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改变通电方向，小磁针的指向有什么不同，说明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小磁针指向相反，说明通电螺线管两端的极性与通电电流有关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996633"/>
                </a:solidFill>
                <a:latin typeface="宋体"/>
              </a:rPr>
              <a:t>三、安培定则．</a:t>
            </a:r>
            <a:r>
              <a:rPr b="0" i="1" lang="zh-CN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通电螺线管相当于一个条形磁体，其极性和电流方向的关系符合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安培定则——右手螺旋定则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996633"/>
                </a:solidFill>
                <a:latin typeface="Times New Roman"/>
              </a:rPr>
              <a:t>安培定则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右手握螺线管，让四指弯向螺线管电流的方向，则大拇指所指的那端就是螺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管的北极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endshow"/>
          </p:cNvPr>
          <p:cNvSpPr/>
          <p:nvPr/>
        </p:nvSpPr>
        <p:spPr>
          <a:xfrm>
            <a:off x="324324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ch113_4" descr=""/>
          <p:cNvPicPr/>
          <p:nvPr/>
        </p:nvPicPr>
        <p:blipFill>
          <a:blip r:embed="rId1"/>
          <a:stretch/>
        </p:blipFill>
        <p:spPr>
          <a:xfrm>
            <a:off x="5181480" y="2438280"/>
            <a:ext cx="4191120" cy="3581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3" y="17806"/>
                </a:lnTo>
                <a:lnTo>
                  <a:pt x="7393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结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600200" y="30492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rId3" action="ppaction://hlinksldjump"/>
          </p:cNvPr>
          <p:cNvSpPr/>
          <p:nvPr/>
        </p:nvSpPr>
        <p:spPr>
          <a:xfrm>
            <a:off x="7696080" y="640080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369" h="21600">
                <a:moveTo>
                  <a:pt x="27178" y="10800"/>
                </a:moveTo>
                <a:lnTo>
                  <a:pt x="41191" y="3794"/>
                </a:lnTo>
                <a:lnTo>
                  <a:pt x="41191" y="17806"/>
                </a:lnTo>
                <a:close/>
              </a:path>
            </a:pathLst>
          </a:cu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5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371600" y="228600"/>
            <a:ext cx="6705720" cy="5486400"/>
          </a:xfrm>
          <a:prstGeom prst="rect">
            <a:avLst/>
          </a:prstGeom>
          <a:ln w="0">
            <a:noFill/>
          </a:ln>
        </p:spPr>
      </p:pic>
      <p:sp>
        <p:nvSpPr>
          <p:cNvPr id="146" name="">
            <a:hlinkClick r:id="rId3" action="ppaction://hlinksldjump"/>
          </p:cNvPr>
          <p:cNvSpPr/>
          <p:nvPr/>
        </p:nvSpPr>
        <p:spPr>
          <a:xfrm>
            <a:off x="7696080" y="6324480"/>
            <a:ext cx="1447920" cy="533520"/>
          </a:xfrm>
          <a:custGeom>
            <a:avLst/>
            <a:gdLst>
              <a:gd name="textAreaLeft" fmla="*/ 34560 w 1447920"/>
              <a:gd name="textAreaRight" fmla="*/ 1413360 w 14479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8595" h="21600">
                <a:moveTo>
                  <a:pt x="0" y="0"/>
                </a:moveTo>
                <a:lnTo>
                  <a:pt x="58595" y="0"/>
                </a:lnTo>
                <a:lnTo>
                  <a:pt x="58595" y="21600"/>
                </a:lnTo>
                <a:lnTo>
                  <a:pt x="0" y="21600"/>
                </a:lnTo>
                <a:close/>
              </a:path>
              <a:path fill="lightenLess" w="58595" h="21600">
                <a:moveTo>
                  <a:pt x="0" y="0"/>
                </a:moveTo>
                <a:lnTo>
                  <a:pt x="58595" y="0"/>
                </a:lnTo>
                <a:lnTo>
                  <a:pt x="57195" y="1400"/>
                </a:lnTo>
                <a:lnTo>
                  <a:pt x="1400" y="1400"/>
                </a:lnTo>
                <a:close/>
              </a:path>
              <a:path fill="darken" w="58595" h="21600">
                <a:moveTo>
                  <a:pt x="58595" y="0"/>
                </a:moveTo>
                <a:lnTo>
                  <a:pt x="58595" y="21600"/>
                </a:lnTo>
                <a:lnTo>
                  <a:pt x="57195" y="20200"/>
                </a:lnTo>
                <a:lnTo>
                  <a:pt x="57195" y="1400"/>
                </a:lnTo>
                <a:close/>
              </a:path>
              <a:path fill="darkenLess" w="58595" h="21600">
                <a:moveTo>
                  <a:pt x="585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195" y="20200"/>
                </a:lnTo>
                <a:close/>
              </a:path>
              <a:path fill="lighten" w="585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595" h="21600">
                <a:moveTo>
                  <a:pt x="22291" y="10800"/>
                </a:moveTo>
                <a:lnTo>
                  <a:pt x="36304" y="3794"/>
                </a:lnTo>
                <a:lnTo>
                  <a:pt x="36304" y="17806"/>
                </a:lnTo>
                <a:close/>
              </a:path>
            </a:pathLst>
          </a:cu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7162560" cy="5859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543800" y="533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848720" y="1905120"/>
            <a:ext cx="7617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996633"/>
                </a:solidFill>
                <a:latin typeface="Times New Roman"/>
              </a:rPr>
              <a:t>奥斯特实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3" action="ppaction://hlinksldjump"/>
          </p:cNvPr>
          <p:cNvSpPr/>
          <p:nvPr/>
        </p:nvSpPr>
        <p:spPr>
          <a:xfrm>
            <a:off x="7772400" y="6477120"/>
            <a:ext cx="1371600" cy="38088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6331" y="1400"/>
                </a:lnTo>
                <a:lnTo>
                  <a:pt x="1400" y="14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6331" y="20200"/>
                </a:lnTo>
                <a:lnTo>
                  <a:pt x="76331" y="14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31" y="202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731" h="21600">
                <a:moveTo>
                  <a:pt x="31859" y="10800"/>
                </a:moveTo>
                <a:lnTo>
                  <a:pt x="45872" y="3794"/>
                </a:lnTo>
                <a:lnTo>
                  <a:pt x="45872" y="17806"/>
                </a:lnTo>
                <a:close/>
              </a:path>
            </a:pathLst>
          </a:cu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带电体和磁体有一些相似的性质，这些相似是一种巧合呢？还是它们之间存在着某些联系呢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996633"/>
                </a:solidFill>
                <a:latin typeface="Times New Roman"/>
              </a:rPr>
              <a:t>一、奥斯特实验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科学家们基于这种想法，一次又一次地寻找电与磁的联系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82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年丹麦物理学家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奥斯特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终于用实验证实通电导体的周围存在着磁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这一重大发现轰动了科学界，使电磁学进入一个新的发展时期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447920" y="304920"/>
          <a:ext cx="4071960" cy="594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304920"/>
                    <a:ext cx="407196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5638680" y="457200"/>
            <a:ext cx="32767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丹麦物理学家奥斯特发现的电流磁效应，是科学史上的重大发现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揭开了物理学史上的一个新纪元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奥斯特不只是一位著名的物理学家，还是一位优秀的教师．他的讲课有表演，有分析．他非常重视实验，他说过“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我不喜欢那种没有实验的枯燥的讲课，因为归根到底，所有的科学进展都是从实验开始的”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996633"/>
                </a:solidFill>
                <a:latin typeface="Times New Roman"/>
              </a:rPr>
              <a:t>演示实验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将直导线与小磁针平行并放在小磁针的上方和下方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观察（</a:t>
            </a:r>
            <a:r>
              <a:rPr b="0" lang="zh-CN" sz="3600" spc="-1" strike="noStrike" u="sng">
                <a:solidFill>
                  <a:srgbClr val="cc9900"/>
                </a:solidFill>
                <a:uFillTx/>
                <a:latin typeface="宋体"/>
                <a:hlinkClick r:id="rId2" action="ppaction://hlinksldjump"/>
              </a:rPr>
              <a:t>点击观看实验视频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．当直导线通电时产生什么现象．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．断电后发生什么现象．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．改变通电电流的方向后发生什么现象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996633"/>
                </a:solidFill>
                <a:latin typeface="宋体"/>
              </a:rPr>
              <a:t>观察到的物理现象</a:t>
            </a:r>
            <a:r>
              <a:rPr b="0" i="1" lang="zh-CN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通电时小磁针发生偏转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断电时小磁针转回到指南北的方向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说明： …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通电导线周围存在磁场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通电电流方向相反，小磁针偏转方向也相反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说明：…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磁场方向与电流方向有关．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996633"/>
                </a:solidFill>
                <a:latin typeface="Times New Roman"/>
              </a:rPr>
              <a:t>总结奥斯特实验</a:t>
            </a:r>
            <a:r>
              <a:rPr b="0" i="1" lang="zh-CN" sz="4400" spc="-1" strike="noStrike">
                <a:solidFill>
                  <a:srgbClr val="996633"/>
                </a:solidFill>
                <a:latin typeface="Times New Roman"/>
              </a:rPr>
              <a:t>：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现象：导线通电，周围小磁针发生偏转；通电电流方向改变，小磁针偏转方向相反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规律：通电导线周围存在磁场；磁场方向与电流方向有关．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996633"/>
                </a:solidFill>
                <a:latin typeface="Times New Roman"/>
              </a:rPr>
              <a:t>二、通电螺线管的磁场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观察铁屑的分布和小磁针的指向．在板上均匀撒满铁屑在螺线管两端各放一个小磁针，通电后观察小磁针的指向．轻轻敲板，观察铁屑的排列．改变电流方向再观察一次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9900"/>
                </a:solidFill>
                <a:uFillTx/>
                <a:latin typeface="Times New Roman"/>
                <a:hlinkClick r:id="rId2" action="ppaction://hlinksldjump"/>
              </a:rPr>
              <a:t>实验演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板上均匀撒满铁屑，通电后轻轻敲板，观察铁屑的排列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9900"/>
                </a:solidFill>
                <a:uFillTx/>
                <a:latin typeface="Times New Roman"/>
                <a:hlinkClick r:id="rId3" action="ppaction://hlinksldjump"/>
              </a:rPr>
              <a:t>实验演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996633"/>
                </a:solidFill>
                <a:latin typeface="Times New Roman"/>
              </a:rPr>
              <a:t>想一想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通电前小磁针如何指向，通电后发生什么现象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原来小磁针指南北，通电后磁针偏转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恒谦教育网(www.hengqian.com)</dc:creator>
  <dc:description>恒谦教育网(www.hengqian.com)</dc:description>
  <cp:keywords>恒谦教育网(www.hengqian.com)</cp:keywords>
  <dc:language>en-US</dc:language>
  <cp:lastModifiedBy>恒谦教育网 http://www.hengqian.com</cp:lastModifiedBy>
  <dcterms:modified xsi:type="dcterms:W3CDTF">2010-05-09T23:34:01Z</dcterms:modified>
  <cp:revision>1</cp:revision>
  <dc:subject>恒谦教育网(www.hengqian.com)</dc:subject>
  <dc:title>恒谦教育网(www.hengqian.com)</dc:title>
</cp:coreProperties>
</file>