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E11-4534-4D1D-A12B-95DE6581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B82-EE33-4267-A2C0-EC0324CC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DAD-629F-45D5-A88C-99B43429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CDD-434C-4450-A144-38A14C89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CE06-A1F0-454F-AA6E-F66EEEE7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D77A-3A03-458E-9517-43CE1BC1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0919-14C7-483A-934B-FD66917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7AD9-6D1F-4146-8AAD-9401C843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544A-55EB-4C23-8497-6D991ABA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0FE2-F625-48E2-8954-75323941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4DEE-6988-49C7-BD55-7F1F891E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65E-6629-4341-AD74-BAE47EDD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82A4-B341-4497-AAD6-23F0929F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90F1-8E37-4A03-9573-BD36D22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7A4E-EEE5-4BE8-B43F-CE35A277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6244-C62D-40F1-A677-90BAB6AA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FF3C-EB1E-4543-A5BF-A9CCE341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623-7F8B-4809-9E5E-E4846046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F78-6871-4CC0-ADC3-6634A2A2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16D-DE8B-4880-8F9E-35D8CCE8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7C8-20F3-4301-9574-04DF05B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1A5-4D50-420A-8185-54005ABC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C83-64AD-43D7-9DA4-A9820D14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F50-911B-4F74-8F5A-41ED6820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EA84-4DF0-4A33-AC07-CBDD8D734204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7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8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5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E84-9813-400C-8696-EEC93948EC03}" type="slidenum">
              <a:rPr b="0" lang="zh-CN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343640" cy="20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996633"/>
                </a:solidFill>
                <a:latin typeface="Times New Roman"/>
              </a:rPr>
              <a:t>电和磁</a:t>
            </a:r>
            <a:endParaRPr b="0" i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后，轻轻敲板，铁屑为什么会产生规则排列？铁屑的排列与什么现象一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铁屑磁化变成“小磁针”，轻敲使铁屑可自由转动．使铁屑按磁场进行排列．其排列与条形磁体的排列相同，通电螺线管相当于条形磁体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改变通电方向，小磁针的指向有什么不同，说明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磁针指向相反，说明通电螺线管两端的极性与通电电流有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宋体"/>
              </a:rPr>
              <a:t>三、安培定则．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螺线管相当于一个条形磁体，其极性和电流方向的关系符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培定则——右手螺旋定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安培定则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右手握螺线管，让四指弯向螺线管电流的方向，则大拇指所指的那端就是螺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的北极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endshow"/>
          </p:cNvPr>
          <p:cNvSpPr/>
          <p:nvPr/>
        </p:nvSpPr>
        <p:spPr>
          <a:xfrm>
            <a:off x="32432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h113_4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4191120" cy="358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3" y="17806"/>
                </a:lnTo>
                <a:lnTo>
                  <a:pt x="7393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696080" y="640080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69" h="21600">
                <a:moveTo>
                  <a:pt x="27178" y="10800"/>
                </a:moveTo>
                <a:lnTo>
                  <a:pt x="41191" y="3794"/>
                </a:lnTo>
                <a:lnTo>
                  <a:pt x="41191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6705720" cy="54864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7696080" y="6324480"/>
            <a:ext cx="1447920" cy="53352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95" h="21600">
                <a:moveTo>
                  <a:pt x="0" y="0"/>
                </a:moveTo>
                <a:lnTo>
                  <a:pt x="58595" y="0"/>
                </a:lnTo>
                <a:lnTo>
                  <a:pt x="58595" y="21600"/>
                </a:lnTo>
                <a:lnTo>
                  <a:pt x="0" y="21600"/>
                </a:lnTo>
                <a:close/>
              </a:path>
              <a:path fill="lightenLess" w="58595" h="21600">
                <a:moveTo>
                  <a:pt x="0" y="0"/>
                </a:moveTo>
                <a:lnTo>
                  <a:pt x="58595" y="0"/>
                </a:lnTo>
                <a:lnTo>
                  <a:pt x="57195" y="1400"/>
                </a:lnTo>
                <a:lnTo>
                  <a:pt x="1400" y="1400"/>
                </a:lnTo>
                <a:close/>
              </a:path>
              <a:path fill="darken" w="58595" h="21600">
                <a:moveTo>
                  <a:pt x="58595" y="0"/>
                </a:moveTo>
                <a:lnTo>
                  <a:pt x="58595" y="21600"/>
                </a:lnTo>
                <a:lnTo>
                  <a:pt x="57195" y="20200"/>
                </a:lnTo>
                <a:lnTo>
                  <a:pt x="57195" y="1400"/>
                </a:lnTo>
                <a:close/>
              </a:path>
              <a:path fill="darkenLess" w="58595" h="21600">
                <a:moveTo>
                  <a:pt x="58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95" y="20200"/>
                </a:lnTo>
                <a:close/>
              </a:path>
              <a:path fill="lighten" w="58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95" h="21600">
                <a:moveTo>
                  <a:pt x="22291" y="10800"/>
                </a:moveTo>
                <a:lnTo>
                  <a:pt x="36304" y="3794"/>
                </a:lnTo>
                <a:lnTo>
                  <a:pt x="36304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7162560" cy="5859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43800" y="533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1905120"/>
            <a:ext cx="761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奥斯特实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1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1" y="20200"/>
                </a:lnTo>
                <a:lnTo>
                  <a:pt x="76331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1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31" h="21600">
                <a:moveTo>
                  <a:pt x="31859" y="10800"/>
                </a:moveTo>
                <a:lnTo>
                  <a:pt x="45872" y="3794"/>
                </a:lnTo>
                <a:lnTo>
                  <a:pt x="45872" y="17806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带电体和磁体有一些相似的性质，这些相似是一种巧合呢？还是它们之间存在着某些联系呢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一、奥斯特实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科学家们基于这种想法，一次又一次地寻找电与磁的联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年丹麦物理学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奥斯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终于用实验证实通电导体的周围存在着磁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一重大发现轰动了科学界，使电磁学进入一个新的发展时期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304920"/>
          <a:ext cx="407196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04920"/>
                    <a:ext cx="4071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638680" y="457200"/>
            <a:ext cx="3276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丹麦物理学家奥斯特发现的电流磁效应，是科学史上的重大发现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揭开了物理学史上的一个新纪元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奥斯特不只是一位著名的物理学家，还是一位优秀的教师．他的讲课有表演，有分析．他非常重视实验，他说过“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我不喜欢那种没有实验的枯燥的讲课，因为归根到底，所有的科学进展都是从实验开始的”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演示实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将直导线与小磁针平行并放在小磁针的上方和下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观察（</a:t>
            </a:r>
            <a:r>
              <a:rPr b="0" lang="zh-CN" sz="3600" spc="-1" strike="noStrike" u="sng">
                <a:solidFill>
                  <a:srgbClr val="cc9900"/>
                </a:solidFill>
                <a:uFillTx/>
                <a:latin typeface="宋体"/>
                <a:hlinkClick r:id="rId2" action="ppaction://hlinksldjump"/>
              </a:rPr>
              <a:t>点击观看实验视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当直导线通电时产生什么现象．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断电后发生什么现象．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改变通电电流的方向后发生什么现象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宋体"/>
              </a:rPr>
              <a:t>观察到的物理现象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通电时小磁针发生偏转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断电时小磁针转回到指南北的方向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明： 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导线周围存在磁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通电电流方向相反，小磁针偏转方向也相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明：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磁场方向与电流方向有关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总结奥斯特实验</a:t>
            </a: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：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象：导线通电，周围小磁针发生偏转；通电电流方向改变，小磁针偏转方向相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律：通电导线周围存在磁场；磁场方向与电流方向有关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33"/>
                </a:solidFill>
                <a:latin typeface="Times New Roman"/>
              </a:rPr>
              <a:t>二、通电螺线管的磁场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观察铁屑的分布和小磁针的指向．在板上均匀撒满铁屑在螺线管两端各放一个小磁针，通电后观察小磁针的指向．轻轻敲板，观察铁屑的排列．改变电流方向再观察一次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2" action="ppaction://hlinksldjump"/>
              </a:rPr>
              <a:t>实验演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板上均匀撒满铁屑，通电后轻轻敲板，观察铁屑的排列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00"/>
                </a:solidFill>
                <a:uFillTx/>
                <a:latin typeface="Times New Roman"/>
                <a:hlinkClick r:id="rId3" action="ppaction://hlinksldjump"/>
              </a:rPr>
              <a:t>实验演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想一想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电前小磁针如何指向，通电后发生什么现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来小磁针指南北，通电后磁针偏转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4:01Z</dcterms:modified>
  <cp:revision>1</cp:revision>
  <dc:subject>恒谦教育网(www.hengqian.com)</dc:subject>
  <dc:title>恒谦教育网(www.hengqian.com)</dc:title>
</cp:coreProperties>
</file>