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2894-1C8A-4585-A797-CF419177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2080-6F31-4AAA-9CFF-792C5ED2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60AF-766F-4E3F-9459-79F803F0F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1B98-8F66-4337-B8EA-D4F9BEFC6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21CDD-80E4-48D8-828D-E1EF755A8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CD6B-5AB4-4B31-8249-7D9CC532A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24858-4560-4F8A-8FD3-B409ADD5D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B4D3-BAE2-4DDE-A548-2B86EAC41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03D50-D877-46A1-AE7C-C436E4AF9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7B360-D42E-4412-997C-90C9008D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6E7C-22C4-47FE-B18D-15277A3AC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C75-4956-4654-9384-9695D6A9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2B3E-5894-44CD-9588-37696122E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7021D-1B1A-4A63-A730-1E4B586C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41462-1026-40D0-9C5E-D591862DD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95EB5-F06A-49A6-BD8B-3ED89B5A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CFC8-D3FD-45BF-B53F-8D484EAD8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8C0B-72DA-41F7-8C85-96DCBA917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BE4D-C4E3-4EE8-A9DF-F4F0808D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D560-09A5-4954-A192-104B20CD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9FFB-2EE9-43D6-9A97-EF049603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A41-C360-43A7-A890-64AA83F1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E780-9334-46A7-8610-E9D5ACBA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4089-D6E4-4BD7-A99F-18DBDA76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2D5ED-1E08-45AF-A4DC-CE6C219682A9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398160" cy="691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5633-C36F-47D0-8B67-2E0C49F77323}" type="slidenum">
              <a:rPr b="0" lang="zh-CN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0005;&#30913;&#32487;&#30005;&#22120;.swf" TargetMode="External"/><Relationship Id="rId3" Type="http://schemas.openxmlformats.org/officeDocument/2006/relationships/hyperlink" Target="file:///&#27700;&#20301;&#25253;&#35686;&#22120;.swf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3399"/>
                </a:solidFill>
                <a:latin typeface="华文行楷"/>
                <a:ea typeface="华文行楷"/>
              </a:rPr>
              <a:t>§5</a:t>
            </a:r>
            <a:r>
              <a:rPr b="0" lang="zh-CN" sz="6000" spc="-1" strike="noStrike">
                <a:solidFill>
                  <a:srgbClr val="003399"/>
                </a:solidFill>
                <a:latin typeface="华文行楷"/>
                <a:ea typeface="华文行楷"/>
              </a:rPr>
              <a:t>电磁铁及其应用</a:t>
            </a:r>
            <a:endParaRPr b="0" lang="en-US" sz="6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01680" y="155736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电磁铁的磁性强弱跟哪些因素有关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你能设计实验来探究一下吗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电磁铁的实际应用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电磁起重机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254480" y="549360"/>
            <a:ext cx="39895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258920" y="-27000"/>
            <a:ext cx="6440400" cy="3267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042920" y="649440"/>
            <a:ext cx="6877080" cy="58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电磁铁的实际应用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940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电铃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565440" y="2852640"/>
            <a:ext cx="5435640" cy="35434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846000" y="2852640"/>
            <a:ext cx="2694240" cy="3529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5724360" y="6021360"/>
            <a:ext cx="1368720" cy="36036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电磁铁的实际应用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320" y="1905120"/>
            <a:ext cx="657540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电磁继电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结构和工作电路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               </a:t>
            </a:r>
            <a:r>
              <a:rPr b="0" lang="zh-CN" sz="28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应用：水位报警器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5T11:14:39Z</dcterms:created>
  <dc:creator>恒谦教育网(www.hengqian.com)</dc:creator>
  <dc:description>恒谦教育网(www.hengqian.com)</dc:description>
  <cp:keywords>恒谦教育网(www.hengqian.com)</cp:keywords>
  <dc:language>en-US</dc:language>
  <cp:lastModifiedBy>恒谦教育网 http://www.hengqian.com</cp:lastModifiedBy>
  <dcterms:modified xsi:type="dcterms:W3CDTF">2010-05-09T23:34:00Z</dcterms:modified>
  <cp:revision>1</cp:revision>
  <dc:subject>恒谦教育网(www.hengqian.com)</dc:subject>
  <dc:title>恒谦教育网(www.hengqian.com)</dc:title>
</cp:coreProperties>
</file>