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7AA-2DF4-4A66-84F4-15D2C1D1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465-C943-4120-B6BC-11628EE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701-2863-4E04-A988-837655F9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D1F-341D-426A-BA21-0697629A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427-CCFE-4678-8D06-5750FD07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E7C-C2F2-4B57-947B-46721881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FB6-98E4-4E79-AF09-354A79E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3CE-C3D8-4092-9EAA-73425E15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1DA-E53B-4DB4-BB30-D0F99ED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19E-CA43-4ABC-89EA-2B2100D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92F-DDEF-4141-9428-3D68B7B2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D18-5BA2-4044-8881-201813C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9E2-92F9-4CFB-9F6A-F5BD7E50EB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9960" y="1847880"/>
            <a:ext cx="450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流做功的实质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37120" y="184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电能转化为其它形式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8840" y="3143160"/>
            <a:ext cx="613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电能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国际主单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符号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用单位还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符号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768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焦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5280" y="3038400"/>
            <a:ext cx="3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51560" y="3525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瓦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12280" y="353844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kW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9840" y="4522680"/>
            <a:ext cx="705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电器上消耗的电能等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乘积，公式为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74320" y="43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01600" y="43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81600" y="4964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4680" y="4976640"/>
            <a:ext cx="16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476280"/>
            <a:ext cx="20160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复习：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620640"/>
            <a:ext cx="4968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测量小灯泡的电功率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1320840" y="18414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测量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1700280"/>
            <a:ext cx="2160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P=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2520" y="24890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计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20840" y="320976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6560" y="3860640"/>
            <a:ext cx="44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实验测量哪三种情况的实际功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42640" y="4797360"/>
            <a:ext cx="44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电压表和电流表的量程怎么选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6560" y="5729400"/>
            <a:ext cx="53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闭合开关前，滑动变阻器的滑片置于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1200" y="162864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不同的用电器，电流做功（电能消耗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慢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622440"/>
            <a:ext cx="266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提出问题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2997360"/>
            <a:ext cx="266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进行实验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4222800"/>
            <a:ext cx="158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结论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473200" y="4289400"/>
            <a:ext cx="47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能表铝盘转动快慢不同，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83200" y="5013360"/>
            <a:ext cx="63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13360" y="4892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用电器消耗电能的快慢不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260280"/>
            <a:ext cx="288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电功率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3" name=""/>
          <p:cNvSpPr/>
          <p:nvPr/>
        </p:nvSpPr>
        <p:spPr>
          <a:xfrm>
            <a:off x="2847240" y="1268280"/>
            <a:ext cx="2874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物理含义：电功率是表示电流做功（用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耗电能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6080" y="27082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960" y="395604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公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51280" y="3984480"/>
                <a:ext cx="2374920" cy="17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195640" y="3716280"/>
            <a:ext cx="792000" cy="1656000"/>
          </a:xfrm>
          <a:prstGeom prst="borderCallout2">
            <a:avLst>
              <a:gd name="adj1" fmla="val 18750"/>
              <a:gd name="adj2" fmla="val -8333"/>
              <a:gd name="adj3" fmla="val 6902"/>
              <a:gd name="adj4" fmla="val 173949"/>
              <a:gd name="adj5" fmla="val 47652"/>
              <a:gd name="adj6" fmla="val 240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3500280"/>
            <a:ext cx="2556000" cy="71928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-15402"/>
              <a:gd name="adj5" fmla="val 84546"/>
              <a:gd name="adj6" fmla="val -2819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做的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5229360"/>
            <a:ext cx="1652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0069"/>
              <a:gd name="adj5" fmla="val -11981"/>
              <a:gd name="adj6" fmla="val -5667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2637000"/>
            <a:ext cx="27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位时间（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秒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消耗的电能的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79640" y="333360"/>
            <a:ext cx="288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电功率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765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8000" y="1209600"/>
            <a:ext cx="31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单位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，符号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2800" y="1125360"/>
            <a:ext cx="6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46640" y="10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瓦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35400" y="1719360"/>
            <a:ext cx="21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W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J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02320" y="2633760"/>
            <a:ext cx="43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功率的单位还有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符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251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千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1640" y="2511360"/>
            <a:ext cx="9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k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3720" y="3284640"/>
            <a:ext cx="47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k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40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40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J/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4000" y="4292640"/>
            <a:ext cx="18716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注意事项：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3583440" y="40482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电功率时，各个物理量的单位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须配套使用，统一使用国际主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1720" y="502920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09680" y="5029200"/>
            <a:ext cx="19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瓦特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W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4360" y="59626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54039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72680" y="5530680"/>
            <a:ext cx="6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590724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2600" y="5533920"/>
            <a:ext cx="16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焦耳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J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633888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7320" y="6027840"/>
            <a:ext cx="14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秒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72040" y="499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功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952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08400" y="600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920" y="115920"/>
            <a:ext cx="14414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214280" y="1389240"/>
            <a:ext cx="36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功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21680" y="29005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知道了电功率能求电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36800" y="189864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电功：用电器消耗电能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多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8880" y="2401920"/>
            <a:ext cx="38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电功率：用电器消耗电能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快慢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7440" y="3476520"/>
            <a:ext cx="44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根据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W/t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得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4052880"/>
            <a:ext cx="25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瓦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两个单位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3720" y="4581360"/>
            <a:ext cx="28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瓦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157720"/>
            <a:ext cx="26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  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3440" y="461016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电功（电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多少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的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81280" y="515448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电功率（做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快慢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的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781600"/>
            <a:ext cx="6877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瓦时是功率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千瓦的用电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小时所消耗的电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2280" y="120600"/>
            <a:ext cx="40453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在你知道了用电器上标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含义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33336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怎样测电功率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156040" y="1628640"/>
            <a:ext cx="411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电器消耗电能的多少与什么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计算用电器上消耗的电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7240" y="380844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怎样测电功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7720" y="2781360"/>
            <a:ext cx="2288160" cy="70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U I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3200" y="5176800"/>
            <a:ext cx="30448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W/t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U 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754520"/>
            <a:ext cx="2155680" cy="619200"/>
          </a:xfrm>
          <a:prstGeom prst="borderCallout2">
            <a:avLst>
              <a:gd name="adj1" fmla="val 18750"/>
              <a:gd name="adj2" fmla="val -8333"/>
              <a:gd name="adj3" fmla="val 18462"/>
              <a:gd name="adj4" fmla="val 116643"/>
              <a:gd name="adj5" fmla="val 88203"/>
              <a:gd name="adj6" fmla="val 1302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功率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00680" y="4610160"/>
            <a:ext cx="23716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3652"/>
              <a:gd name="adj5" fmla="val 101564"/>
              <a:gd name="adj6" fmla="val -24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93040" y="5877000"/>
            <a:ext cx="2011320" cy="576360"/>
          </a:xfr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6019920"/>
            <a:ext cx="3816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注意单位配套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电功率公式可变形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6456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单位：用国际主单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U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－伏特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V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－安培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R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－欧姆（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628640"/>
            <a:ext cx="38880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P=U</a:t>
            </a:r>
            <a:r>
              <a:rPr b="1" lang="en-US" sz="40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/R=I</a:t>
            </a:r>
            <a:r>
              <a:rPr b="1" lang="en-US" sz="40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765000"/>
            <a:ext cx="18716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"/>
          <p:cNvSpPr/>
          <p:nvPr/>
        </p:nvSpPr>
        <p:spPr>
          <a:xfrm>
            <a:off x="4018680" y="2205000"/>
            <a:ext cx="11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道功率与电压、电流的关系后，还有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么方法可以求电流、电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51320" y="39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404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987640" y="3724200"/>
                <a:ext cx="13748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55960" y="4948200"/>
                <a:ext cx="13287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00000" y="260280"/>
            <a:ext cx="468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际功率和额定功率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1780920" y="1785960"/>
            <a:ext cx="54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常工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电压叫额定电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额定电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工作时的功率叫额定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12826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额定功率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33577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实际功率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8624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电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际工作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电流和电压计算出来的功率叫实际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5300640"/>
            <a:ext cx="77835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电器在额定电压下工作时，这时的实际功率就是额定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31:52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1Z</dcterms:modified>
  <cp:revision>1</cp:revision>
  <dc:subject>恒谦教育网(www.hengqian.com)</dc:subject>
  <dc:title>恒谦教育网(www.hengqian.com)</dc:title>
</cp:coreProperties>
</file>