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DE9-8B39-42F2-AD94-2AADAF64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3F3-0DA7-4F80-AAEA-1167D6CA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D15-D83B-4A93-9ACB-7D1897A1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31DC-C8A0-4FE1-BC87-2361CF02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C124-A368-4DEC-93D7-329D1B7F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6D0-0D0E-4ADE-BD89-9F854A11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87B2-81CF-4D0B-BE13-EFA9F3C2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C95-853B-4577-B3BF-09F34221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204-3148-4191-8F60-E8A2F15A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C59A-B9F4-4ECD-850E-2F4A438A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84B4-04B9-4B81-9C78-35AA2100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88E9-0DB0-4AFD-BA8B-193CD846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EDA9-1049-482D-B74D-E201858C31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8160" cy="691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00560" y="285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alphaModFix amt="71000"/>
          </a:blip>
          <a:stretch/>
        </p:blipFill>
        <p:spPr>
          <a:xfrm>
            <a:off x="2050920" y="0"/>
            <a:ext cx="6242040" cy="8136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92960" y="4365720"/>
            <a:ext cx="470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左图中请标出磁铁的磁感线方向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N,S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极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右图中，请标出磁体和磁针的极性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51120" y="127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3027240" cy="3673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211640" y="404640"/>
            <a:ext cx="4030560" cy="361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1080" y="155016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360" y="308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0200" y="2714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24200" y="2641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193080" cy="4005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360" y="104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64120" y="5054760"/>
            <a:ext cx="577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标明磁铁的磁感线方向和</a:t>
            </a:r>
            <a:r>
              <a:rPr b="0" i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N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0" i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S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35120" y="343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26436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78120" y="519120"/>
            <a:ext cx="72511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三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地磁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地球是个大磁体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地球周围的磁场叫做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_________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地磁北极在地理的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_________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附近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地磁南极在地理的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_________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附近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它的形状跟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_________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的磁场很相似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我国宋代科学家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_________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是世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上第一个发现磁偏角的科学家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比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方早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_________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多年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32560" y="7178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63720" y="520560"/>
            <a:ext cx="553716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某课外学习小组的同学们，拿来一个磁针，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现它静止时一端指北，另一端指南；用手将它转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下，它静止时还是一端指北，另一端指南．下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几位同学对这种现象的解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你认为正确的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地球的重力作用使磁针一端指北，另一端指南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地球自转的影响使磁针一端指北，另一端指南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地球是个大磁体，地磁场对磁针的作用使 磁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端指北，另一端指南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磁针自身的惯性作用使它一端指北，另一端指南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45360" y="376200"/>
            <a:ext cx="546228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位同学课后讨论对磁感线的理解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分别有以下几种看法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确的是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小铁屑放到磁体周围可以看到它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规律的排列，说明磁感线是存在的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磁感线是我们为了形象的描述磁场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来的，不是客观存在的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磁感线的方向与小磁针在磁场中静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南极的指向一致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磁感线是带箭头的曲线，不可能是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95640" y="795240"/>
            <a:ext cx="6780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选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几位同学的说法中正确的是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地球是个大磁体，地球周围存在着磁场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地磁场的形状跟蹄形磁体的磁场很相似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地理的两极和地磁的两极是重合的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指南针的指向与地理的南北方向是有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角的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624720" cy="4673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59840" y="5300640"/>
            <a:ext cx="614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图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标出四只小磁针的北极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38440" y="501480"/>
            <a:ext cx="56808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磁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磁体周围的空间存在在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6960" y="2421000"/>
            <a:ext cx="522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2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磁场的基本性质是它对放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其中的磁体产生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____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的作用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03760" y="3933720"/>
            <a:ext cx="522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3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磁体间的相互作用都是通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  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____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发生的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18560" y="361800"/>
            <a:ext cx="5712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4.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磁场的方向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在磁场中的某一点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小磁针静止时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 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所指的方向就是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点的磁场方向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79840" y="286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9357" t="0" r="0" b="0"/>
          <a:stretch/>
        </p:blipFill>
        <p:spPr>
          <a:xfrm>
            <a:off x="-7381800" y="692280"/>
            <a:ext cx="154447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24200" y="2714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46786" b="0"/>
          <a:stretch/>
        </p:blipFill>
        <p:spPr>
          <a:xfrm>
            <a:off x="431640" y="620640"/>
            <a:ext cx="8712360" cy="5551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360" y="134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327480" y="329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335640" cy="4200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5112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4743720" cy="4824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47360" y="549360"/>
            <a:ext cx="599544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磁感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磁感线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可以仿照铁屑的排列情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磁体的周围画一些有方向性的曲线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一点的曲线方向都跟该点小磁针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极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的方向一致，这样的曲线叫做磁感线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13720" y="4076640"/>
            <a:ext cx="577656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磁体周围的磁感线都是从磁体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来，回到磁体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55640" y="1125360"/>
            <a:ext cx="1928196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磁感线的疏密表示了磁场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强弱．磁感线密的地方磁场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磁感线只是一种假想的线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而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却是真实存在的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6520" y="554364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431640" cy="4669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920"/>
              <a:gd name="textAreaBottom" fmla="*/ 439200 h 466920"/>
            </a:gdLst>
            <a:ahLst/>
            <a:rect l="textAreaLeft" t="textAreaTop" r="textAreaRight" b="textAreaBottom"/>
            <a:pathLst>
              <a:path w="21600" h="23364">
                <a:moveTo>
                  <a:pt x="0" y="0"/>
                </a:moveTo>
                <a:lnTo>
                  <a:pt x="21600" y="0"/>
                </a:lnTo>
                <a:lnTo>
                  <a:pt x="21600" y="23364"/>
                </a:lnTo>
                <a:lnTo>
                  <a:pt x="0" y="23364"/>
                </a:lnTo>
                <a:close/>
              </a:path>
              <a:path fill="lightenLess" w="21600" h="233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4">
                <a:moveTo>
                  <a:pt x="21600" y="0"/>
                </a:moveTo>
                <a:lnTo>
                  <a:pt x="21600" y="23364"/>
                </a:lnTo>
                <a:lnTo>
                  <a:pt x="20200" y="21964"/>
                </a:lnTo>
                <a:lnTo>
                  <a:pt x="20200" y="1400"/>
                </a:lnTo>
                <a:close/>
              </a:path>
              <a:path fill="darkenLess" w="21600" h="23364">
                <a:moveTo>
                  <a:pt x="21600" y="23364"/>
                </a:moveTo>
                <a:lnTo>
                  <a:pt x="0" y="23364"/>
                </a:lnTo>
                <a:lnTo>
                  <a:pt x="1400" y="21964"/>
                </a:lnTo>
                <a:lnTo>
                  <a:pt x="20200" y="21964"/>
                </a:lnTo>
                <a:close/>
              </a:path>
              <a:path fill="lighten" w="21600" h="23364">
                <a:moveTo>
                  <a:pt x="0" y="233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4"/>
                </a:lnTo>
                <a:close/>
              </a:path>
              <a:path fill="darken" w="21600" h="23364">
                <a:moveTo>
                  <a:pt x="3794" y="4676"/>
                </a:moveTo>
                <a:lnTo>
                  <a:pt x="17806" y="11682"/>
                </a:lnTo>
                <a:lnTo>
                  <a:pt x="3794" y="1868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03:59:13Z</dcterms:created>
  <dc:creator>恒谦教育网(www.hengqian.com)</dc:creator>
  <dc:description>恒谦教育网(www.hengqian.com)</dc:description>
  <cp:keywords>恒谦教育网(www.hengqian.com)</cp:keywords>
  <dc:language>en-US</dc:language>
  <cp:lastModifiedBy>恒谦教育网 http://www.hengqian.com</cp:lastModifiedBy>
  <dcterms:modified xsi:type="dcterms:W3CDTF">2010-05-09T23:34:00Z</dcterms:modified>
  <cp:revision>1</cp:revision>
  <dc:subject>恒谦教育网(www.hengqian.com)</dc:subject>
  <dc:title>恒谦教育网(www.hengqian.com)</dc:title>
</cp:coreProperties>
</file>