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DCE8-9F00-41E0-A046-9EA857646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8C9C-A783-4652-9909-AAE1333C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A7A0-46A1-4A8A-A16D-42E557437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CB8D-89B5-4039-8AFF-2C1CD675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4390-68E9-45C7-A474-AA5A1C4D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99B7-600F-4437-B486-1F1108D0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88CC-A99A-43A7-A412-D04FD9F9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87FD-A6EF-4364-8FEB-97148027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059C-53A7-4911-AEA5-64C506F0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4BF7-979F-492D-8254-C8D3D372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0538-484D-4F2B-9E89-2B9DAA7A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F494-B134-4CE0-B531-62CA24F8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9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9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9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E2EA-2E55-43EC-AF79-F9BC6BCE367B}" type="slidenum">
              <a:rPr b="0" lang="zh-CN" sz="1400" spc="-1" strike="noStrike">
                <a:solidFill>
                  <a:srgbClr val="000099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98160" cy="691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68280"/>
            <a:ext cx="91440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电 功 率 与</a:t>
            </a:r>
            <a:endParaRPr b="0" lang="en-US" sz="129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安 全 用 电</a:t>
            </a:r>
            <a:endParaRPr b="0" lang="en-US" sz="12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1055520"/>
            <a:ext cx="1965240" cy="468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160000" y="14778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二、保险丝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1981080"/>
            <a:ext cx="489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见见几种不常见的保险丝：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971800" y="2819520"/>
            <a:ext cx="365760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1055520"/>
            <a:ext cx="1965240" cy="468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160000" y="14778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二、保险丝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81080" y="1981080"/>
            <a:ext cx="4967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见见几种不常见的保险丝：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819520" y="2666880"/>
            <a:ext cx="3276360" cy="3276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2120" y="1055520"/>
            <a:ext cx="1965240" cy="468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160000" y="14778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二、保险丝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1981080"/>
            <a:ext cx="5038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见见几种不常见的保险丝：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200400" y="2819520"/>
            <a:ext cx="271152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62120" y="1055520"/>
            <a:ext cx="1965240" cy="468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160000" y="14778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二、保险丝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1981080"/>
            <a:ext cx="4967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见见几种不常见的保险丝：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971800" y="2819520"/>
            <a:ext cx="3137040" cy="28162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771640" y="170028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互动四：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68360" y="2924280"/>
            <a:ext cx="56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知道怎么更换保险丝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03280" y="429264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为了安全起见，首先断开电路，然后更换。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62120" y="1044720"/>
            <a:ext cx="1850760" cy="479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90440" y="144792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家庭生活中怎样预防火灾？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057400" y="2057400"/>
            <a:ext cx="491508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24000" y="189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达标反馈：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1268280"/>
            <a:ext cx="871380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我国家庭电路电压是（       ）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，所以用电功率越大，电路中电流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I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越（        ）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（      ）是烧坏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保险丝的原因，甚至引起火灾。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保险丝是用（     ）制作的，它的熔点比较（    ）电阻比较（      ），不能用（        ）（　）代替保险丝。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４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安装保险丝时应使得保险丝的（　　）电流略大于电路中所有用电器正常工作时的（　　）电流。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５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更换保险丝时首先要（　　　　）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Times New Roman"/>
                <a:ea typeface="楷体_GB2312"/>
              </a:rPr>
              <a:t>             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9640" y="333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巩固练习：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1197000"/>
            <a:ext cx="82072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１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现要安装“２２０Ｖ，２５Ｗ”的灯泡２５只应选择下列哪种规格的保险丝（　　）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Ａ熔断电流为３Ａ　　　　Ｂ额定电流为３Ａ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Ｃ熔断电流为５Ａ　　　　Ｄ额定电流为５Ａ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3716280"/>
            <a:ext cx="8424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２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某家庭用电器总功率不超过２０００Ｗ，可选做合适的电能表是（　　　）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Ａ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３８０Ｖ５Ａ　　　　　　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３８０Ｖ１０Ａ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Ｃ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２２０Ｖ１０Ａ　　　　　Ｄ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２２０Ｖ１０Ａ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9280" y="260280"/>
            <a:ext cx="8785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某家庭电路中，已知两盏电灯正常发光，如果再使用一个电熨斗，则该电路的（　　　）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Ａ总电流变大　　　　　　　　Ｂ总电压变大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Ｃ总电阻变大　　　　　　　　Ｄ总功率变大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321300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４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家庭电路中的保险丝不能用铜导线代替的原因是（　）　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Ａ电阻率大，熔点高　　　Ｂ电阻率大，熔点低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Ｃ电阻率小，熔点高　　　Ｄ电阻率小，熔点低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24000" y="220500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５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一只“２２０Ｖ５Ａ”的电能表，可以用在最大功率为（　　　）瓦的家庭电路中，现有额定电流为３安、５安、７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５安三种规格的保险丝，这个电路应选用（　　　）安的保险丝。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89120" y="990720"/>
            <a:ext cx="1954080" cy="503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74800" y="1447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你了解电的用途吗？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09680" y="2057400"/>
            <a:ext cx="4734000" cy="3971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864880" y="18900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家庭用电“十要十不要”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92280"/>
            <a:ext cx="8785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Arial"/>
                <a:ea typeface="宋体"/>
              </a:rPr>
              <a:t>    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一、要使用功率大的家电（如空调器等），须先到供电部门申请报装扩容，不要私自在原有的线路上增加用电器具。   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    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二、选用合格的用电器具，不要图便宜而采用不合格的用电器具。      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三、要严格按照用电器具有的容量选用适当截面的电线，不要盲目增加用电器，使电线超负荷运行。      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四、要选用与电线负荷相适应的保险熔丝，不要任意用粗铜丝来代替。      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五、要将相线（也称火线）进开关，不要使用“一线一地制”。      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0920" y="189000"/>
            <a:ext cx="86421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六、要对规定使用接地的用电器具金属外壳做好接地保护，不要忘记用三线插座、插头和安装接地线。      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七、要牢记在更换熔丝或检修电器前须拉开电源开关做好安全保护措施，不要冒险带电工作。      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八、要将电视机室外天线安装牢固可靠，不要高出附近避雷针或靠近高压线。      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九、使用完毕，要及时切断电熨斗、电吹风、电炉等电器的电源，不要在无人看管的情况下使用这类电器。      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十、要爱护公用电线，不要在架空线附近放风筝。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1055520"/>
            <a:ext cx="1965240" cy="468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10080" y="1477800"/>
            <a:ext cx="21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一、超负荷用电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10426" r="0" b="15134"/>
          <a:stretch/>
        </p:blipFill>
        <p:spPr>
          <a:xfrm>
            <a:off x="2362320" y="2133720"/>
            <a:ext cx="4800600" cy="35398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4613760" y="57294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用电器的总功率过大，容易发生火灾。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050920" y="1628640"/>
            <a:ext cx="47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互动一：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278136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知道家庭电路中的用电功率和电流之间的关系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1055520"/>
            <a:ext cx="1965240" cy="468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38080" y="1523880"/>
            <a:ext cx="7263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根据电功率和电流、电压的关系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P=IU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，可以得到：</a:t>
            </a:r>
            <a:br>
              <a:rPr sz="2800"/>
            </a:b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　　　　　　　　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I = P / U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3324240"/>
            <a:ext cx="71629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　　家庭电路中的电压是一定的，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U=220V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，所以用电功率越大，电路中的电流就越大。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2240" y="4664160"/>
            <a:ext cx="74836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　　注意：电路中同时使用的用电器不能太多太大，否则容易烧坏保险丝，甚至引起火灾。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68360" y="141300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互动二：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58920" y="2565360"/>
            <a:ext cx="66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了解保险丝的作用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386064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当电路中的电流超过保险丝的额定电流时，保险丝自动熔断而切断电路，起到保险的作用。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95640" y="1484280"/>
            <a:ext cx="49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互动三：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35280" y="270828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知道保险丝的材料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3860640"/>
            <a:ext cx="70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观察各种各样的保险丝，得到保险丝是由熔点比较低、电阻比较大的铅锑合金制作的。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1055520"/>
            <a:ext cx="1965240" cy="468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160000" y="14778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二、保险丝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2138400"/>
            <a:ext cx="7391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怎样来保护家用电器不会因为电流过大而烧坏？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rcRect l="0" t="19564" r="0" b="11986"/>
          <a:stretch/>
        </p:blipFill>
        <p:spPr>
          <a:xfrm>
            <a:off x="2133720" y="3048120"/>
            <a:ext cx="5048280" cy="26668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4143240" y="56833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保险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1055520"/>
            <a:ext cx="1965240" cy="468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160000" y="14778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二、保险丝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1986120"/>
            <a:ext cx="7543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怎样来保护家用电器不会因为电流过大而烧坏？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33720" y="2682720"/>
            <a:ext cx="5333760" cy="34131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7:03:11Z</dcterms:created>
  <dc:creator>恒谦教育网(www.hengqian.com)</dc:creator>
  <dc:description>恒谦教育网(www.hengqian.com)</dc:description>
  <cp:keywords>恒谦教育网(www.hengqian.com)</cp:keywords>
  <dc:language>en-US</dc:language>
  <cp:lastModifiedBy>恒谦教育网 http://www.hengqian.com</cp:lastModifiedBy>
  <dcterms:modified xsi:type="dcterms:W3CDTF">2010-05-09T23:33:57Z</dcterms:modified>
  <cp:revision>1</cp:revision>
  <dc:subject>恒谦教育网(www.hengqian.com)</dc:subject>
  <dc:title>恒谦教育网(www.hengqian.com)</dc:title>
</cp:coreProperties>
</file>