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explode.wav" ContentType="audio/x-wav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8.gif" ContentType="image/gif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gif" ContentType="image/gif"/>
  <Override PartName="/ppt/media/image23.png" ContentType="image/png"/>
  <Override PartName="/ppt/media/image21.png" ContentType="image/png"/>
  <Override PartName="/ppt/media/image20.png" ContentType="image/png"/>
  <Override PartName="/ppt/media/image19.png" ContentType="image/png"/>
  <Override PartName="/ppt/media/image22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12CAF-6AC6-4C01-BC23-1484AC02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0D947-D82B-4142-BA88-0B099E17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7ECAF-49A9-41B3-893E-83BC319B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C1CC4-9038-42E7-8164-2AFCEE1C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FE18A-8893-43AE-AA85-DD769C6C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98AA4-5126-4CCE-9B4B-A6342CBA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7365D-2FCF-4364-9287-78FD1282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B89C5-9318-425D-B0D9-5CFE034C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5E3C9-7F38-4EC0-A48F-E6B3F6F5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2B492-D646-4D26-947B-3076D9AF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CF3BD-3994-41DC-8FB0-B1502D61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E97D1-C594-44F7-B727-3DBAC93F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4FD9B-EE2F-4FE5-9BB5-2706F77D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135ED-35E2-460C-9795-7DD692F5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5679E-C9BE-4723-96E4-5A2D913E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38BBA-D8B3-40D2-9033-BB2FACA1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E6EF6-CC82-4BA8-8349-7AC79E95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07752-895B-4620-BF2D-C7ECE04B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B850B-4B19-4A56-B2A6-6078D4EC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E458B-B0FF-4D35-92F6-2027E3F0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872FB-E776-4C8A-89E1-CD1D8768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684-6B17-4E1F-91C4-425DD24E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BFB-53C5-4914-A8D9-34936756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965-651C-4A5E-A0E8-4D0B7115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AB0-4141-4A45-A563-5E45CE07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FD9-20E9-4034-9054-878D1EB4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D5C-CD7B-4882-85FA-35E727F9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41D-395F-4318-82BC-04C10541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EF5-5646-4387-9597-144E2391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24B-C2A9-41C0-A50A-030DDE59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BF0-ADA7-4A06-A544-5FCDD081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739-BF15-4DD1-8D0B-5009EA6D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984-C847-42A4-AED2-AE04B920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D8B3-916B-429E-9786-B12F8B6B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BE45-0BF9-40CE-B176-7A3E9258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6C09-8B11-45A7-9632-49C465B7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AE63-9931-43C1-A55D-F66C4B47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5375-92BD-408E-AC4F-9C7B7CF5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76E5-0A6A-4A95-8E8C-CA27B1EB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3AA0-5BD4-4B17-8D14-AACCBBAF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F7FF-286A-45AE-A566-F89242CC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3F99-A926-4493-A410-DC666702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C062-A616-4C04-B475-AC6153E9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E6DE-896E-4EE3-8A2F-44FBBC02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1150-1B84-40D1-ACA3-F881D11E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74BD-AFB9-4A6F-B7D7-C1E7B8EB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0253-9E98-44FA-B2DC-4EA9714B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6E8D-6BFE-4D95-9D7A-6541BBF8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90721-608E-4ABC-8519-B2BC77E7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1D9DE-DE60-4849-954D-7E7DDE69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9901-5128-4987-B2C7-0451012D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EBD4-DF5D-485B-BF07-81B02698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890C-BC4F-4EB1-8B51-57FA30D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1B116-F1E8-4B05-8E09-57D66CB9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CA26-6315-4A89-B4B9-B52F8AED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D1A0-8C55-498F-B89F-4B3CC5ED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6042-9285-4AA7-8914-8DDE169B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7A595-3D85-4D93-9CDB-B16A5D45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45070-0892-4DC9-86AE-3D4C27A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C4FD-3C0D-44FC-A0C4-CDE9A592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423A-2A61-4B9F-82C1-EF6483E5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880F-EDB3-4914-8373-B5C9E618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FCD10-A13C-494E-A154-CA05DD66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EA426-AF4F-42BD-ABC8-A11D76B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CD867-A295-4335-8069-2D2CA16F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88828-680C-463A-ACE2-11464526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21554-C54A-4B8D-943B-4D2D34FF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1B073-F7BC-4BA5-BADE-EF2E6ADA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2FD2D-EB58-4DE6-904D-9DA2A9E9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9E86F-82DE-4B13-9F56-30D7D1BB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6AA47-F75A-44DD-909E-1D1FB873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B8D96-6EBC-454C-A496-801F93F3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A7CBC-22F4-4351-A1B3-61923054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ADE1F-CC52-4EAC-B03A-9E054FAB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FB7D2-D6E8-408A-AA3E-528C0BB6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F6049-BF57-48BF-BDD4-7B4A03FB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489EC-73C1-400C-ACAA-062A2E78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F54E7-CA33-4566-93A6-C17A6DE4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67A8D-3AB2-4149-AAAA-1BA6ADD3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7A7DF-ECDC-4BBC-B225-80505667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2861E-006B-4DD4-85F9-6A608DDE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AE076-3E87-4766-8562-05CFEBBD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D4906-C886-464D-BCAB-0B18DCF3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3759E-D104-4BF0-B712-08CCB9A8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1DC20-DDBB-48AE-9234-58349E50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B9E66-63D2-4360-8902-90B39C28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4BD52-0723-49CA-A61D-4F9DC0BA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0972B-E18F-4AC4-B9AE-70F32E53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CBC5-181B-471E-9877-0868D2D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8A7A8-1CAF-43E7-8D12-62FE3DA0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19D75-060B-4CE9-94A7-C67D2BA0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7C6E4-5ECF-4AC1-8DA6-29AD7900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FF821-2657-4FB1-B6E5-A189EF5D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3C4B7-BDB0-4E03-99BB-738B8C87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22364-5B7B-4A11-98E5-FC37E854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D2BE7-C99F-4F6E-8267-834BA589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97552-2C76-4430-BF84-9F30DD39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4492D-3591-4B08-844B-0EE36928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E6C30-0055-40C5-98F6-E2D55E7E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A40E8-F260-4C8C-8F80-915DE2BE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269B9-99BB-477E-A5AD-9104A27E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C6C89-7D26-4163-8D7B-61E11A84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17E46-877F-4FDF-B47B-674C548D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60620-3FF8-42C7-A468-854AEB32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52251-7C6C-48E0-AEB5-47706843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10B71-3230-4317-82C8-64E219F7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61139-EBA0-4A5A-87FA-DCA5A31B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2E3E1-ACDB-497C-89F1-9977AF0A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3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E98A-A018-42E2-B927-BA1119042A8A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05C2-66F0-4C8C-A98D-B4E3761545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6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9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360A-BC60-48D4-BFD0-15A86C392CE7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6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9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FB9F-5F83-4F94-B4F8-7BBDD1351CF5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B211-4742-4CD4-8EDE-5954DD93FD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B34A-A741-49E7-AFF7-D00825CE27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1BA8-C2FF-4091-B7F0-05CBC4A546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F09F-8484-4FB9-AB4B-42FB091DEB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45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49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9DD0-F498-4541-A812-C460BF5B6801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629080" y="5445000"/>
            <a:ext cx="65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主讲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福田河中心学校  陈平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68360" y="3357720"/>
            <a:ext cx="658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第六节    生活用电常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5600" y="1314360"/>
            <a:ext cx="16434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华文彩云"/>
                <a:ea typeface="华文彩云"/>
              </a:rPr>
              <a:t>Physic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71640" y="1341360"/>
            <a:ext cx="554544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第八章    电功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477800" cy="1477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二、插座   接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38680" cy="42926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4067280" y="2492280"/>
            <a:ext cx="4968720" cy="4321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826920" y="3789360"/>
            <a:ext cx="755640" cy="2017800"/>
          </a:xfrm>
          <a:custGeom>
            <a:avLst/>
            <a:gdLst>
              <a:gd name="textAreaLeft" fmla="*/ 47880 w 755640"/>
              <a:gd name="textAreaRight" fmla="*/ 707760 w 755640"/>
              <a:gd name="textAreaTop" fmla="*/ 47880 h 2017800"/>
              <a:gd name="textAreaBottom" fmla="*/ 1969920 h 2017800"/>
            </a:gdLst>
            <a:ahLst/>
            <a:rect l="textAreaLeft" t="textAreaTop" r="textAreaRight" b="textAreaBottom"/>
            <a:pathLst>
              <a:path w="21600" h="57662">
                <a:moveTo>
                  <a:pt x="4680" y="0"/>
                </a:moveTo>
                <a:arcTo wR="4680" hR="4680" stAng="16200000" swAng="-5400000"/>
                <a:lnTo>
                  <a:pt x="0" y="52982"/>
                </a:lnTo>
                <a:arcTo wR="4680" hR="4680" stAng="10800000" swAng="-5400000"/>
                <a:lnTo>
                  <a:pt x="16920" y="57662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孔插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16360" y="5805360"/>
            <a:ext cx="2160720" cy="567000"/>
          </a:xfrm>
          <a:prstGeom prst="roundRect">
            <a:avLst>
              <a:gd name="adj" fmla="val 21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孔插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77407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900000" y="6291360"/>
            <a:ext cx="3024360" cy="566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隶书"/>
              </a:rPr>
              <a:t>接法：左零右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826920" y="404640"/>
            <a:ext cx="13716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用电器外壳没有接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6337080" cy="613404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6257880" y="1654200"/>
            <a:ext cx="76212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250" autoRev="1" fill="hold"/>
                                        <p:tgtEl>
                                          <p:spTgt spid="6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24000" y="404640"/>
            <a:ext cx="5545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三、触电的几种形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3816360" cy="45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9" name=""/>
          <p:cNvGraphicFramePr/>
          <p:nvPr/>
        </p:nvGraphicFramePr>
        <p:xfrm>
          <a:off x="1476360" y="4653000"/>
          <a:ext cx="871560" cy="15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4653000"/>
                    <a:ext cx="8715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1" name="" descr=""/>
          <p:cNvPicPr/>
          <p:nvPr/>
        </p:nvPicPr>
        <p:blipFill>
          <a:blip r:embed="rId4"/>
          <a:stretch/>
        </p:blipFill>
        <p:spPr>
          <a:xfrm>
            <a:off x="2239920" y="3932280"/>
            <a:ext cx="676440" cy="95256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96720" y="2492280"/>
            <a:ext cx="755640" cy="3097440"/>
          </a:xfrm>
          <a:custGeom>
            <a:avLst/>
            <a:gdLst>
              <a:gd name="textAreaLeft" fmla="*/ 47880 w 755640"/>
              <a:gd name="textAreaRight" fmla="*/ 707760 w 755640"/>
              <a:gd name="textAreaTop" fmla="*/ 47880 h 3097440"/>
              <a:gd name="textAreaBottom" fmla="*/ 3049560 h 3097440"/>
            </a:gdLst>
            <a:ahLst/>
            <a:rect l="textAreaLeft" t="textAreaTop" r="textAreaRight" b="textAreaBottom"/>
            <a:pathLst>
              <a:path w="21600" h="88509">
                <a:moveTo>
                  <a:pt x="4680" y="0"/>
                </a:moveTo>
                <a:arcTo wR="4680" hR="4680" stAng="16200000" swAng="-5400000"/>
                <a:lnTo>
                  <a:pt x="0" y="83829"/>
                </a:lnTo>
                <a:arcTo wR="4680" hR="4680" stAng="10800000" swAng="-5400000"/>
                <a:lnTo>
                  <a:pt x="16920" y="88509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压电弧触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4572000" y="2276640"/>
            <a:ext cx="4572000" cy="4536720"/>
            <a:chOff x="4572000" y="2276640"/>
            <a:chExt cx="4572000" cy="4536720"/>
          </a:xfrm>
        </p:grpSpPr>
        <p:grpSp>
          <p:nvGrpSpPr>
            <p:cNvPr id="634" name=""/>
            <p:cNvGrpSpPr/>
            <p:nvPr/>
          </p:nvGrpSpPr>
          <p:grpSpPr>
            <a:xfrm>
              <a:off x="4572000" y="2276640"/>
              <a:ext cx="4572000" cy="4536720"/>
              <a:chOff x="4572000" y="2276640"/>
              <a:chExt cx="4572000" cy="4536720"/>
            </a:xfrm>
          </p:grpSpPr>
          <p:graphicFrame>
            <p:nvGraphicFramePr>
              <p:cNvPr id="635" name=""/>
              <p:cNvGraphicFramePr/>
              <p:nvPr/>
            </p:nvGraphicFramePr>
            <p:xfrm>
              <a:off x="4572000" y="2276640"/>
              <a:ext cx="4572000" cy="4536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3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72000" y="2276640"/>
                        <a:ext cx="4572000" cy="4536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7" name=""/>
              <p:cNvSpPr/>
              <p:nvPr/>
            </p:nvSpPr>
            <p:spPr>
              <a:xfrm>
                <a:off x="4958280" y="5874840"/>
                <a:ext cx="321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Times New Roman"/>
                    <a:ea typeface="隶书"/>
                  </a:rPr>
                  <a:t>U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280120" y="6187320"/>
                <a:ext cx="19296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4829400" y="6187320"/>
                <a:ext cx="25704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893840" y="5418360"/>
                <a:ext cx="579240" cy="612720"/>
              </a:xfrm>
              <a:custGeom>
                <a:avLst/>
                <a:gdLst/>
                <a:ahLst/>
                <a:rect l="l" t="t" r="r" b="b"/>
                <a:pathLst>
                  <a:path w="432" h="376">
                    <a:moveTo>
                      <a:pt x="0" y="376"/>
                    </a:moveTo>
                    <a:cubicBezTo>
                      <a:pt x="28" y="228"/>
                      <a:pt x="56" y="80"/>
                      <a:pt x="96" y="40"/>
                    </a:cubicBezTo>
                    <a:cubicBezTo>
                      <a:pt x="136" y="0"/>
                      <a:pt x="184" y="80"/>
                      <a:pt x="240" y="136"/>
                    </a:cubicBezTo>
                    <a:cubicBezTo>
                      <a:pt x="296" y="192"/>
                      <a:pt x="400" y="336"/>
                      <a:pt x="432" y="376"/>
                    </a:cubicBezTo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41" name="" descr=""/>
            <p:cNvPicPr/>
            <p:nvPr/>
          </p:nvPicPr>
          <p:blipFill>
            <a:blip r:embed="rId7"/>
            <a:stretch/>
          </p:blipFill>
          <p:spPr>
            <a:xfrm>
              <a:off x="7740720" y="3573360"/>
              <a:ext cx="865080" cy="69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619280" y="1197000"/>
            <a:ext cx="5545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高压触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40360" y="2421000"/>
            <a:ext cx="755640" cy="3097080"/>
          </a:xfrm>
          <a:custGeom>
            <a:avLst/>
            <a:gdLst>
              <a:gd name="textAreaLeft" fmla="*/ 47880 w 755640"/>
              <a:gd name="textAreaRight" fmla="*/ 707760 w 755640"/>
              <a:gd name="textAreaTop" fmla="*/ 47880 h 3097080"/>
              <a:gd name="textAreaBottom" fmla="*/ 3049200 h 3097080"/>
            </a:gdLst>
            <a:ahLst/>
            <a:rect l="textAreaLeft" t="textAreaTop" r="textAreaRight" b="textAreaBottom"/>
            <a:pathLst>
              <a:path w="21600" h="88498">
                <a:moveTo>
                  <a:pt x="4680" y="0"/>
                </a:moveTo>
                <a:arcTo wR="4680" hR="4680" stAng="16200000" swAng="-5400000"/>
                <a:lnTo>
                  <a:pt x="0" y="83818"/>
                </a:lnTo>
                <a:arcTo wR="4680" hR="4680" stAng="10800000" swAng="-5400000"/>
                <a:lnTo>
                  <a:pt x="16920" y="88498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压跨步电压触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56000" y="2276640"/>
            <a:ext cx="1368360" cy="576000"/>
          </a:xfrm>
          <a:prstGeom prst="cloudCallout">
            <a:avLst>
              <a:gd name="adj1" fmla="val -24013"/>
              <a:gd name="adj2" fmla="val 132643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高压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6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686040" cy="453708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4906800" y="1844640"/>
            <a:ext cx="3913200" cy="453708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395280" y="3139920"/>
            <a:ext cx="755640" cy="2017800"/>
          </a:xfrm>
          <a:custGeom>
            <a:avLst/>
            <a:gdLst>
              <a:gd name="textAreaLeft" fmla="*/ 47880 w 755640"/>
              <a:gd name="textAreaRight" fmla="*/ 707760 w 755640"/>
              <a:gd name="textAreaTop" fmla="*/ 47880 h 2017800"/>
              <a:gd name="textAreaBottom" fmla="*/ 1969920 h 2017800"/>
            </a:gdLst>
            <a:ahLst/>
            <a:rect l="textAreaLeft" t="textAreaTop" r="textAreaRight" b="textAreaBottom"/>
            <a:pathLst>
              <a:path w="21600" h="57662">
                <a:moveTo>
                  <a:pt x="4680" y="0"/>
                </a:moveTo>
                <a:arcTo wR="4680" hR="4680" stAng="16200000" swAng="-5400000"/>
                <a:lnTo>
                  <a:pt x="0" y="52982"/>
                </a:lnTo>
                <a:arcTo wR="4680" hR="4680" stAng="10800000" swAng="-5400000"/>
                <a:lnTo>
                  <a:pt x="16920" y="57662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双线触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812000" y="3139920"/>
            <a:ext cx="755640" cy="2017800"/>
          </a:xfrm>
          <a:custGeom>
            <a:avLst/>
            <a:gdLst>
              <a:gd name="textAreaLeft" fmla="*/ 47880 w 755640"/>
              <a:gd name="textAreaRight" fmla="*/ 707760 w 755640"/>
              <a:gd name="textAreaTop" fmla="*/ 47880 h 2017800"/>
              <a:gd name="textAreaBottom" fmla="*/ 1969920 h 2017800"/>
            </a:gdLst>
            <a:ahLst/>
            <a:rect l="textAreaLeft" t="textAreaTop" r="textAreaRight" b="textAreaBottom"/>
            <a:pathLst>
              <a:path w="21600" h="57662">
                <a:moveTo>
                  <a:pt x="4680" y="0"/>
                </a:moveTo>
                <a:arcTo wR="4680" hR="4680" stAng="16200000" swAng="-5400000"/>
                <a:lnTo>
                  <a:pt x="0" y="52982"/>
                </a:lnTo>
                <a:arcTo wR="4680" hR="4680" stAng="10800000" swAng="-5400000"/>
                <a:lnTo>
                  <a:pt x="16920" y="57662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单线触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19280" y="549360"/>
            <a:ext cx="5545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低压触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50920" y="134136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隶书"/>
                <a:ea typeface="华文隶书"/>
              </a:rPr>
              <a:t>四、安全用电的原则</a:t>
            </a:r>
            <a:r>
              <a:rPr b="1" lang="zh-CN" sz="4400" spc="-1" strike="noStrike">
                <a:solidFill>
                  <a:srgbClr val="0000ff"/>
                </a:solidFill>
                <a:latin typeface="华文隶书"/>
                <a:ea typeface="华文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80000" y="465300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不接触低压带电体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08360" y="306864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不靠近高压带电体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187308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611280" y="404640"/>
            <a:ext cx="5545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五、触电的急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103640" cy="326700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713120" y="1341360"/>
            <a:ext cx="4249800" cy="32400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1042920" y="501336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首先切断电源，然后进行抢救或灭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68360" y="69228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一、家庭电路的组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84160" y="2455920"/>
            <a:ext cx="7620120" cy="243036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655560" y="4513320"/>
            <a:ext cx="2683080" cy="764280"/>
            <a:chOff x="655560" y="4513320"/>
            <a:chExt cx="2683080" cy="764280"/>
          </a:xfrm>
        </p:grpSpPr>
        <p:sp>
          <p:nvSpPr>
            <p:cNvPr id="547" name=""/>
            <p:cNvSpPr/>
            <p:nvPr/>
          </p:nvSpPr>
          <p:spPr>
            <a:xfrm>
              <a:off x="655560" y="4817880"/>
              <a:ext cx="2683080" cy="459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进户线和连接导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46280" y="4513320"/>
              <a:ext cx="0" cy="30456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842920" y="3369960"/>
            <a:ext cx="1905120" cy="1907640"/>
            <a:chOff x="2842920" y="3369960"/>
            <a:chExt cx="1905120" cy="1907640"/>
          </a:xfrm>
        </p:grpSpPr>
        <p:sp>
          <p:nvSpPr>
            <p:cNvPr id="550" name=""/>
            <p:cNvSpPr/>
            <p:nvPr/>
          </p:nvSpPr>
          <p:spPr>
            <a:xfrm>
              <a:off x="3513240" y="4817880"/>
              <a:ext cx="1234800" cy="459720"/>
            </a:xfrm>
            <a:prstGeom prst="rect">
              <a:avLst/>
            </a:prstGeom>
            <a:solidFill>
              <a:srgbClr val="ff5050">
                <a:alpha val="50000"/>
              </a:srgbClr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电能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2842920" y="3369960"/>
              <a:ext cx="1066680" cy="144756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617720" y="3218040"/>
            <a:ext cx="1829160" cy="2059560"/>
            <a:chOff x="4617720" y="3218040"/>
            <a:chExt cx="1829160" cy="2059560"/>
          </a:xfrm>
        </p:grpSpPr>
        <p:sp>
          <p:nvSpPr>
            <p:cNvPr id="553" name=""/>
            <p:cNvSpPr/>
            <p:nvPr/>
          </p:nvSpPr>
          <p:spPr>
            <a:xfrm>
              <a:off x="4998960" y="4817880"/>
              <a:ext cx="1447920" cy="459720"/>
            </a:xfrm>
            <a:prstGeom prst="rect">
              <a:avLst/>
            </a:prstGeom>
            <a:solidFill>
              <a:srgbClr val="ff5050">
                <a:alpha val="50000"/>
              </a:srgbClr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闸刀开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4617720" y="3218040"/>
              <a:ext cx="685800" cy="159984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617720" y="3827160"/>
            <a:ext cx="3200760" cy="1450440"/>
            <a:chOff x="4617720" y="3827160"/>
            <a:chExt cx="3200760" cy="1450440"/>
          </a:xfrm>
        </p:grpSpPr>
        <p:sp>
          <p:nvSpPr>
            <p:cNvPr id="556" name=""/>
            <p:cNvSpPr/>
            <p:nvPr/>
          </p:nvSpPr>
          <p:spPr>
            <a:xfrm>
              <a:off x="6599160" y="4817880"/>
              <a:ext cx="1219320" cy="459720"/>
            </a:xfrm>
            <a:prstGeom prst="rect">
              <a:avLst/>
            </a:prstGeom>
            <a:solidFill>
              <a:srgbClr val="ff5050">
                <a:alpha val="50000"/>
              </a:srgbClr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熔断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4617720" y="3827160"/>
              <a:ext cx="2514600" cy="99036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370560" y="3141720"/>
            <a:ext cx="2378160" cy="1447920"/>
            <a:chOff x="6370560" y="3141720"/>
            <a:chExt cx="2378160" cy="1447920"/>
          </a:xfrm>
        </p:grpSpPr>
        <p:sp>
          <p:nvSpPr>
            <p:cNvPr id="559" name=""/>
            <p:cNvSpPr/>
            <p:nvPr/>
          </p:nvSpPr>
          <p:spPr>
            <a:xfrm>
              <a:off x="6370560" y="3141720"/>
              <a:ext cx="1447920" cy="1447920"/>
            </a:xfrm>
            <a:prstGeom prst="rect">
              <a:avLst/>
            </a:prstGeom>
            <a:noFill/>
            <a:ln cap="rnd" w="50760">
              <a:solidFill>
                <a:srgbClr val="ff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94800" y="3218040"/>
              <a:ext cx="853920" cy="825480"/>
            </a:xfrm>
            <a:prstGeom prst="rect">
              <a:avLst/>
            </a:prstGeom>
            <a:solidFill>
              <a:srgbClr val="ff5050">
                <a:alpha val="50000"/>
              </a:srgbClr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插座灯座开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10382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家庭电路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供电。我国家庭电路的电压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516720" y="168588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19640" y="10382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户外低压电力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0920" y="3070080"/>
            <a:ext cx="26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进户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252360" y="3933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两根线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124000" y="3068640"/>
            <a:ext cx="142920" cy="17272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40000" y="307008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火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68360" y="393372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零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3640" y="393372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电源端接地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6659640" y="2997360"/>
            <a:ext cx="216000" cy="1726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64200" y="3213000"/>
            <a:ext cx="217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线间电压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:220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179280" y="476280"/>
            <a:ext cx="2016000" cy="2016000"/>
            <a:chOff x="179280" y="476280"/>
            <a:chExt cx="2016000" cy="2016000"/>
          </a:xfrm>
        </p:grpSpPr>
        <p:sp>
          <p:nvSpPr>
            <p:cNvPr id="573" name=""/>
            <p:cNvSpPr/>
            <p:nvPr/>
          </p:nvSpPr>
          <p:spPr>
            <a:xfrm>
              <a:off x="179280" y="547920"/>
              <a:ext cx="2016000" cy="1944360"/>
            </a:xfrm>
            <a:custGeom>
              <a:avLst/>
              <a:gdLst>
                <a:gd name="textAreaLeft" fmla="*/ 460080 w 2016000"/>
                <a:gd name="textAreaRight" fmla="*/ 1555920 w 2016000"/>
                <a:gd name="textAreaTop" fmla="*/ 443880 h 1944360"/>
                <a:gd name="textAreaBottom" fmla="*/ 1500480 h 19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7499d0">
                <a:alpha val="50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26920" y="476280"/>
              <a:ext cx="7192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0" spc="-1" strike="noStrike">
                  <a:solidFill>
                    <a:srgbClr val="ffff00"/>
                  </a:solidFill>
                  <a:latin typeface="Times New Roman"/>
                </a:rPr>
                <a:t>!</a:t>
              </a:r>
              <a:endParaRPr b="0" lang="en-US" sz="1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431640" y="1700280"/>
            <a:ext cx="871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手没触笔尾金属体，                               笔尖金属体触到火线时氖管也不会发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使用时手一定不能碰到笔尖金属体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7451640" y="5445000"/>
            <a:ext cx="12067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1197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闸刀开关的作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68360" y="260280"/>
            <a:ext cx="8050320" cy="2435400"/>
            <a:chOff x="468360" y="260280"/>
            <a:chExt cx="8050320" cy="2435400"/>
          </a:xfrm>
        </p:grpSpPr>
        <p:pic>
          <p:nvPicPr>
            <p:cNvPr id="579" name="" descr=""/>
            <p:cNvPicPr/>
            <p:nvPr/>
          </p:nvPicPr>
          <p:blipFill>
            <a:blip r:embed="rId1"/>
            <a:stretch/>
          </p:blipFill>
          <p:spPr>
            <a:xfrm>
              <a:off x="6156360" y="333360"/>
              <a:ext cx="23623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468360" y="260280"/>
              <a:ext cx="41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Times New Roman"/>
                  <a:ea typeface="华文隶书"/>
                </a:rPr>
                <a:t>闸刀开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04800" y="1916280"/>
            <a:ext cx="50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接通和切断电源，便于更换电器或维修设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2997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闸刀开关的结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400536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闸刀开关的安装原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5280" y="48164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源线连在静触头上，静触头一定要在上边，切不可倒装。否则断开的闸刀可能自动落下合上，造成事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2492280" cy="33573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7524720" y="2728800"/>
            <a:ext cx="1541520" cy="1133640"/>
            <a:chOff x="7524720" y="2728800"/>
            <a:chExt cx="1541520" cy="1133640"/>
          </a:xfrm>
        </p:grpSpPr>
        <p:sp>
          <p:nvSpPr>
            <p:cNvPr id="587" name=""/>
            <p:cNvSpPr/>
            <p:nvPr/>
          </p:nvSpPr>
          <p:spPr>
            <a:xfrm>
              <a:off x="8245440" y="2728800"/>
              <a:ext cx="820800" cy="520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静触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7524720" y="3284640"/>
              <a:ext cx="504720" cy="577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873320" y="3645000"/>
            <a:ext cx="1714680" cy="520560"/>
            <a:chOff x="4873320" y="3645000"/>
            <a:chExt cx="1714680" cy="520560"/>
          </a:xfrm>
        </p:grpSpPr>
        <p:sp>
          <p:nvSpPr>
            <p:cNvPr id="590" name=""/>
            <p:cNvSpPr/>
            <p:nvPr/>
          </p:nvSpPr>
          <p:spPr>
            <a:xfrm>
              <a:off x="4873320" y="3645000"/>
              <a:ext cx="820800" cy="520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动触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40360" y="3933720"/>
              <a:ext cx="647640" cy="7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012000" y="5157720"/>
            <a:ext cx="1512720" cy="1130400"/>
            <a:chOff x="6012000" y="5157720"/>
            <a:chExt cx="1512720" cy="1130400"/>
          </a:xfrm>
        </p:grpSpPr>
        <p:sp>
          <p:nvSpPr>
            <p:cNvPr id="593" name=""/>
            <p:cNvSpPr/>
            <p:nvPr/>
          </p:nvSpPr>
          <p:spPr>
            <a:xfrm>
              <a:off x="6012000" y="5767560"/>
              <a:ext cx="1296720" cy="520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保险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811920" y="5157720"/>
              <a:ext cx="16056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804000" y="5229360"/>
              <a:ext cx="720720" cy="50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24000" y="391680"/>
            <a:ext cx="2233440" cy="64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保险丝（装在保险盒里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417920" cy="68580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191280" y="476280"/>
            <a:ext cx="29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工作原理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78560" y="1052640"/>
            <a:ext cx="26654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当电路中有过大电流通过，保险丝上产生较多的热量，使它的温度达到熔点而熔断，自动切断电路，起到保险作用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1371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保险丝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的规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11280" y="69228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保险丝的规格用额定电流来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2484360" y="1700280"/>
          <a:ext cx="6429600" cy="2558880"/>
        </p:xfrm>
        <a:graphic>
          <a:graphicData uri="http://schemas.openxmlformats.org/drawingml/2006/table">
            <a:tbl>
              <a:tblPr/>
              <a:tblGrid>
                <a:gridCol w="1071720"/>
                <a:gridCol w="1071360"/>
                <a:gridCol w="1071720"/>
                <a:gridCol w="1071360"/>
                <a:gridCol w="1071720"/>
                <a:gridCol w="1071720"/>
              </a:tblGrid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直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（毫米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额定电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（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熔断电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（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直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（毫米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额定电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（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熔断电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（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3" name=""/>
          <p:cNvSpPr/>
          <p:nvPr/>
        </p:nvSpPr>
        <p:spPr>
          <a:xfrm>
            <a:off x="2484360" y="479916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保险丝越粗，额定电流和熔断电流就越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21080" y="587700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熔断电流是额定电流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1371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对</a:t>
            </a:r>
            <a:r>
              <a:rPr b="1" lang="zh-CN" sz="54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保险丝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的要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46200" y="981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制作材料：用电阻率较大而熔点较低的铅锑合金制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11280" y="2708280"/>
            <a:ext cx="650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选用要求：保险丝的规格应等于或略大于电路中所有电器正常工作时的总电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27280" y="5084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隶书"/>
                <a:ea typeface="华文隶书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华文隶书"/>
                <a:ea typeface="华文隶书"/>
              </a:rPr>
              <a:t>、不能用铁丝、铜丝代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808360" cy="5373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0" y="404640"/>
            <a:ext cx="55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电灯及其开关的接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419640" y="493704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控制电灯的开关应与电灯串联，并接在火线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5580000" y="260280"/>
            <a:ext cx="2979720" cy="461016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3421080" y="691920"/>
            <a:ext cx="3095640" cy="2665800"/>
            <a:chOff x="3421080" y="691920"/>
            <a:chExt cx="3095640" cy="2665800"/>
          </a:xfrm>
        </p:grpSpPr>
        <p:sp>
          <p:nvSpPr>
            <p:cNvPr id="614" name=""/>
            <p:cNvSpPr/>
            <p:nvPr/>
          </p:nvSpPr>
          <p:spPr>
            <a:xfrm>
              <a:off x="3421080" y="1989000"/>
              <a:ext cx="1942920" cy="7034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接火线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364000" y="691920"/>
              <a:ext cx="936720" cy="1657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64000" y="2349360"/>
              <a:ext cx="1152720" cy="100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10:03:34Z</dcterms:created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3:58Z</dcterms:modified>
  <cp:revision>1</cp:revision>
  <dc:subject>恒谦教育网(www.hengqian.com)</dc:subject>
  <dc:title>恒谦教育网(www.hengqian.com)</dc:title>
</cp:coreProperties>
</file>