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52AF-889C-42E2-BA74-ABB24F65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4624-D52C-41EC-8ABE-77A4EC7B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A2B6-D35E-40DB-AFEE-3F262332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42F-0C1A-4599-93EE-78AB89EE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80A3-BB92-4537-8830-88CAD977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A599-0629-47E6-85A6-9F68A9F2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D677-72EB-452B-92B8-655DEC57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2AED-FF37-4C9F-B569-C05F57D1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CFC7-793A-42D1-AA96-FD261187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62CB-EE21-49B1-B8D9-F2A85C92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F939-6A09-4502-AFA7-41AC5EFB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B2F8-7DE7-454E-910A-369C4ED2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7B5C-B7EE-4407-BBEA-98A04C6F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A92C-3ADC-485C-A244-192879E8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AE18-B3A4-4683-B582-AD219494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D4E6-8E0B-4C8C-AA6D-CB74DF53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C08F-A9C2-4A01-BB8F-E847C058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121FF-E9EE-48FA-A0BE-DA39CBDE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CA0F5-0393-4C23-9FF8-673EE762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1B277-EF5C-45DF-8895-3AC8E669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5FB63-4A23-4007-8107-9AB1D86A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0CBEC-E783-42DD-9DAD-80A6C58C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9F0-5276-4E50-9398-68A02EEC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166F3-9985-4AA1-B843-BC5F2EE8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9757F-F14E-4A7B-B65F-7CC82AA9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CD05D-C0D5-4C77-9BC6-FC182586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B71EA-6C2D-4F2E-806E-7B421822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AA9E0-BBE9-42A0-BAE4-16AA2909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416E0-5DE3-4D82-9913-3F443273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252ED-9DF3-4327-B846-34D64D4A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10C33-96AE-4718-8F51-1E668B36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09A05-CF20-438E-9513-41E3DDEC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5B8B9-78F6-440C-8108-00D40AE6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D99-170D-462A-8204-7DD46FE2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45738-CF75-4373-A02C-52DF5CF7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DDA25-D497-4FB0-A77A-6AB3ACAF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9F09F-74F7-4C5E-A23A-C3E31B4F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2F084-CFCE-42EC-A67A-826CC0E7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338AE-EEFD-4784-A679-C8E06720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99304-0CB1-4008-ABE9-8473FC3D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E7EAA-E141-4B3B-8EA6-DC39900E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DB96E-DE5B-494E-A01B-582A3271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79013-B602-4F0D-9903-4A633F5A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0CB3F-BA73-43CF-82D1-68E371BC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8953-B972-44B5-BEDE-723A3B69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8B0A6-D7CD-4A81-B057-90E36727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092A4-E61D-44C6-8A18-B882AF67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5AEEE-EA97-47C1-8092-3944F53B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71AF0-29D4-44BC-9C5A-95131BBD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CC53C-4B6C-4662-A802-E9557530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22AF9-B25A-4D57-87C0-8F850006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FB4F8-3A89-46F0-ABC4-6FAF5FE7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C7075-76CA-44A5-AF6F-D0D22730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671DA-77B2-4C59-B5E3-69180815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38520-8001-4034-8D3B-6368A121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0856-833C-49BD-95E1-06E9ECC3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C3313-96C7-4D61-959E-AE01C64E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D5EAA-A2CD-48BC-BE18-FF596784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7EDAE-43C4-4A86-A2A1-6AD1503F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FC0D6-D005-4DB5-AD77-0941AD88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5B9ED-2DB0-4DFB-B386-7594293C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BCA94-2467-4C5F-957F-2FADA2AA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04F8B-D49A-4A88-A2AA-8EA16262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06A80-24D4-4F53-BFE0-7FD9BA95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EC17C-585F-42C6-8DF2-4D47BFAE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8E077-7113-47F5-824F-C35ED33B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C89F-F3C3-493B-9C02-29419395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3B220-144D-40CD-926F-376D9559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CB557-4FE0-4C61-BC95-25564117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54075-B561-4C17-8EB2-9164E658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676B6-20E0-41E4-A39E-12BADE1B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4B47E-191C-4191-B114-9E32B927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6F4B0-076F-4919-AAFE-D88F6435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F3FD7-1C49-4D49-BF73-E3BE2996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26BA9-1FD5-439B-B901-084E4BEB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DA3DB-3223-4C87-ADE8-C60388AF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A6A54-F6DC-4249-8745-2BBBD559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4492-343D-4A9F-901A-188D74C0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7404B-FA69-4AB0-8C2B-89DCA9BD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31DD5-8070-4CB9-BE95-A8C70C37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100F7-4F99-4B61-B0CD-E243C3DE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0192B-914F-4957-9FEF-F94DC272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78AAE-903C-4A93-B083-8CE9768A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64A5-640E-494F-A582-3CC8F3B4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25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1" name="未知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组合 1029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5" name="未知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未知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未知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未知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未知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未知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未知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未知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未知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未知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未知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未知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未知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未知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未知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" name=""/>
            <p:cNvGrpSpPr/>
            <p:nvPr/>
          </p:nvGrpSpPr>
          <p:grpSpPr>
            <a:xfrm>
              <a:off x="1440" y="4363920"/>
              <a:ext cx="9140760" cy="360"/>
              <a:chOff x="1440" y="4363920"/>
              <a:chExt cx="9140760" cy="360"/>
            </a:xfrm>
          </p:grpSpPr>
          <p:sp>
            <p:nvSpPr>
              <p:cNvPr id="27" name="直接连接符 1051"/>
              <p:cNvSpPr/>
              <p:nvPr/>
            </p:nvSpPr>
            <p:spPr>
              <a:xfrm>
                <a:off x="1440" y="43639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 txBox="1"/>
              <p:nvPr/>
            </p:nvSpPr>
            <p:spPr>
              <a:xfrm>
                <a:off x="1440" y="436392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" name=""/>
            <p:cNvGrpSpPr/>
            <p:nvPr/>
          </p:nvGrpSpPr>
          <p:grpSpPr>
            <a:xfrm>
              <a:off x="1440" y="3740040"/>
              <a:ext cx="9140760" cy="360"/>
              <a:chOff x="1440" y="3740040"/>
              <a:chExt cx="9140760" cy="360"/>
            </a:xfrm>
          </p:grpSpPr>
          <p:sp>
            <p:nvSpPr>
              <p:cNvPr id="30" name="直接连接符 1052"/>
              <p:cNvSpPr/>
              <p:nvPr/>
            </p:nvSpPr>
            <p:spPr>
              <a:xfrm>
                <a:off x="1440" y="37400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 txBox="1"/>
              <p:nvPr/>
            </p:nvSpPr>
            <p:spPr>
              <a:xfrm>
                <a:off x="1440" y="374004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1440" y="4987800"/>
              <a:ext cx="9140760" cy="360"/>
              <a:chOff x="1440" y="4987800"/>
              <a:chExt cx="9140760" cy="360"/>
            </a:xfrm>
          </p:grpSpPr>
          <p:sp>
            <p:nvSpPr>
              <p:cNvPr id="33" name="直接连接符 1053"/>
              <p:cNvSpPr/>
              <p:nvPr/>
            </p:nvSpPr>
            <p:spPr>
              <a:xfrm>
                <a:off x="1440" y="498780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 txBox="1"/>
              <p:nvPr/>
            </p:nvSpPr>
            <p:spPr>
              <a:xfrm>
                <a:off x="1440" y="498780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" name="组合 1054"/>
            <p:cNvGrpSpPr/>
            <p:nvPr/>
          </p:nvGrpSpPr>
          <p:grpSpPr>
            <a:xfrm>
              <a:off x="1440" y="622440"/>
              <a:ext cx="9140760" cy="2494080"/>
              <a:chOff x="1440" y="622440"/>
              <a:chExt cx="9140760" cy="2494080"/>
            </a:xfrm>
          </p:grpSpPr>
          <p:grpSp>
            <p:nvGrpSpPr>
              <p:cNvPr id="36" name=""/>
              <p:cNvGrpSpPr/>
              <p:nvPr/>
            </p:nvGrpSpPr>
            <p:grpSpPr>
              <a:xfrm>
                <a:off x="1440" y="1244520"/>
                <a:ext cx="9140760" cy="360"/>
                <a:chOff x="1440" y="1244520"/>
                <a:chExt cx="9140760" cy="360"/>
              </a:xfrm>
            </p:grpSpPr>
            <p:sp>
              <p:nvSpPr>
                <p:cNvPr id="37" name="直接连接符 1055"/>
                <p:cNvSpPr/>
                <p:nvPr/>
              </p:nvSpPr>
              <p:spPr>
                <a:xfrm>
                  <a:off x="1440" y="124452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 txBox="1"/>
                <p:nvPr/>
              </p:nvSpPr>
              <p:spPr>
                <a:xfrm>
                  <a:off x="1440" y="124452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1440" y="3116160"/>
                <a:ext cx="9140760" cy="360"/>
                <a:chOff x="1440" y="3116160"/>
                <a:chExt cx="9140760" cy="360"/>
              </a:xfrm>
            </p:grpSpPr>
            <p:sp>
              <p:nvSpPr>
                <p:cNvPr id="40" name="直接连接符 1056"/>
                <p:cNvSpPr/>
                <p:nvPr/>
              </p:nvSpPr>
              <p:spPr>
                <a:xfrm>
                  <a:off x="1440" y="311616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 txBox="1"/>
                <p:nvPr/>
              </p:nvSpPr>
              <p:spPr>
                <a:xfrm>
                  <a:off x="1440" y="311616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1440" y="2492280"/>
                <a:ext cx="9140760" cy="360"/>
                <a:chOff x="1440" y="2492280"/>
                <a:chExt cx="9140760" cy="360"/>
              </a:xfrm>
            </p:grpSpPr>
            <p:sp>
              <p:nvSpPr>
                <p:cNvPr id="43" name="直接连接符 1057"/>
                <p:cNvSpPr/>
                <p:nvPr/>
              </p:nvSpPr>
              <p:spPr>
                <a:xfrm>
                  <a:off x="1440" y="249228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 txBox="1"/>
                <p:nvPr/>
              </p:nvSpPr>
              <p:spPr>
                <a:xfrm>
                  <a:off x="1440" y="249228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1440" y="1868400"/>
                <a:ext cx="9140760" cy="360"/>
                <a:chOff x="1440" y="1868400"/>
                <a:chExt cx="9140760" cy="360"/>
              </a:xfrm>
            </p:grpSpPr>
            <p:sp>
              <p:nvSpPr>
                <p:cNvPr id="46" name="直接连接符 1058"/>
                <p:cNvSpPr/>
                <p:nvPr/>
              </p:nvSpPr>
              <p:spPr>
                <a:xfrm>
                  <a:off x="1440" y="186840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 txBox="1"/>
                <p:nvPr/>
              </p:nvSpPr>
              <p:spPr>
                <a:xfrm>
                  <a:off x="1440" y="186840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1440" y="622440"/>
                <a:ext cx="9140760" cy="360"/>
                <a:chOff x="1440" y="622440"/>
                <a:chExt cx="9140760" cy="360"/>
              </a:xfrm>
            </p:grpSpPr>
            <p:sp>
              <p:nvSpPr>
                <p:cNvPr id="49" name="直接连接符 1059"/>
                <p:cNvSpPr/>
                <p:nvPr/>
              </p:nvSpPr>
              <p:spPr>
                <a:xfrm>
                  <a:off x="1440" y="62244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 txBox="1"/>
                <p:nvPr/>
              </p:nvSpPr>
              <p:spPr>
                <a:xfrm>
                  <a:off x="1440" y="62244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" name=""/>
            <p:cNvGrpSpPr/>
            <p:nvPr/>
          </p:nvGrpSpPr>
          <p:grpSpPr>
            <a:xfrm>
              <a:off x="1440" y="6235560"/>
              <a:ext cx="9140760" cy="360"/>
              <a:chOff x="1440" y="6235560"/>
              <a:chExt cx="9140760" cy="360"/>
            </a:xfrm>
          </p:grpSpPr>
          <p:sp>
            <p:nvSpPr>
              <p:cNvPr id="52" name="直接连接符 1060"/>
              <p:cNvSpPr/>
              <p:nvPr/>
            </p:nvSpPr>
            <p:spPr>
              <a:xfrm>
                <a:off x="1440" y="623556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 txBox="1"/>
              <p:nvPr/>
            </p:nvSpPr>
            <p:spPr>
              <a:xfrm>
                <a:off x="1440" y="623556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1440" y="5611680"/>
              <a:ext cx="9140760" cy="360"/>
              <a:chOff x="1440" y="5611680"/>
              <a:chExt cx="9140760" cy="360"/>
            </a:xfrm>
          </p:grpSpPr>
          <p:sp>
            <p:nvSpPr>
              <p:cNvPr id="55" name="直接连接符 1061"/>
              <p:cNvSpPr/>
              <p:nvPr/>
            </p:nvSpPr>
            <p:spPr>
              <a:xfrm>
                <a:off x="1440" y="561168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 txBox="1"/>
              <p:nvPr/>
            </p:nvSpPr>
            <p:spPr>
              <a:xfrm>
                <a:off x="1440" y="561168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CB3D-9C57-4ECF-9C91-058EB901ECE6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3073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矩形 3074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矩形 3075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矩形 3076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矩形 3077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矩形 3078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矩形 3079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C43D-B5EA-411B-8553-A53F3FE800DC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512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矩形 512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矩形 512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矩形 512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矩形 512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矩形 512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矩形 512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ADF6-32D1-4012-9F2E-09D5FE3D423A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2049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195" name="未知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" name="组合 2053"/>
            <p:cNvGrpSpPr/>
            <p:nvPr/>
          </p:nvGrpSpPr>
          <p:grpSpPr>
            <a:xfrm>
              <a:off x="455760" y="0"/>
              <a:ext cx="8092440" cy="6851520"/>
              <a:chOff x="455760" y="0"/>
              <a:chExt cx="8092440" cy="6851520"/>
            </a:xfrm>
          </p:grpSpPr>
          <p:sp>
            <p:nvSpPr>
              <p:cNvPr id="199" name="未知"/>
              <p:cNvSpPr/>
              <p:nvPr/>
            </p:nvSpPr>
            <p:spPr>
              <a:xfrm>
                <a:off x="442584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>
                <a:off x="490212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未知"/>
              <p:cNvSpPr/>
              <p:nvPr/>
            </p:nvSpPr>
            <p:spPr>
              <a:xfrm>
                <a:off x="532908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未知"/>
              <p:cNvSpPr/>
              <p:nvPr/>
            </p:nvSpPr>
            <p:spPr>
              <a:xfrm>
                <a:off x="583380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未知"/>
              <p:cNvSpPr/>
              <p:nvPr/>
            </p:nvSpPr>
            <p:spPr>
              <a:xfrm>
                <a:off x="626256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未知"/>
              <p:cNvSpPr/>
              <p:nvPr/>
            </p:nvSpPr>
            <p:spPr>
              <a:xfrm>
                <a:off x="673884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未知"/>
              <p:cNvSpPr/>
              <p:nvPr/>
            </p:nvSpPr>
            <p:spPr>
              <a:xfrm>
                <a:off x="717696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未知"/>
              <p:cNvSpPr/>
              <p:nvPr/>
            </p:nvSpPr>
            <p:spPr>
              <a:xfrm>
                <a:off x="380664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未知"/>
              <p:cNvSpPr/>
              <p:nvPr/>
            </p:nvSpPr>
            <p:spPr>
              <a:xfrm>
                <a:off x="312084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>
                <a:off x="248436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>
                <a:off x="178884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>
                <a:off x="111276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>
                <a:off x="45576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" name="未知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0" y="4363920"/>
              <a:ext cx="9140760" cy="360"/>
              <a:chOff x="0" y="4363920"/>
              <a:chExt cx="9140760" cy="360"/>
            </a:xfrm>
          </p:grpSpPr>
          <p:sp>
            <p:nvSpPr>
              <p:cNvPr id="221" name="直接连接符 2075"/>
              <p:cNvSpPr/>
              <p:nvPr/>
            </p:nvSpPr>
            <p:spPr>
              <a:xfrm>
                <a:off x="0" y="43639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0" y="436392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0" y="3740040"/>
              <a:ext cx="9140760" cy="360"/>
              <a:chOff x="0" y="3740040"/>
              <a:chExt cx="9140760" cy="360"/>
            </a:xfrm>
          </p:grpSpPr>
          <p:sp>
            <p:nvSpPr>
              <p:cNvPr id="224" name="直接连接符 2076"/>
              <p:cNvSpPr/>
              <p:nvPr/>
            </p:nvSpPr>
            <p:spPr>
              <a:xfrm>
                <a:off x="0" y="37400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0" y="374004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0" y="4987800"/>
              <a:ext cx="9140760" cy="360"/>
              <a:chOff x="0" y="4987800"/>
              <a:chExt cx="9140760" cy="360"/>
            </a:xfrm>
          </p:grpSpPr>
          <p:sp>
            <p:nvSpPr>
              <p:cNvPr id="227" name="直接连接符 2077"/>
              <p:cNvSpPr/>
              <p:nvPr/>
            </p:nvSpPr>
            <p:spPr>
              <a:xfrm>
                <a:off x="0" y="498780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 txBox="1"/>
              <p:nvPr/>
            </p:nvSpPr>
            <p:spPr>
              <a:xfrm>
                <a:off x="0" y="498780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9" name="组合 2078"/>
            <p:cNvGrpSpPr/>
            <p:nvPr/>
          </p:nvGrpSpPr>
          <p:grpSpPr>
            <a:xfrm>
              <a:off x="0" y="622440"/>
              <a:ext cx="9140760" cy="2494080"/>
              <a:chOff x="0" y="622440"/>
              <a:chExt cx="9140760" cy="249408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0" y="1244520"/>
                <a:ext cx="9140760" cy="360"/>
                <a:chOff x="0" y="1244520"/>
                <a:chExt cx="9140760" cy="360"/>
              </a:xfrm>
            </p:grpSpPr>
            <p:sp>
              <p:nvSpPr>
                <p:cNvPr id="231" name="直接连接符 2079"/>
                <p:cNvSpPr/>
                <p:nvPr/>
              </p:nvSpPr>
              <p:spPr>
                <a:xfrm>
                  <a:off x="0" y="124452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 txBox="1"/>
                <p:nvPr/>
              </p:nvSpPr>
              <p:spPr>
                <a:xfrm>
                  <a:off x="0" y="124452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0" y="3116160"/>
                <a:ext cx="9140760" cy="360"/>
                <a:chOff x="0" y="3116160"/>
                <a:chExt cx="9140760" cy="360"/>
              </a:xfrm>
            </p:grpSpPr>
            <p:sp>
              <p:nvSpPr>
                <p:cNvPr id="234" name="直接连接符 2080"/>
                <p:cNvSpPr/>
                <p:nvPr/>
              </p:nvSpPr>
              <p:spPr>
                <a:xfrm>
                  <a:off x="0" y="311616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 txBox="1"/>
                <p:nvPr/>
              </p:nvSpPr>
              <p:spPr>
                <a:xfrm>
                  <a:off x="0" y="311616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0" y="2492280"/>
                <a:ext cx="9140760" cy="360"/>
                <a:chOff x="0" y="2492280"/>
                <a:chExt cx="9140760" cy="360"/>
              </a:xfrm>
            </p:grpSpPr>
            <p:sp>
              <p:nvSpPr>
                <p:cNvPr id="237" name="直接连接符 2081"/>
                <p:cNvSpPr/>
                <p:nvPr/>
              </p:nvSpPr>
              <p:spPr>
                <a:xfrm>
                  <a:off x="0" y="249228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 txBox="1"/>
                <p:nvPr/>
              </p:nvSpPr>
              <p:spPr>
                <a:xfrm>
                  <a:off x="0" y="249228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0" y="1868400"/>
                <a:ext cx="9140760" cy="360"/>
                <a:chOff x="0" y="1868400"/>
                <a:chExt cx="9140760" cy="360"/>
              </a:xfrm>
            </p:grpSpPr>
            <p:sp>
              <p:nvSpPr>
                <p:cNvPr id="240" name="直接连接符 2082"/>
                <p:cNvSpPr/>
                <p:nvPr/>
              </p:nvSpPr>
              <p:spPr>
                <a:xfrm>
                  <a:off x="0" y="186840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 txBox="1"/>
                <p:nvPr/>
              </p:nvSpPr>
              <p:spPr>
                <a:xfrm>
                  <a:off x="0" y="186840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0" y="622440"/>
                <a:ext cx="9140760" cy="360"/>
                <a:chOff x="0" y="622440"/>
                <a:chExt cx="9140760" cy="360"/>
              </a:xfrm>
            </p:grpSpPr>
            <p:sp>
              <p:nvSpPr>
                <p:cNvPr id="243" name="直接连接符 2083"/>
                <p:cNvSpPr/>
                <p:nvPr/>
              </p:nvSpPr>
              <p:spPr>
                <a:xfrm>
                  <a:off x="0" y="62244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 txBox="1"/>
                <p:nvPr/>
              </p:nvSpPr>
              <p:spPr>
                <a:xfrm>
                  <a:off x="0" y="62244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0" y="6235560"/>
              <a:ext cx="9140760" cy="360"/>
              <a:chOff x="0" y="6235560"/>
              <a:chExt cx="9140760" cy="360"/>
            </a:xfrm>
          </p:grpSpPr>
          <p:sp>
            <p:nvSpPr>
              <p:cNvPr id="246" name="直接连接符 2084"/>
              <p:cNvSpPr/>
              <p:nvPr/>
            </p:nvSpPr>
            <p:spPr>
              <a:xfrm>
                <a:off x="0" y="623556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 txBox="1"/>
              <p:nvPr/>
            </p:nvSpPr>
            <p:spPr>
              <a:xfrm>
                <a:off x="0" y="623556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0" y="5611680"/>
              <a:ext cx="9140760" cy="360"/>
              <a:chOff x="0" y="5611680"/>
              <a:chExt cx="9140760" cy="360"/>
            </a:xfrm>
          </p:grpSpPr>
          <p:sp>
            <p:nvSpPr>
              <p:cNvPr id="249" name="直接连接符 2085"/>
              <p:cNvSpPr/>
              <p:nvPr/>
            </p:nvSpPr>
            <p:spPr>
              <a:xfrm>
                <a:off x="0" y="561168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0" y="561168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4F5E-40D0-41BC-9F14-EA6825DEECD6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组合 1025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293" name="未知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组合 1029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297" name="未知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未知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未知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未知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未知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未知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未知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未知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未知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未知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未知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未知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未知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440" y="4363920"/>
              <a:ext cx="9140760" cy="360"/>
              <a:chOff x="1440" y="4363920"/>
              <a:chExt cx="9140760" cy="360"/>
            </a:xfrm>
          </p:grpSpPr>
          <p:sp>
            <p:nvSpPr>
              <p:cNvPr id="319" name="直接连接符 1051"/>
              <p:cNvSpPr/>
              <p:nvPr/>
            </p:nvSpPr>
            <p:spPr>
              <a:xfrm>
                <a:off x="1440" y="43639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 txBox="1"/>
              <p:nvPr/>
            </p:nvSpPr>
            <p:spPr>
              <a:xfrm>
                <a:off x="1440" y="436392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1440" y="3740040"/>
              <a:ext cx="9140760" cy="360"/>
              <a:chOff x="1440" y="3740040"/>
              <a:chExt cx="9140760" cy="360"/>
            </a:xfrm>
          </p:grpSpPr>
          <p:sp>
            <p:nvSpPr>
              <p:cNvPr id="322" name="直接连接符 1052"/>
              <p:cNvSpPr/>
              <p:nvPr/>
            </p:nvSpPr>
            <p:spPr>
              <a:xfrm>
                <a:off x="1440" y="37400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 txBox="1"/>
              <p:nvPr/>
            </p:nvSpPr>
            <p:spPr>
              <a:xfrm>
                <a:off x="1440" y="374004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1440" y="4987800"/>
              <a:ext cx="9140760" cy="360"/>
              <a:chOff x="1440" y="4987800"/>
              <a:chExt cx="9140760" cy="360"/>
            </a:xfrm>
          </p:grpSpPr>
          <p:sp>
            <p:nvSpPr>
              <p:cNvPr id="325" name="直接连接符 1053"/>
              <p:cNvSpPr/>
              <p:nvPr/>
            </p:nvSpPr>
            <p:spPr>
              <a:xfrm>
                <a:off x="1440" y="498780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 txBox="1"/>
              <p:nvPr/>
            </p:nvSpPr>
            <p:spPr>
              <a:xfrm>
                <a:off x="1440" y="498780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组合 1054"/>
            <p:cNvGrpSpPr/>
            <p:nvPr/>
          </p:nvGrpSpPr>
          <p:grpSpPr>
            <a:xfrm>
              <a:off x="1440" y="622440"/>
              <a:ext cx="9140760" cy="2494080"/>
              <a:chOff x="1440" y="622440"/>
              <a:chExt cx="9140760" cy="249408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1440" y="1244520"/>
                <a:ext cx="9140760" cy="360"/>
                <a:chOff x="1440" y="1244520"/>
                <a:chExt cx="9140760" cy="360"/>
              </a:xfrm>
            </p:grpSpPr>
            <p:sp>
              <p:nvSpPr>
                <p:cNvPr id="329" name="直接连接符 1055"/>
                <p:cNvSpPr/>
                <p:nvPr/>
              </p:nvSpPr>
              <p:spPr>
                <a:xfrm>
                  <a:off x="1440" y="124452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 txBox="1"/>
                <p:nvPr/>
              </p:nvSpPr>
              <p:spPr>
                <a:xfrm>
                  <a:off x="1440" y="124452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1440" y="3116160"/>
                <a:ext cx="9140760" cy="360"/>
                <a:chOff x="1440" y="3116160"/>
                <a:chExt cx="9140760" cy="360"/>
              </a:xfrm>
            </p:grpSpPr>
            <p:sp>
              <p:nvSpPr>
                <p:cNvPr id="332" name="直接连接符 1056"/>
                <p:cNvSpPr/>
                <p:nvPr/>
              </p:nvSpPr>
              <p:spPr>
                <a:xfrm>
                  <a:off x="1440" y="311616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 txBox="1"/>
                <p:nvPr/>
              </p:nvSpPr>
              <p:spPr>
                <a:xfrm>
                  <a:off x="1440" y="311616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1440" y="2492280"/>
                <a:ext cx="9140760" cy="360"/>
                <a:chOff x="1440" y="2492280"/>
                <a:chExt cx="9140760" cy="360"/>
              </a:xfrm>
            </p:grpSpPr>
            <p:sp>
              <p:nvSpPr>
                <p:cNvPr id="335" name="直接连接符 1057"/>
                <p:cNvSpPr/>
                <p:nvPr/>
              </p:nvSpPr>
              <p:spPr>
                <a:xfrm>
                  <a:off x="1440" y="249228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 txBox="1"/>
                <p:nvPr/>
              </p:nvSpPr>
              <p:spPr>
                <a:xfrm>
                  <a:off x="1440" y="249228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1440" y="1868400"/>
                <a:ext cx="9140760" cy="360"/>
                <a:chOff x="1440" y="1868400"/>
                <a:chExt cx="9140760" cy="360"/>
              </a:xfrm>
            </p:grpSpPr>
            <p:sp>
              <p:nvSpPr>
                <p:cNvPr id="338" name="直接连接符 1058"/>
                <p:cNvSpPr/>
                <p:nvPr/>
              </p:nvSpPr>
              <p:spPr>
                <a:xfrm>
                  <a:off x="1440" y="186840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 txBox="1"/>
                <p:nvPr/>
              </p:nvSpPr>
              <p:spPr>
                <a:xfrm>
                  <a:off x="1440" y="186840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1440" y="622440"/>
                <a:ext cx="9140760" cy="360"/>
                <a:chOff x="1440" y="622440"/>
                <a:chExt cx="9140760" cy="360"/>
              </a:xfrm>
            </p:grpSpPr>
            <p:sp>
              <p:nvSpPr>
                <p:cNvPr id="341" name="直接连接符 1059"/>
                <p:cNvSpPr/>
                <p:nvPr/>
              </p:nvSpPr>
              <p:spPr>
                <a:xfrm>
                  <a:off x="1440" y="62244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 txBox="1"/>
                <p:nvPr/>
              </p:nvSpPr>
              <p:spPr>
                <a:xfrm>
                  <a:off x="1440" y="62244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3" name=""/>
            <p:cNvGrpSpPr/>
            <p:nvPr/>
          </p:nvGrpSpPr>
          <p:grpSpPr>
            <a:xfrm>
              <a:off x="1440" y="6235560"/>
              <a:ext cx="9140760" cy="360"/>
              <a:chOff x="1440" y="6235560"/>
              <a:chExt cx="9140760" cy="360"/>
            </a:xfrm>
          </p:grpSpPr>
          <p:sp>
            <p:nvSpPr>
              <p:cNvPr id="344" name="直接连接符 1060"/>
              <p:cNvSpPr/>
              <p:nvPr/>
            </p:nvSpPr>
            <p:spPr>
              <a:xfrm>
                <a:off x="1440" y="623556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 txBox="1"/>
              <p:nvPr/>
            </p:nvSpPr>
            <p:spPr>
              <a:xfrm>
                <a:off x="1440" y="623556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1440" y="5611680"/>
              <a:ext cx="9140760" cy="360"/>
              <a:chOff x="1440" y="5611680"/>
              <a:chExt cx="9140760" cy="360"/>
            </a:xfrm>
          </p:grpSpPr>
          <p:sp>
            <p:nvSpPr>
              <p:cNvPr id="347" name="直接连接符 1061"/>
              <p:cNvSpPr/>
              <p:nvPr/>
            </p:nvSpPr>
            <p:spPr>
              <a:xfrm>
                <a:off x="1440" y="561168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 txBox="1"/>
              <p:nvPr/>
            </p:nvSpPr>
            <p:spPr>
              <a:xfrm>
                <a:off x="1440" y="561168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49" name="图片 4" descr="物理"/>
          <p:cNvPicPr/>
          <p:nvPr/>
        </p:nvPicPr>
        <p:blipFill>
          <a:blip r:embed="rId2"/>
          <a:stretch/>
        </p:blipFill>
        <p:spPr>
          <a:xfrm>
            <a:off x="10800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5" descr="物理"/>
          <p:cNvPicPr/>
          <p:nvPr/>
        </p:nvPicPr>
        <p:blipFill>
          <a:blip r:embed="rId3"/>
          <a:stretch/>
        </p:blipFill>
        <p:spPr>
          <a:xfrm>
            <a:off x="6877080" y="5518080"/>
            <a:ext cx="2200320" cy="6382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0910-467B-424D-847F-5F085C466229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4097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93" name="组合 4098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394" name="矩形 4099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矩形 4100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6" name="组合 4101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397" name="矩形 4102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矩形 4103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9" name="矩形 4104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矩形 4105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矩形 4106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0ADD-04CB-41BB-AAAA-438F34730F4A}" type="slidenum"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组合 6145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44" name="组合 6146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445" name="矩形 6147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矩形 6148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7" name="组合 6149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448" name="矩形 6150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矩形 6151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矩形 6152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矩形 6153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矩形 6154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1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2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433F-3C24-4083-95F1-5681A1576EB8}" type="slidenum"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../../&#21021;&#20013;&#29289;&#29702;&#35838;&#22530;&#25945;&#23398;&#35270;&#39057;&#36164;&#26009;&#24211;/&#33258;&#28982;&#31185;&#25216;&#32032;&#26448;2/&#38738;&#34255;&#39640;&#21407;.mp3" TargetMode="External"/><Relationship Id="rId3" Type="http://schemas.openxmlformats.org/officeDocument/2006/relationships/hyperlink" Target="../../&#21021;&#20013;&#29289;&#29702;&#35838;&#22530;&#25945;&#23398;&#35270;&#39057;&#36164;&#26009;&#24211;/&#33258;&#28982;&#31185;&#25216;&#32032;&#26448;2/&#38738;&#34255;&#39640;&#21407;.mp3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文本框 8193"/>
          <p:cNvSpPr/>
          <p:nvPr/>
        </p:nvSpPr>
        <p:spPr>
          <a:xfrm>
            <a:off x="1260360" y="2133720"/>
            <a:ext cx="662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姚体"/>
              </a:rPr>
              <a:t>声音的特性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文本框 8194"/>
          <p:cNvSpPr/>
          <p:nvPr/>
        </p:nvSpPr>
        <p:spPr>
          <a:xfrm>
            <a:off x="6522840" y="5734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关庙中学：严增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20088137563821.wma" descr="20088137563821"/>
          <p:cNvPicPr/>
          <p:nvPr/>
        </p:nvPicPr>
        <p:blipFill>
          <a:blip r:embed="rId1"/>
          <a:stretch/>
        </p:blipFill>
        <p:spPr>
          <a:xfrm>
            <a:off x="-96984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00">
                                      <p:cBhvr>
                                        <p:cTn id="8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00">
                                      <p:cBhvr>
                                        <p:cTn id="9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mediacall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cmd type="call" cmd="playFrom(0.0)">
                                      <p:cBhvr>
                                        <p:cTn id="12" dur="193142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活动：探究音调与声源振动的什么性质有关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9640" y="2206800"/>
            <a:ext cx="388800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物理学中，用音调表示声音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高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尖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粗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音调与声源振动的什么性质有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卡片拨梳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听发出的声音有什么不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87640" y="2349360"/>
            <a:ext cx="3809880" cy="619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活动：用卡片拨梳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图片 17412" descr="卡片拨梳齿"/>
          <p:cNvPicPr/>
          <p:nvPr/>
        </p:nvPicPr>
        <p:blipFill>
          <a:blip r:embed="rId2"/>
          <a:stretch/>
        </p:blipFill>
        <p:spPr>
          <a:xfrm>
            <a:off x="4643280" y="3213000"/>
            <a:ext cx="4105440" cy="278928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1" descr="物理"/>
          <p:cNvPicPr/>
          <p:nvPr/>
        </p:nvPicPr>
        <p:blipFill>
          <a:blip r:embed="rId3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" descr="物理"/>
          <p:cNvPicPr/>
          <p:nvPr/>
        </p:nvPicPr>
        <p:blipFill>
          <a:blip r:embed="rId4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8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" dur="5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8" dur="500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音调与声源振动的频率有关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9280" y="2420640"/>
            <a:ext cx="80773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声源每秒钟振动的次数——频率，用赫兹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单位，例如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调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频率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5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z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这表示声源每秒钟振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5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；莫人的心跳每分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合每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其频率就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2Hz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音调的高低与振动的频率有关，频率越大，音调越高。频率越低，音调越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图片 1" descr="物理"/>
          <p:cNvPicPr/>
          <p:nvPr/>
        </p:nvPicPr>
        <p:blipFill>
          <a:blip r:embed="rId1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2" descr="物理"/>
          <p:cNvPicPr/>
          <p:nvPr/>
        </p:nvPicPr>
        <p:blipFill>
          <a:blip r:embed="rId2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5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0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1-视频-2吸管哨子发声.mpg" descr="1-视频-2吸管哨子发声"/>
          <p:cNvPicPr/>
          <p:nvPr/>
        </p:nvPicPr>
        <p:blipFill>
          <a:blip r:embed="rId1"/>
          <a:stretch/>
        </p:blipFill>
        <p:spPr>
          <a:xfrm>
            <a:off x="108000" y="1701720"/>
            <a:ext cx="4397400" cy="417528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决定音调高低的因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48" name="1-视频-14决定声音高低的因素.MPG" descr="1-视频-14决定声音高低的因素"/>
          <p:cNvPicPr/>
          <p:nvPr/>
        </p:nvPicPr>
        <p:blipFill>
          <a:blip r:embed="rId2"/>
          <a:stretch/>
        </p:blipFill>
        <p:spPr>
          <a:xfrm>
            <a:off x="4645080" y="1701720"/>
            <a:ext cx="4309920" cy="417672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1" descr="物理"/>
          <p:cNvPicPr/>
          <p:nvPr/>
        </p:nvPicPr>
        <p:blipFill>
          <a:blip r:embed="rId3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2" descr="物理"/>
          <p:cNvPicPr/>
          <p:nvPr/>
        </p:nvPicPr>
        <p:blipFill>
          <a:blip r:embed="rId4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6" dur="1" fill="hold"/>
                                        <p:tgtEl>
                                          <p:spTgt spid="5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1" dur="1" fill="hold"/>
                                        <p:tgtEl>
                                          <p:spTgt spid="5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决定音调高低的因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52" name="1-视频-13决定声音高低的因素.mpg" descr="1-视频-13决定声音高低的因素"/>
          <p:cNvPicPr/>
          <p:nvPr/>
        </p:nvPicPr>
        <p:blipFill>
          <a:blip r:embed="rId1"/>
          <a:stretch/>
        </p:blipFill>
        <p:spPr>
          <a:xfrm>
            <a:off x="1187280" y="1484280"/>
            <a:ext cx="6193080" cy="506880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1" descr="物理"/>
          <p:cNvPicPr/>
          <p:nvPr/>
        </p:nvPicPr>
        <p:blipFill>
          <a:blip r:embed="rId2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2" descr="物理"/>
          <p:cNvPicPr/>
          <p:nvPr/>
        </p:nvPicPr>
        <p:blipFill>
          <a:blip r:embed="rId3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7" dur="1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决定音调高低的因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56" name="1-视频-15改变琴弦的音调.mpg" descr="1-视频-15改变琴弦的音调"/>
          <p:cNvPicPr/>
          <p:nvPr/>
        </p:nvPicPr>
        <p:blipFill>
          <a:blip r:embed="rId1"/>
          <a:stretch/>
        </p:blipFill>
        <p:spPr>
          <a:xfrm>
            <a:off x="1260360" y="1197000"/>
            <a:ext cx="6623280" cy="542304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1" descr="物理"/>
          <p:cNvPicPr/>
          <p:nvPr/>
        </p:nvPicPr>
        <p:blipFill>
          <a:blip r:embed="rId2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2" descr="物理"/>
          <p:cNvPicPr/>
          <p:nvPr/>
        </p:nvPicPr>
        <p:blipFill>
          <a:blip r:embed="rId3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3" dur="1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66560" y="112392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弦振动产生声音的音调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弦越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粗、松、长度越长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产生的音调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越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弦越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细、紧、长度越短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产生的音调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越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文本框 22530"/>
          <p:cNvSpPr/>
          <p:nvPr/>
        </p:nvSpPr>
        <p:spPr>
          <a:xfrm>
            <a:off x="539640" y="4437000"/>
            <a:ext cx="7464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空气振动产生声音（笛子）的音调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空气柱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</a:rPr>
              <a:t>长度越短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音调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</a:rPr>
              <a:t>越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图片 1" descr="物理"/>
          <p:cNvPicPr/>
          <p:nvPr/>
        </p:nvPicPr>
        <p:blipFill>
          <a:blip r:embed="rId1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2" descr="物理"/>
          <p:cNvPicPr/>
          <p:nvPr/>
        </p:nvPicPr>
        <p:blipFill>
          <a:blip r:embed="rId2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64" name="古筝.mpg" descr="古筝"/>
          <p:cNvPicPr/>
          <p:nvPr/>
        </p:nvPicPr>
        <p:blipFill>
          <a:blip r:embed="rId1"/>
          <a:stretch/>
        </p:blipFill>
        <p:spPr>
          <a:xfrm>
            <a:off x="684360" y="404640"/>
            <a:ext cx="7993080" cy="599760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1" descr="物理"/>
          <p:cNvPicPr/>
          <p:nvPr/>
        </p:nvPicPr>
        <p:blipFill>
          <a:blip r:embed="rId2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2" descr="物理"/>
          <p:cNvPicPr/>
          <p:nvPr/>
        </p:nvPicPr>
        <p:blipFill>
          <a:blip r:embed="rId3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9" dur="1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通常情况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2296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歌唱声的频率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0Hz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男低音）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500Hz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女高音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男子说话声的频率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0-140Hz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而女子说话声的频率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70-550Hz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所以女子说话声的音调比男子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图片 1" descr="物理"/>
          <p:cNvPicPr/>
          <p:nvPr/>
        </p:nvPicPr>
        <p:blipFill>
          <a:blip r:embed="rId1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70" name="图片 2" descr="物理"/>
          <p:cNvPicPr/>
          <p:nvPr/>
        </p:nvPicPr>
        <p:blipFill>
          <a:blip r:embed="rId2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将刻度尺的一端紧压在桌面上，另一端伸出桌面，拨动刻度尺使它，你能听到声音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改变用力的大小，声音有什么变化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改变刻度尺伸出桌面的长度后，用力大小不变，刻度尺的振动频率有什么变化？音调有什么变化 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图片 1" descr="物理"/>
          <p:cNvPicPr/>
          <p:nvPr/>
        </p:nvPicPr>
        <p:blipFill>
          <a:blip r:embed="rId1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73" name="图片 2" descr="物理"/>
          <p:cNvPicPr/>
          <p:nvPr/>
        </p:nvPicPr>
        <p:blipFill>
          <a:blip r:embed="rId2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32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开大收音机的音量旋钮是为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增大声音的响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提高声音的音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减小声音的音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减小噪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文本框 26626"/>
          <p:cNvSpPr/>
          <p:nvPr/>
        </p:nvSpPr>
        <p:spPr>
          <a:xfrm>
            <a:off x="250920" y="3429000"/>
            <a:ext cx="835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男低音歌手独唱时由女高音歌手轻声伴唱，下面对二人声音的描述正确的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A.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男声”音调低、响度小；“女声”音调高、响度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B.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男声”音调高、响度大；“女声”音调低、响度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C.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男声”音调高、响度小；“女声”音调低、响度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.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男声”音调低、响度大；“女声”音调高、响度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图片 1" descr="物理"/>
          <p:cNvPicPr/>
          <p:nvPr/>
        </p:nvPicPr>
        <p:blipFill>
          <a:blip r:embed="rId1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77" name="图片 2" descr="物理"/>
          <p:cNvPicPr/>
          <p:nvPr/>
        </p:nvPicPr>
        <p:blipFill>
          <a:blip r:embed="rId2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700360" y="764640"/>
            <a:ext cx="56167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交响乐黄河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98" name="交响乐黄河颂.mpg" descr="交响乐黄河颂"/>
          <p:cNvPicPr/>
          <p:nvPr/>
        </p:nvPicPr>
        <p:blipFill>
          <a:blip r:embed="rId1"/>
          <a:stretch/>
        </p:blipFill>
        <p:spPr>
          <a:xfrm>
            <a:off x="2484360" y="1555920"/>
            <a:ext cx="6237360" cy="4679640"/>
          </a:xfrm>
          <a:prstGeom prst="rect">
            <a:avLst/>
          </a:prstGeom>
          <a:ln w="0">
            <a:noFill/>
          </a:ln>
        </p:spPr>
      </p:pic>
      <p:sp>
        <p:nvSpPr>
          <p:cNvPr id="499" name="文本框 9219"/>
          <p:cNvSpPr/>
          <p:nvPr/>
        </p:nvSpPr>
        <p:spPr>
          <a:xfrm>
            <a:off x="179280" y="2133720"/>
            <a:ext cx="230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你听到了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你能否描述你所听到的声音的特点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图片 1" descr="物理"/>
          <p:cNvPicPr/>
          <p:nvPr/>
        </p:nvPicPr>
        <p:blipFill>
          <a:blip r:embed="rId2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2" descr="物理"/>
          <p:cNvPicPr/>
          <p:nvPr/>
        </p:nvPicPr>
        <p:blipFill>
          <a:blip r:embed="rId3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4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隶书"/>
                <a:ea typeface="隶书"/>
              </a:rPr>
              <a:t>我们</a:t>
            </a:r>
            <a:r>
              <a:rPr b="0" lang="zh-CN" sz="5400" spc="-1" strike="noStrike">
                <a:solidFill>
                  <a:srgbClr val="ccecff"/>
                </a:solidFill>
                <a:latin typeface="隶书"/>
                <a:ea typeface="隶书"/>
              </a:rPr>
              <a:t>的</a:t>
            </a:r>
            <a:r>
              <a:rPr b="0" lang="zh-CN" sz="5400" spc="-1" strike="noStrike">
                <a:solidFill>
                  <a:srgbClr val="ffffff"/>
                </a:solidFill>
                <a:latin typeface="隶书"/>
                <a:ea typeface="隶书"/>
              </a:rPr>
              <a:t>感受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我们听到的声音可以说是千差万别的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小号声嘹亮挺拔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小提琴声柔和纤细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大提琴声稳重舒展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它们有强有弱，有高有低，有的浑厚，有的清脆。听了这些音乐，我们会沉浸在美的享受之中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矩形 10243"/>
          <p:cNvSpPr/>
          <p:nvPr/>
        </p:nvSpPr>
        <p:spPr>
          <a:xfrm>
            <a:off x="252360" y="5734080"/>
            <a:ext cx="849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那么，哪些是乐音或声音的基本特性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图片 1" descr="物理"/>
          <p:cNvPicPr/>
          <p:nvPr/>
        </p:nvPicPr>
        <p:blipFill>
          <a:blip r:embed="rId1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06" name="图片 2" descr="物理"/>
          <p:cNvPicPr/>
          <p:nvPr/>
        </p:nvPicPr>
        <p:blipFill>
          <a:blip r:embed="rId2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229600" cy="28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物理学中，用响度来描述声音的大小（强弱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响度与什么因素有关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文本框 11266"/>
          <p:cNvSpPr/>
          <p:nvPr/>
        </p:nvSpPr>
        <p:spPr>
          <a:xfrm>
            <a:off x="2829240" y="836640"/>
            <a:ext cx="178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声音的第一个特性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响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图片 1" descr="物理"/>
          <p:cNvPicPr/>
          <p:nvPr/>
        </p:nvPicPr>
        <p:blipFill>
          <a:blip r:embed="rId1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10" name="图片 2" descr="物理"/>
          <p:cNvPicPr/>
          <p:nvPr/>
        </p:nvPicPr>
        <p:blipFill>
          <a:blip r:embed="rId2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212720" y="1197000"/>
            <a:ext cx="418788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怎样使鼓声更响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12" name="怎样使鼓声更响.mpg" descr="怎样使鼓声更响"/>
          <p:cNvPicPr/>
          <p:nvPr/>
        </p:nvPicPr>
        <p:blipFill>
          <a:blip r:embed="rId1"/>
          <a:stretch/>
        </p:blipFill>
        <p:spPr>
          <a:xfrm>
            <a:off x="4068720" y="2133720"/>
            <a:ext cx="4700520" cy="3959280"/>
          </a:xfrm>
          <a:prstGeom prst="rect">
            <a:avLst/>
          </a:prstGeom>
          <a:ln w="0">
            <a:noFill/>
          </a:ln>
        </p:spPr>
      </p:pic>
      <p:sp>
        <p:nvSpPr>
          <p:cNvPr id="513" name="文本框 12291"/>
          <p:cNvSpPr/>
          <p:nvPr/>
        </p:nvSpPr>
        <p:spPr>
          <a:xfrm>
            <a:off x="252360" y="2205000"/>
            <a:ext cx="36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响度与什么因素有关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演示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怎样使鼓声更响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更大的力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敲击鼓面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图片 1" descr="物理"/>
          <p:cNvPicPr/>
          <p:nvPr/>
        </p:nvPicPr>
        <p:blipFill>
          <a:blip r:embed="rId2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15" name="图片 2" descr="物理"/>
          <p:cNvPicPr/>
          <p:nvPr/>
        </p:nvPicPr>
        <p:blipFill>
          <a:blip r:embed="rId3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5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响度与什么因素有关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2360" y="2349360"/>
            <a:ext cx="38149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响度与鼓面的振动情况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何显示鼓面的振动情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响度与振幅的关系.mpg" descr="响度与振幅的关系"/>
          <p:cNvPicPr/>
          <p:nvPr/>
        </p:nvPicPr>
        <p:blipFill>
          <a:blip r:embed="rId1"/>
          <a:stretch/>
        </p:blipFill>
        <p:spPr>
          <a:xfrm>
            <a:off x="4573440" y="2060640"/>
            <a:ext cx="4210200" cy="410508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1" descr="物理"/>
          <p:cNvPicPr/>
          <p:nvPr/>
        </p:nvPicPr>
        <p:blipFill>
          <a:blip r:embed="rId2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2" descr="物理"/>
          <p:cNvPicPr/>
          <p:nvPr/>
        </p:nvPicPr>
        <p:blipFill>
          <a:blip r:embed="rId3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扬声器纸盆里纸屑的跳动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物体振动的幅度称为振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观察扬声器发声时纸屑跳动的情况，在什么情况下纸屑跳得高？什么情况下跳得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明声音的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响度是由声源振动的幅度决定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翩翩起舞的纸屑.mpg" descr="翩翩起舞的纸屑"/>
          <p:cNvPicPr/>
          <p:nvPr/>
        </p:nvPicPr>
        <p:blipFill>
          <a:blip r:embed="rId1"/>
          <a:stretch/>
        </p:blipFill>
        <p:spPr>
          <a:xfrm>
            <a:off x="3997440" y="2133720"/>
            <a:ext cx="4795560" cy="360036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1" descr="物理"/>
          <p:cNvPicPr/>
          <p:nvPr/>
        </p:nvPicPr>
        <p:blipFill>
          <a:blip r:embed="rId2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25" name="图片 2" descr="物理"/>
          <p:cNvPicPr/>
          <p:nvPr/>
        </p:nvPicPr>
        <p:blipFill>
          <a:blip r:embed="rId3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4" dur="1" fill="hold"/>
                                        <p:tgtEl>
                                          <p:spTgt spid="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响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物理学中，用响度来描述声音的大小（强弱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物体振动的幅度称为振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声音的响度与声源振动的幅度即振幅有关，振幅越大，响度越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响度还与人耳到声源的距离有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图片 1" descr="物理"/>
          <p:cNvPicPr/>
          <p:nvPr/>
        </p:nvPicPr>
        <p:blipFill>
          <a:blip r:embed="rId1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2" descr="物理"/>
          <p:cNvPicPr/>
          <p:nvPr/>
        </p:nvPicPr>
        <p:blipFill>
          <a:blip r:embed="rId2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声音的第二个特性：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音调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活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同学们唱一首歌曲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青藏高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试唱中，你感到什么时候最难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要求声音响度大而使你无法胜任，还是其他原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图片 16387" descr="IMG_0326"/>
          <p:cNvPicPr/>
          <p:nvPr/>
        </p:nvPicPr>
        <p:blipFill>
          <a:blip r:embed="rId1"/>
          <a:stretch/>
        </p:blipFill>
        <p:spPr>
          <a:xfrm>
            <a:off x="4284720" y="2622600"/>
            <a:ext cx="4554360" cy="3416400"/>
          </a:xfrm>
          <a:prstGeom prst="rect">
            <a:avLst/>
          </a:prstGeom>
          <a:ln w="0">
            <a:noFill/>
          </a:ln>
        </p:spPr>
      </p:pic>
      <p:sp>
        <p:nvSpPr>
          <p:cNvPr id="533" name="文本框 16388"/>
          <p:cNvSpPr/>
          <p:nvPr/>
        </p:nvSpPr>
        <p:spPr>
          <a:xfrm>
            <a:off x="5943600" y="5214960"/>
            <a:ext cx="1676520" cy="57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  <a:hlinkClick r:id="rId2"/>
              </a:rPr>
              <a:t>青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3"/>
              </a:rPr>
              <a:t>藏高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图片 1" descr="物理"/>
          <p:cNvPicPr/>
          <p:nvPr/>
        </p:nvPicPr>
        <p:blipFill>
          <a:blip r:embed="rId4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2" descr="物理"/>
          <p:cNvPicPr/>
          <p:nvPr/>
        </p:nvPicPr>
        <p:blipFill>
          <a:blip r:embed="rId5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6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1:12:57Z</dcterms:created>
  <dc:creator>严增光</dc:creator>
  <dc:description/>
  <dc:language>en-US</dc:language>
  <cp:lastModifiedBy>Administrator</cp:lastModifiedBy>
  <dcterms:modified xsi:type="dcterms:W3CDTF">2016-03-10T02:55:3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