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4C3-D08D-4116-88A8-B48312EF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86F-E583-4737-9898-A4B16EBD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1AD-EAF7-4DB7-A04E-859CA156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43-CEF2-49BA-9D20-215CC23C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EF55-18E4-4759-8EE3-82AFB6FF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623A-BDDB-449C-86F1-D38E9D68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BBA5-26A1-4218-8BC8-00B3824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CA0E-D9AC-4215-8B0D-5295C22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A4E-BB3A-4698-9AB9-6C7CF5A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AA73-F45F-4313-B52F-3158DF7B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87D6-919D-4DC3-91CB-29D532C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F0B-04CD-4CC2-89B6-0B8EDA5F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010-86A2-41D2-A4A7-DFC4468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C5B-736F-413E-9154-6A71C81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D8D0-374E-4E47-95DD-BC2955E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54C-01E2-42C0-8005-069321EB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17CD-542A-4026-8CE3-6A3FFBB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FED-EE65-4C11-A4F4-F28A054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2B0-9C52-4AB9-9A8A-D14A7D04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3F7-E03E-4103-82AC-89F5C7C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A7D-4F59-4046-9174-E9A0B99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952-BDCC-4BFD-95E5-51CF13C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335-A6CE-4932-A47D-27D9C9A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9B6-A1EF-449E-8341-7C405E5E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C41-6C81-44CE-AFEA-A5242D80A4C6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7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8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03B-2885-4735-A252-97A56979BC7C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4364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996633"/>
                </a:solidFill>
                <a:latin typeface="Times New Roman"/>
              </a:rPr>
              <a:t>电和磁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后，轻轻敲板，铁屑为什么会产生规则排列？铁屑的排列与什么现象一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铁屑磁化变成“小磁针”，轻敲使铁屑可自由转动．使铁屑按磁场进行排列．其排列与条形磁体的排列相同，通电螺线管相当于条形磁体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改变通电方向，小磁针的指向有什么不同，说明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磁针指向相反，说明通电螺线管两端的极性与通电电流有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宋体"/>
              </a:rPr>
              <a:t>三、安培定则．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螺线管相当于一个条形磁体，其极性和电流方向的关系符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定则——右手螺旋定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安培定则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右手握螺线管，让四指弯向螺线管电流的方向，则大拇指所指的那端就是螺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的北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32432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h113_4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3" y="17806"/>
                </a:lnTo>
                <a:lnTo>
                  <a:pt x="7393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96080" y="6400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705720" cy="54864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69608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2291" y="10800"/>
                </a:moveTo>
                <a:lnTo>
                  <a:pt x="36304" y="3794"/>
                </a:lnTo>
                <a:lnTo>
                  <a:pt x="36304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162560" cy="585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43800" y="533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1905120"/>
            <a:ext cx="76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奥斯特实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10800"/>
                </a:moveTo>
                <a:lnTo>
                  <a:pt x="45872" y="3794"/>
                </a:lnTo>
                <a:lnTo>
                  <a:pt x="45872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带电体和磁体有一些相似的性质，这些相似是一种巧合呢？还是它们之间存在着某些联系呢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一、奥斯特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科学家们基于这种想法，一次又一次地寻找电与磁的联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丹麦物理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奥斯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终于用实验证实通电导体的周围存在着磁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一重大发现轰动了科学界，使电磁学进入一个新的发展时期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304920"/>
          <a:ext cx="40719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04920"/>
                    <a:ext cx="4071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38680" y="457200"/>
            <a:ext cx="327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丹麦物理学家奥斯特发现的电流磁效应，是科学史上的重大发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揭开了物理学史上的一个新纪元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奥斯特不只是一位著名的物理学家，还是一位优秀的教师．他的讲课有表演，有分析．他非常重视实验，他说过“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我不喜欢那种没有实验的枯燥的讲课，因为归根到底，所有的科学进展都是从实验开始的”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演示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将直导线与小磁针平行并放在小磁针的上方和下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观察（</a:t>
            </a:r>
            <a:r>
              <a:rPr b="0" lang="zh-CN" sz="36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点击观看实验视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当直导线通电时产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断电后发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改变通电电流的方向后发生什么现象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观察到的物理现象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时小磁针发生偏转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断电时小磁针转回到指南北的方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 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导线周围存在磁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电流方向相反，小磁针偏转方向也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总结奥斯特实验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：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象：导线通电，周围小磁针发生偏转；通电电流方向改变，小磁针偏转方向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律：通电导线周围存在磁场；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二、通电螺线管的磁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观察铁屑的分布和小磁针的指向．在板上均匀撒满铁屑在螺线管两端各放一个小磁针，通电后观察小磁针的指向．轻轻敲板，观察铁屑的排列．改变电流方向再观察一次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板上均匀撒满铁屑，通电后轻轻敲板，观察铁屑的排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前小磁针如何指向，通电后发生什么现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来小磁针指南北，通电后磁针偏转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1Z</dcterms:modified>
  <cp:revision>1</cp:revision>
  <dc:subject>恒谦教育网(www.hengqian.com)</dc:subject>
  <dc:title>恒谦教育网(www.hengqian.com)</dc:title>
</cp:coreProperties>
</file>