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A32-FB9B-498E-A1EA-C25664B4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CE7-C6FD-4349-81E1-449E72A7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401-C9B3-4156-9684-7F2022C1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95A-EDD0-41BF-8788-8951969E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212-6808-4A8E-B3F6-1ECED3FB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8E8C-ECCB-4A78-BF31-ADB071D2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D500-5254-448A-9871-BA45858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433C-A1B9-4112-8D44-6F82D1A9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FF8A-85AE-487A-B027-5114034D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8B22-D899-48C7-93A6-F6E7907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2CDB-9B1F-4EA3-8BC4-F07F57BE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0F0-A98D-4358-8F7A-FDE2602D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CC9E-87F4-440D-BED7-270D0807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4428-87A1-4480-AE39-C9530881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D179-FC9F-4183-AFB0-84B534E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723-AD77-42E3-99F8-ABF8775E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D8E-9BEA-4CBF-BB93-D1AB7636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F4A-2F44-49BB-8E5D-19268DF9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97C-81DA-45DD-928E-EB4BB87A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9B5-9BB5-454D-B6E7-ECA38D41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EB1-50BB-4169-989E-EFE70211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345-D470-43DE-B92B-7531FFBB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6B9F-DEF7-4E5E-932F-EFD8D59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62D-CAB0-4624-83E1-BC39BC1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379-57AC-4FA8-9395-7E0A4F96E6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069-D8D4-452C-B46E-6A6763C0763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" Target="slide8.xml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280" y="90360"/>
            <a:ext cx="8964720" cy="672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91360" y="1193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ahoma"/>
                <a:ea typeface="黑体"/>
              </a:rPr>
              <a:t>电磁波的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95160" y="198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  <a:ea typeface="黑体"/>
              </a:rPr>
              <a:t>电磁波如何产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08720" y="2333520"/>
            <a:ext cx="11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迅速变化</a:t>
            </a:r>
            <a:r>
              <a:rPr b="0" lang="zh-CN" sz="2000" spc="-1" strike="noStrike">
                <a:solidFill>
                  <a:srgbClr val="3333cc"/>
                </a:solidFill>
                <a:latin typeface="Tahoma"/>
                <a:ea typeface="黑体"/>
              </a:rPr>
              <a:t>的电流可以产生电磁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3633840" y="1989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  <a:ea typeface="黑体"/>
              </a:rPr>
              <a:t>（水波的产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06520" y="3141720"/>
            <a:ext cx="5289840" cy="398880"/>
            <a:chOff x="2306520" y="3141720"/>
            <a:chExt cx="5289840" cy="398880"/>
          </a:xfrm>
        </p:grpSpPr>
        <p:sp>
          <p:nvSpPr>
            <p:cNvPr id="108" name=""/>
            <p:cNvSpPr/>
            <p:nvPr/>
          </p:nvSpPr>
          <p:spPr>
            <a:xfrm>
              <a:off x="2306520" y="3141720"/>
              <a:ext cx="353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Tahoma"/>
                  <a:ea typeface="黑体"/>
                </a:rPr>
                <a:t>电磁波是怎样传播的？电磁波的传播需要介质吗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>
              <a:hlinkClick r:id="rId2" action="ppaction://hlinksldjump"/>
            </p:cNvPr>
            <p:cNvSpPr/>
            <p:nvPr/>
          </p:nvSpPr>
          <p:spPr>
            <a:xfrm>
              <a:off x="7020000" y="3213000"/>
              <a:ext cx="576360" cy="287280"/>
            </a:xfrm>
            <a:custGeom>
              <a:avLst/>
              <a:gdLst>
                <a:gd name="textAreaLeft" fmla="*/ 18360 w 576360"/>
                <a:gd name="textAreaRight" fmla="*/ 558000 w 576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43308" h="21600">
                  <a:moveTo>
                    <a:pt x="0" y="0"/>
                  </a:moveTo>
                  <a:lnTo>
                    <a:pt x="43308" y="0"/>
                  </a:lnTo>
                  <a:lnTo>
                    <a:pt x="43308" y="21600"/>
                  </a:lnTo>
                  <a:lnTo>
                    <a:pt x="0" y="21600"/>
                  </a:lnTo>
                  <a:close/>
                </a:path>
                <a:path fill="lightenLess" w="43308" h="21600">
                  <a:moveTo>
                    <a:pt x="0" y="0"/>
                  </a:moveTo>
                  <a:lnTo>
                    <a:pt x="43308" y="0"/>
                  </a:lnTo>
                  <a:lnTo>
                    <a:pt x="41908" y="1400"/>
                  </a:lnTo>
                  <a:lnTo>
                    <a:pt x="1400" y="1400"/>
                  </a:lnTo>
                  <a:close/>
                </a:path>
                <a:path fill="darken" w="43308" h="21600">
                  <a:moveTo>
                    <a:pt x="43308" y="0"/>
                  </a:moveTo>
                  <a:lnTo>
                    <a:pt x="43308" y="21600"/>
                  </a:lnTo>
                  <a:lnTo>
                    <a:pt x="41908" y="20200"/>
                  </a:lnTo>
                  <a:lnTo>
                    <a:pt x="41908" y="1400"/>
                  </a:lnTo>
                  <a:close/>
                </a:path>
                <a:path fill="darkenLess" w="43308" h="21600">
                  <a:moveTo>
                    <a:pt x="433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41908" y="20200"/>
                  </a:lnTo>
                  <a:close/>
                </a:path>
                <a:path fill="lighten" w="433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43308" h="21600">
                  <a:moveTo>
                    <a:pt x="14648" y="3794"/>
                  </a:moveTo>
                  <a:lnTo>
                    <a:pt x="28661" y="10800"/>
                  </a:lnTo>
                  <a:lnTo>
                    <a:pt x="14648" y="17806"/>
                  </a:lnTo>
                  <a:close/>
                </a:path>
              </a:pathLst>
            </a:cu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506480" y="3789360"/>
            <a:ext cx="4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  <a:ea typeface="黑体"/>
              </a:rPr>
              <a:t>电磁波的传播不需要介质。但电磁波可以在固体、液体和气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ahoma"/>
                <a:ea typeface="黑体"/>
              </a:rPr>
              <a:t>中传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46280" y="4395960"/>
            <a:ext cx="5300640" cy="1338120"/>
            <a:chOff x="1646280" y="4395960"/>
            <a:chExt cx="5300640" cy="1338120"/>
          </a:xfrm>
        </p:grpSpPr>
        <p:graphicFrame>
          <p:nvGraphicFramePr>
            <p:cNvPr id="112" name=""/>
            <p:cNvGraphicFramePr/>
            <p:nvPr/>
          </p:nvGraphicFramePr>
          <p:xfrm>
            <a:off x="3851280" y="4395960"/>
            <a:ext cx="3095640" cy="1338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51280" y="4395960"/>
                      <a:ext cx="3095640" cy="13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1646280" y="4832280"/>
              <a:ext cx="15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cc"/>
                  </a:solidFill>
                  <a:latin typeface="Tahoma"/>
                  <a:ea typeface="黑体"/>
                </a:rPr>
                <a:t>电磁波的传播速度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6084720" y="3645000"/>
            <a:ext cx="1079640" cy="576000"/>
          </a:xfrm>
          <a:prstGeom prst="wedgeRoundRectCallout">
            <a:avLst>
              <a:gd name="adj1" fmla="val -52796"/>
              <a:gd name="adj2" fmla="val 124106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波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4365720"/>
            <a:ext cx="1079280" cy="576000"/>
          </a:xfrm>
          <a:prstGeom prst="wedgeRoundRectCallout">
            <a:avLst>
              <a:gd name="adj1" fmla="val -114412"/>
              <a:gd name="adj2" fmla="val 65152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ahoma"/>
                <a:ea typeface="黑体"/>
              </a:rPr>
              <a:t>频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116000" y="5445000"/>
          <a:ext cx="7596360" cy="86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5445000"/>
                    <a:ext cx="759636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280360" cy="6210360"/>
          </a:xfrm>
          <a:prstGeom prst="rect">
            <a:avLst/>
          </a:prstGeom>
          <a:ln w="0">
            <a:noFill/>
          </a:ln>
        </p:spPr>
      </p:pic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10800"/>
                </a:moveTo>
                <a:lnTo>
                  <a:pt x="36144" y="3794"/>
                </a:lnTo>
                <a:lnTo>
                  <a:pt x="3614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23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324720" cy="622620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244000" y="6524640"/>
            <a:ext cx="900000" cy="333360"/>
          </a:xfrm>
          <a:custGeom>
            <a:avLst/>
            <a:gdLst>
              <a:gd name="textAreaLeft" fmla="*/ 21600 w 900000"/>
              <a:gd name="textAreaRight" fmla="*/ 878400 w 90000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58276" h="21600">
                <a:moveTo>
                  <a:pt x="0" y="0"/>
                </a:moveTo>
                <a:lnTo>
                  <a:pt x="58276" y="0"/>
                </a:lnTo>
                <a:lnTo>
                  <a:pt x="58276" y="21600"/>
                </a:lnTo>
                <a:lnTo>
                  <a:pt x="0" y="21600"/>
                </a:lnTo>
                <a:close/>
              </a:path>
              <a:path fill="lightenLess" w="58276" h="21600">
                <a:moveTo>
                  <a:pt x="0" y="0"/>
                </a:moveTo>
                <a:lnTo>
                  <a:pt x="58276" y="0"/>
                </a:lnTo>
                <a:lnTo>
                  <a:pt x="56876" y="1400"/>
                </a:lnTo>
                <a:lnTo>
                  <a:pt x="1400" y="1400"/>
                </a:lnTo>
                <a:close/>
              </a:path>
              <a:path fill="darken" w="58276" h="21600">
                <a:moveTo>
                  <a:pt x="58276" y="0"/>
                </a:moveTo>
                <a:lnTo>
                  <a:pt x="58276" y="21600"/>
                </a:lnTo>
                <a:lnTo>
                  <a:pt x="56876" y="20200"/>
                </a:lnTo>
                <a:lnTo>
                  <a:pt x="56876" y="1400"/>
                </a:lnTo>
                <a:close/>
              </a:path>
              <a:path fill="darkenLess" w="58276" h="21600">
                <a:moveTo>
                  <a:pt x="582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76" y="20200"/>
                </a:lnTo>
                <a:close/>
              </a:path>
              <a:path fill="lighten" w="582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276" h="21600">
                <a:moveTo>
                  <a:pt x="22131" y="10800"/>
                </a:moveTo>
                <a:lnTo>
                  <a:pt x="36144" y="3794"/>
                </a:lnTo>
                <a:lnTo>
                  <a:pt x="3614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96720" y="1628640"/>
            <a:ext cx="10009080" cy="26132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1907640" y="765000"/>
            <a:ext cx="3816720" cy="4210200"/>
            <a:chOff x="1907640" y="765000"/>
            <a:chExt cx="3816720" cy="4210200"/>
          </a:xfrm>
        </p:grpSpPr>
        <p:sp>
          <p:nvSpPr>
            <p:cNvPr id="125" name=""/>
            <p:cNvSpPr/>
            <p:nvPr/>
          </p:nvSpPr>
          <p:spPr>
            <a:xfrm flipV="1">
              <a:off x="1908000" y="907920"/>
              <a:ext cx="0" cy="865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427640" y="907920"/>
              <a:ext cx="0" cy="865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64000" y="1268280"/>
              <a:ext cx="863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907640" y="1268280"/>
              <a:ext cx="86364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32000" y="400536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24360" y="4005360"/>
              <a:ext cx="0" cy="718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8000" y="4508640"/>
              <a:ext cx="936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131640" y="4508640"/>
              <a:ext cx="792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3" name=""/>
            <p:cNvGraphicFramePr/>
            <p:nvPr/>
          </p:nvGraphicFramePr>
          <p:xfrm>
            <a:off x="4025880" y="4005360"/>
            <a:ext cx="762120" cy="969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25880" y="4005360"/>
                      <a:ext cx="762120" cy="96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" name=""/>
            <p:cNvGraphicFramePr/>
            <p:nvPr/>
          </p:nvGraphicFramePr>
          <p:xfrm>
            <a:off x="2771640" y="765000"/>
            <a:ext cx="762120" cy="970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71640" y="765000"/>
                      <a:ext cx="762120" cy="97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>
            <a:hlinkClick r:id="rId6" action="ppaction://hlinksldjump"/>
          </p:cNvPr>
          <p:cNvSpPr/>
          <p:nvPr/>
        </p:nvSpPr>
        <p:spPr>
          <a:xfrm>
            <a:off x="8244000" y="638172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10800"/>
                </a:moveTo>
                <a:lnTo>
                  <a:pt x="27407" y="3794"/>
                </a:lnTo>
                <a:lnTo>
                  <a:pt x="2740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100240" y="0"/>
            <a:ext cx="4992840" cy="710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0:52:40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0Z</dcterms:modified>
  <cp:revision>1</cp:revision>
  <dc:subject>恒谦教育网(www.hengqian.com)</dc:subject>
  <dc:title>恒谦教育网(www.hengqian.com)</dc:title>
</cp:coreProperties>
</file>