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FFC-4AEA-4FDF-B679-4B3E2424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9BB-A4FA-43CF-AB4F-D5B743CE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712-D298-4D1B-8ACC-70FA4198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902-5020-4642-A541-E0C9ABBB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F280-27EC-43D9-9AC0-8C8C582A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CFF5-0486-4CF0-8C16-0CC6CFC3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C473-926E-46B2-AF57-7834CC3D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69DA-6B2D-4C87-8C9F-44D3A429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4A0F-E9F1-465F-8843-B557A687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AF9E-41D7-4A38-96CF-15E23028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8174-FF89-490B-9396-29265707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188-0E74-4BDE-81CA-1F165B35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E4D0-4FB8-4CC4-999C-3F69A86B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EF04-7568-4F4B-978C-C3B71FF3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7A09-2C9C-4BDD-916F-C00431C1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9A67-A8E1-4791-9320-83913E77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01E4-67EA-47C6-BC36-64F29667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E835-46E8-48D5-BD16-BCF5AB2D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AEB-639F-480C-A651-F38FFA78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7A2-BE2B-411A-B05F-DB6A8367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FAD-22E0-4745-A567-2EEC1393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0BA-2959-410C-9589-58FE40B8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083-E3AE-43E7-A178-48501803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B60-FE94-4ECF-BB31-504A25A2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351A-ECDB-4F22-A5AE-DE215BA430A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FA14-D2E6-4B75-8AA9-86A9236B5F1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7431;&#22982;&#23450;&#24459;03.exe" TargetMode="External"/><Relationship Id="rId2" Type="http://schemas.openxmlformats.org/officeDocument/2006/relationships/hyperlink" Target="file:///&#27431;&#22982;&#23450;&#24459;03.exe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zh-CN" sz="6600" spc="-1" strike="noStrike">
                <a:solidFill>
                  <a:srgbClr val="ff0000"/>
                </a:solidFill>
                <a:latin typeface="华文彩云"/>
                <a:ea typeface="华文彩云"/>
              </a:rPr>
              <a:t>第七章   欧姆定律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4324"/>
                </a:solidFill>
                <a:latin typeface="华文行楷"/>
                <a:ea typeface="华文行楷"/>
              </a:rPr>
              <a:t>1.</a:t>
            </a:r>
            <a:r>
              <a:rPr b="1" lang="zh-CN" sz="4800" spc="-1" strike="noStrike">
                <a:solidFill>
                  <a:srgbClr val="dc4324"/>
                </a:solidFill>
                <a:latin typeface="华文行楷"/>
                <a:ea typeface="华文行楷"/>
              </a:rPr>
              <a:t>探究电阻上的电流跟两端电压的关系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029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ff33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隶书"/>
                <a:ea typeface="隶书"/>
              </a:rPr>
              <a:t>制作； 刘开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5248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45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106668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一   引入课题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8288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请看以下实验，思考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1828800" cy="723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1067040" cy="752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66880" y="2847960"/>
            <a:ext cx="3357360" cy="1206360"/>
          </a:xfrm>
          <a:custGeom>
            <a:avLst/>
            <a:gdLst/>
            <a:ahLst/>
            <a:rect l="l" t="t" r="r" b="b"/>
            <a:pathLst>
              <a:path w="9328" h="3349">
                <a:moveTo>
                  <a:pt x="5110" y="8558"/>
                </a:moveTo>
                <a:cubicBezTo>
                  <a:pt x="4986" y="8558"/>
                  <a:pt x="4862" y="8558"/>
                  <a:pt x="4738" y="8558"/>
                </a:cubicBezTo>
              </a:path>
              <a:path w="9328" h="3349">
                <a:moveTo>
                  <a:pt x="5159" y="8508"/>
                </a:moveTo>
                <a:cubicBezTo>
                  <a:pt x="5159" y="8516"/>
                  <a:pt x="5159" y="8525"/>
                  <a:pt x="5159" y="8533"/>
                </a:cubicBezTo>
                <a:cubicBezTo>
                  <a:pt x="4509" y="8533"/>
                  <a:pt x="3612" y="8380"/>
                  <a:pt x="3001" y="8558"/>
                </a:cubicBezTo>
                <a:cubicBezTo>
                  <a:pt x="2962" y="8569"/>
                  <a:pt x="2938" y="8592"/>
                  <a:pt x="2902" y="8607"/>
                </a:cubicBezTo>
                <a:cubicBezTo>
                  <a:pt x="2894" y="8607"/>
                  <a:pt x="2885" y="8607"/>
                  <a:pt x="2877" y="8607"/>
                </a:cubicBezTo>
                <a:cubicBezTo>
                  <a:pt x="2861" y="8639"/>
                  <a:pt x="2869" y="8625"/>
                  <a:pt x="2853" y="8657"/>
                </a:cubicBezTo>
                <a:cubicBezTo>
                  <a:pt x="2817" y="8668"/>
                  <a:pt x="2787" y="8672"/>
                  <a:pt x="2753" y="8682"/>
                </a:cubicBezTo>
                <a:cubicBezTo>
                  <a:pt x="2752" y="8683"/>
                  <a:pt x="2720" y="8698"/>
                  <a:pt x="2704" y="8706"/>
                </a:cubicBezTo>
                <a:cubicBezTo>
                  <a:pt x="2688" y="8738"/>
                  <a:pt x="2695" y="8724"/>
                  <a:pt x="2679" y="8756"/>
                </a:cubicBezTo>
                <a:cubicBezTo>
                  <a:pt x="2647" y="8772"/>
                  <a:pt x="2661" y="8765"/>
                  <a:pt x="2629" y="8781"/>
                </a:cubicBezTo>
                <a:cubicBezTo>
                  <a:pt x="2620" y="8808"/>
                  <a:pt x="2613" y="8828"/>
                  <a:pt x="2604" y="8855"/>
                </a:cubicBezTo>
                <a:cubicBezTo>
                  <a:pt x="2599" y="8869"/>
                  <a:pt x="2583" y="8887"/>
                  <a:pt x="2580" y="8930"/>
                </a:cubicBezTo>
                <a:cubicBezTo>
                  <a:pt x="2580" y="8938"/>
                  <a:pt x="2580" y="8946"/>
                  <a:pt x="2580" y="8954"/>
                </a:cubicBezTo>
                <a:cubicBezTo>
                  <a:pt x="2576" y="8967"/>
                  <a:pt x="2557" y="8985"/>
                  <a:pt x="2555" y="9029"/>
                </a:cubicBezTo>
                <a:cubicBezTo>
                  <a:pt x="2552" y="9103"/>
                  <a:pt x="2555" y="9178"/>
                  <a:pt x="2555" y="9252"/>
                </a:cubicBezTo>
                <a:cubicBezTo>
                  <a:pt x="2554" y="9254"/>
                  <a:pt x="2538" y="9285"/>
                  <a:pt x="2530" y="9302"/>
                </a:cubicBezTo>
                <a:cubicBezTo>
                  <a:pt x="2529" y="9304"/>
                  <a:pt x="2513" y="9334"/>
                  <a:pt x="2505" y="9351"/>
                </a:cubicBezTo>
                <a:cubicBezTo>
                  <a:pt x="2504" y="9353"/>
                  <a:pt x="2488" y="9384"/>
                  <a:pt x="2480" y="9401"/>
                </a:cubicBezTo>
                <a:cubicBezTo>
                  <a:pt x="2479" y="9405"/>
                  <a:pt x="2463" y="9446"/>
                  <a:pt x="2456" y="9475"/>
                </a:cubicBezTo>
                <a:cubicBezTo>
                  <a:pt x="2446" y="9513"/>
                  <a:pt x="2413" y="9544"/>
                  <a:pt x="2406" y="9575"/>
                </a:cubicBezTo>
                <a:cubicBezTo>
                  <a:pt x="2364" y="9760"/>
                  <a:pt x="2342" y="10339"/>
                  <a:pt x="2431" y="10492"/>
                </a:cubicBezTo>
                <a:cubicBezTo>
                  <a:pt x="2445" y="10516"/>
                  <a:pt x="2463" y="10520"/>
                  <a:pt x="2480" y="10542"/>
                </a:cubicBezTo>
              </a:path>
              <a:path w="9328" h="3349">
                <a:moveTo>
                  <a:pt x="4291" y="10840"/>
                </a:moveTo>
                <a:cubicBezTo>
                  <a:pt x="4291" y="10832"/>
                  <a:pt x="4291" y="10823"/>
                  <a:pt x="4291" y="10815"/>
                </a:cubicBezTo>
                <a:cubicBezTo>
                  <a:pt x="4328" y="10824"/>
                  <a:pt x="4343" y="10838"/>
                  <a:pt x="4390" y="10840"/>
                </a:cubicBezTo>
                <a:cubicBezTo>
                  <a:pt x="4540" y="10846"/>
                  <a:pt x="4700" y="10849"/>
                  <a:pt x="4837" y="10864"/>
                </a:cubicBezTo>
                <a:cubicBezTo>
                  <a:pt x="4911" y="10872"/>
                  <a:pt x="4963" y="10870"/>
                  <a:pt x="5035" y="10889"/>
                </a:cubicBezTo>
                <a:cubicBezTo>
                  <a:pt x="5072" y="10899"/>
                  <a:pt x="5088" y="10911"/>
                  <a:pt x="5135" y="10914"/>
                </a:cubicBezTo>
                <a:cubicBezTo>
                  <a:pt x="5194" y="10918"/>
                  <a:pt x="5236" y="10926"/>
                  <a:pt x="5283" y="10939"/>
                </a:cubicBezTo>
                <a:cubicBezTo>
                  <a:pt x="5357" y="10959"/>
                  <a:pt x="5406" y="10962"/>
                  <a:pt x="5482" y="10964"/>
                </a:cubicBezTo>
                <a:cubicBezTo>
                  <a:pt x="5626" y="10969"/>
                  <a:pt x="5768" y="10952"/>
                  <a:pt x="5904" y="10988"/>
                </a:cubicBezTo>
                <a:cubicBezTo>
                  <a:pt x="5955" y="11001"/>
                  <a:pt x="6020" y="11021"/>
                  <a:pt x="6077" y="11038"/>
                </a:cubicBezTo>
                <a:cubicBezTo>
                  <a:pt x="6118" y="11050"/>
                  <a:pt x="6188" y="11048"/>
                  <a:pt x="6226" y="11063"/>
                </a:cubicBezTo>
                <a:cubicBezTo>
                  <a:pt x="6283" y="11086"/>
                  <a:pt x="6315" y="11096"/>
                  <a:pt x="6375" y="11112"/>
                </a:cubicBezTo>
                <a:cubicBezTo>
                  <a:pt x="6428" y="11126"/>
                  <a:pt x="6463" y="11154"/>
                  <a:pt x="6524" y="11162"/>
                </a:cubicBezTo>
                <a:cubicBezTo>
                  <a:pt x="6583" y="11169"/>
                  <a:pt x="6621" y="11174"/>
                  <a:pt x="6672" y="11187"/>
                </a:cubicBezTo>
                <a:cubicBezTo>
                  <a:pt x="6710" y="11197"/>
                  <a:pt x="6730" y="11206"/>
                  <a:pt x="6772" y="11212"/>
                </a:cubicBezTo>
                <a:cubicBezTo>
                  <a:pt x="6823" y="11220"/>
                  <a:pt x="6872" y="11232"/>
                  <a:pt x="6921" y="11237"/>
                </a:cubicBezTo>
                <a:cubicBezTo>
                  <a:pt x="7025" y="11249"/>
                  <a:pt x="7138" y="11237"/>
                  <a:pt x="7243" y="11237"/>
                </a:cubicBezTo>
                <a:cubicBezTo>
                  <a:pt x="7251" y="11239"/>
                  <a:pt x="7299" y="11259"/>
                  <a:pt x="7342" y="11261"/>
                </a:cubicBezTo>
                <a:cubicBezTo>
                  <a:pt x="7721" y="11276"/>
                  <a:pt x="8104" y="11261"/>
                  <a:pt x="8483" y="11261"/>
                </a:cubicBezTo>
                <a:cubicBezTo>
                  <a:pt x="8487" y="11259"/>
                  <a:pt x="8534" y="11217"/>
                  <a:pt x="8558" y="11212"/>
                </a:cubicBezTo>
                <a:cubicBezTo>
                  <a:pt x="8582" y="11212"/>
                  <a:pt x="8591" y="11212"/>
                  <a:pt x="8607" y="11212"/>
                </a:cubicBezTo>
                <a:cubicBezTo>
                  <a:pt x="8607" y="11187"/>
                  <a:pt x="8607" y="11162"/>
                  <a:pt x="8607" y="11137"/>
                </a:cubicBezTo>
              </a:path>
              <a:path w="9328" h="3349">
                <a:moveTo>
                  <a:pt x="10616" y="11137"/>
                </a:moveTo>
                <a:cubicBezTo>
                  <a:pt x="10737" y="11137"/>
                  <a:pt x="10851" y="11152"/>
                  <a:pt x="10964" y="11162"/>
                </a:cubicBezTo>
                <a:cubicBezTo>
                  <a:pt x="11054" y="11170"/>
                  <a:pt x="11147" y="11162"/>
                  <a:pt x="11237" y="11162"/>
                </a:cubicBezTo>
                <a:cubicBezTo>
                  <a:pt x="11245" y="11154"/>
                  <a:pt x="11278" y="11120"/>
                  <a:pt x="11286" y="11112"/>
                </a:cubicBezTo>
                <a:cubicBezTo>
                  <a:pt x="11302" y="11092"/>
                  <a:pt x="11302" y="11059"/>
                  <a:pt x="11336" y="11038"/>
                </a:cubicBezTo>
                <a:cubicBezTo>
                  <a:pt x="11344" y="11038"/>
                  <a:pt x="11353" y="11038"/>
                  <a:pt x="11361" y="11038"/>
                </a:cubicBezTo>
                <a:cubicBezTo>
                  <a:pt x="11372" y="10992"/>
                  <a:pt x="11367" y="11012"/>
                  <a:pt x="11385" y="10988"/>
                </a:cubicBezTo>
                <a:cubicBezTo>
                  <a:pt x="11409" y="10967"/>
                  <a:pt x="11450" y="10934"/>
                  <a:pt x="11485" y="10914"/>
                </a:cubicBezTo>
                <a:cubicBezTo>
                  <a:pt x="11496" y="10881"/>
                  <a:pt x="11495" y="10882"/>
                  <a:pt x="11509" y="10840"/>
                </a:cubicBezTo>
                <a:cubicBezTo>
                  <a:pt x="11526" y="10820"/>
                  <a:pt x="11542" y="10804"/>
                  <a:pt x="11559" y="10765"/>
                </a:cubicBezTo>
                <a:cubicBezTo>
                  <a:pt x="11586" y="10743"/>
                  <a:pt x="11629" y="10728"/>
                  <a:pt x="11658" y="10691"/>
                </a:cubicBezTo>
                <a:cubicBezTo>
                  <a:pt x="11681" y="10668"/>
                  <a:pt x="11689" y="10664"/>
                  <a:pt x="11683" y="10641"/>
                </a:cubicBezTo>
                <a:cubicBezTo>
                  <a:pt x="11702" y="10610"/>
                  <a:pt x="11725" y="10625"/>
                  <a:pt x="11733" y="10567"/>
                </a:cubicBezTo>
                <a:cubicBezTo>
                  <a:pt x="11772" y="10289"/>
                  <a:pt x="11782" y="9831"/>
                  <a:pt x="11708" y="9575"/>
                </a:cubicBezTo>
                <a:cubicBezTo>
                  <a:pt x="11700" y="9547"/>
                  <a:pt x="11692" y="9527"/>
                  <a:pt x="11683" y="9500"/>
                </a:cubicBezTo>
                <a:cubicBezTo>
                  <a:pt x="11656" y="9493"/>
                  <a:pt x="11654" y="9491"/>
                  <a:pt x="11633" y="9475"/>
                </a:cubicBezTo>
                <a:cubicBezTo>
                  <a:pt x="11620" y="9444"/>
                  <a:pt x="11625" y="9406"/>
                  <a:pt x="11609" y="9376"/>
                </a:cubicBezTo>
                <a:cubicBezTo>
                  <a:pt x="11597" y="9353"/>
                  <a:pt x="11571" y="9322"/>
                  <a:pt x="11559" y="9302"/>
                </a:cubicBezTo>
                <a:cubicBezTo>
                  <a:pt x="11542" y="9285"/>
                  <a:pt x="11526" y="9269"/>
                  <a:pt x="11509" y="9252"/>
                </a:cubicBezTo>
                <a:cubicBezTo>
                  <a:pt x="11493" y="9214"/>
                  <a:pt x="11483" y="9189"/>
                  <a:pt x="11460" y="9153"/>
                </a:cubicBezTo>
                <a:cubicBezTo>
                  <a:pt x="11437" y="9117"/>
                  <a:pt x="11426" y="9092"/>
                  <a:pt x="11410" y="9054"/>
                </a:cubicBezTo>
                <a:cubicBezTo>
                  <a:pt x="11404" y="9043"/>
                  <a:pt x="11370" y="9010"/>
                  <a:pt x="11361" y="8979"/>
                </a:cubicBezTo>
                <a:cubicBezTo>
                  <a:pt x="11361" y="8971"/>
                  <a:pt x="11361" y="8962"/>
                  <a:pt x="11361" y="8954"/>
                </a:cubicBezTo>
                <a:cubicBezTo>
                  <a:pt x="11331" y="8932"/>
                  <a:pt x="11292" y="8917"/>
                  <a:pt x="11261" y="8880"/>
                </a:cubicBezTo>
                <a:cubicBezTo>
                  <a:pt x="11246" y="8862"/>
                  <a:pt x="11226" y="8825"/>
                  <a:pt x="11212" y="8806"/>
                </a:cubicBezTo>
                <a:cubicBezTo>
                  <a:pt x="11185" y="8790"/>
                  <a:pt x="11139" y="8772"/>
                  <a:pt x="11112" y="8756"/>
                </a:cubicBezTo>
                <a:cubicBezTo>
                  <a:pt x="11104" y="8748"/>
                  <a:pt x="11071" y="8714"/>
                  <a:pt x="11063" y="8706"/>
                </a:cubicBezTo>
                <a:cubicBezTo>
                  <a:pt x="11053" y="8696"/>
                  <a:pt x="11026" y="8643"/>
                  <a:pt x="11013" y="8632"/>
                </a:cubicBezTo>
                <a:cubicBezTo>
                  <a:pt x="10980" y="8605"/>
                  <a:pt x="10951" y="8585"/>
                  <a:pt x="10914" y="8558"/>
                </a:cubicBezTo>
                <a:cubicBezTo>
                  <a:pt x="10880" y="8533"/>
                  <a:pt x="10850" y="8526"/>
                  <a:pt x="10815" y="8508"/>
                </a:cubicBezTo>
                <a:cubicBezTo>
                  <a:pt x="10804" y="8502"/>
                  <a:pt x="10771" y="8467"/>
                  <a:pt x="10740" y="8458"/>
                </a:cubicBezTo>
                <a:cubicBezTo>
                  <a:pt x="10732" y="8458"/>
                  <a:pt x="10724" y="8458"/>
                  <a:pt x="10716" y="8458"/>
                </a:cubicBezTo>
                <a:cubicBezTo>
                  <a:pt x="10693" y="8425"/>
                  <a:pt x="10715" y="8442"/>
                  <a:pt x="10666" y="8434"/>
                </a:cubicBezTo>
                <a:cubicBezTo>
                  <a:pt x="10646" y="8419"/>
                  <a:pt x="10632" y="8399"/>
                  <a:pt x="10592" y="8384"/>
                </a:cubicBezTo>
                <a:cubicBezTo>
                  <a:pt x="10551" y="8368"/>
                  <a:pt x="10541" y="8365"/>
                  <a:pt x="10492" y="8359"/>
                </a:cubicBezTo>
                <a:cubicBezTo>
                  <a:pt x="10291" y="8336"/>
                  <a:pt x="10074" y="8359"/>
                  <a:pt x="9872" y="8359"/>
                </a:cubicBezTo>
                <a:cubicBezTo>
                  <a:pt x="9854" y="8315"/>
                  <a:pt x="9878" y="8303"/>
                  <a:pt x="9847" y="8260"/>
                </a:cubicBezTo>
                <a:cubicBezTo>
                  <a:pt x="9819" y="8221"/>
                  <a:pt x="9776" y="8208"/>
                  <a:pt x="9748" y="8186"/>
                </a:cubicBezTo>
                <a:cubicBezTo>
                  <a:pt x="9733" y="8166"/>
                  <a:pt x="9732" y="8132"/>
                  <a:pt x="9699" y="8111"/>
                </a:cubicBezTo>
                <a:cubicBezTo>
                  <a:pt x="9691" y="8111"/>
                  <a:pt x="9682" y="8111"/>
                  <a:pt x="9674" y="8111"/>
                </a:cubicBezTo>
                <a:cubicBezTo>
                  <a:pt x="9666" y="8103"/>
                  <a:pt x="9632" y="8070"/>
                  <a:pt x="9624" y="8062"/>
                </a:cubicBezTo>
                <a:cubicBezTo>
                  <a:pt x="9609" y="8042"/>
                  <a:pt x="9608" y="8008"/>
                  <a:pt x="9575" y="7987"/>
                </a:cubicBezTo>
                <a:cubicBezTo>
                  <a:pt x="9567" y="7987"/>
                  <a:pt x="9558" y="7987"/>
                  <a:pt x="9550" y="7987"/>
                </a:cubicBezTo>
                <a:cubicBezTo>
                  <a:pt x="9539" y="7953"/>
                  <a:pt x="9539" y="7956"/>
                  <a:pt x="9525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请思考：如果要使灯泡变暗有何办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267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方法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去掉一节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267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方法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给电路增加电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724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257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相同的灯泡，但发光程度不同，说明流过它们的电流不同。哪么电流可能和什么因素有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4572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二  探究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电阻上的电流与电压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828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探究过程的基本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362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提出问题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3623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电阻上的电流与电压有何关系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猜想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276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设计实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基本电路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733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思路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1: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要测量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I.U,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电路中要有电流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电压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1911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思路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2: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要改变电流和电压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有几种方法</a:t>
            </a:r>
            <a:r>
              <a:rPr b="1" lang="zh-CN" sz="2800" spc="-1" strike="noStrike">
                <a:solidFill>
                  <a:srgbClr val="dc4324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46483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A: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改变电池的个数可以改变电流和电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5105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B: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改变电阻 可以可改变电流和电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5562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C: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电路中连接滑动变阻器可以改变电流和电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152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二  探究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电阻上的电流与电压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2057400"/>
            <a:ext cx="53352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4,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进行实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71760" y="1546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781280"/>
          <a:ext cx="7238520" cy="4466880"/>
        </p:xfrm>
        <a:graphic>
          <a:graphicData uri="http://schemas.openxmlformats.org/drawingml/2006/table">
            <a:tbl>
              <a:tblPr/>
              <a:tblGrid>
                <a:gridCol w="2258280"/>
                <a:gridCol w="1095840"/>
                <a:gridCol w="789120"/>
                <a:gridCol w="859680"/>
                <a:gridCol w="859680"/>
                <a:gridCol w="1375920"/>
              </a:tblGrid>
              <a:tr h="660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流跟电压及电阻的关系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ulim"/>
                          <a:ea typeface="Gulim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阻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Gulim"/>
                          <a:ea typeface="Gulim"/>
                        </a:rPr>
                        <a:t>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阻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阻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571760" y="4848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33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152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二  探究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电阻上的电流与电压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19320" y="152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二  探究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电阻上的电流与电压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4038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209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析和论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2819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电阻不变时，电压越大，电流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429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电压不变时，电阻越大，电流越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8769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46483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通过导体中的电流与加在导体两端的电压成正比，与导体的电阻成反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152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二  探究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dc4324"/>
                </a:solidFill>
                <a:latin typeface="华文行楷"/>
                <a:ea typeface="华文行楷"/>
              </a:rPr>
              <a:t>电阻上的电流与电压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1905120"/>
            <a:ext cx="7315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评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（实验设计有没有不合理的地方？操作中有没有失误？测量数据和所得的结论是不是可靠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96252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交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（把你们的探究过程及结论告诉老师或其它小组的同学，征求他们的意见。既要改正自己的错误、弥补不足，又要为自己的正确观点和做法辩护。把交流情况简要的记录下来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9891" t="19229" r="0" b="-195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657600" y="2666880"/>
            <a:ext cx="4176720" cy="2471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5600" spc="-1" strike="noStrike">
                <a:solidFill>
                  <a:srgbClr val="ff3300"/>
                </a:solidFill>
                <a:latin typeface="Arial"/>
              </a:rPr>
              <a:t>再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5373720"/>
            <a:ext cx="50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2007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年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月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20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3:56Z</dcterms:modified>
  <cp:revision>1</cp:revision>
  <dc:subject>恒谦教育网(www.hengqian.com)</dc:subject>
  <dc:title>恒谦教育网(www.hengqian.com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