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14.gif" ContentType="image/gif"/>
  <Override PartName="/ppt/media/image13.png" ContentType="image/png"/>
  <Override PartName="/ppt/media/chimes.wav" ContentType="audio/x-wav"/>
  <Override PartName="/ppt/media/image8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AEC-55DC-4351-BEB3-F2DFE67C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28D-2015-4A01-B2CA-173DB3AA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84B-C5F1-45EA-AF59-38D87B9F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328-2FBF-4175-92CA-C08CB5CB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309A-1033-400F-B7A9-CCA7AE5F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250B-5467-4495-8032-C090576A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2333-F1FD-4BCB-B90F-DE1FF0E4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7923-96EC-40E4-AA99-C57CF55F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6A4E-4437-4066-A794-2C868626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30AA-E534-416E-9925-07A1DEDC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9759-EDE8-43C1-9382-978938E1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54A-0560-49F0-BF46-C87C73E6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8745-EE1B-469C-B3A7-8000A6AB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79F4-EAF6-40D0-A36F-1C3852F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0B9A-3F0C-410A-AB6D-742C12B9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1A5F-605B-4CE1-8094-7CF0BC25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ACC8-BD60-492F-A9B5-AE0CEE67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FDE45-C60D-43FC-BD38-F4600314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D7E98-2F14-4446-A4AB-EAAD00BE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F285B-F884-4AE1-993A-18F0BCCF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37407A-C1EF-473D-9EF7-B9ADE62D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5AB57-724A-482A-82F2-A28811B9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F06-A71F-405D-BD2C-62CC74DC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1253E-4AA3-45CD-9AA0-C9D4250B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237F5-B830-4AEE-8A51-728C51C9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91A67-9885-41D2-9D63-C68A181C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763DA-CB3F-4CD1-AEB5-3875B08D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C33542-BBC9-4F4F-B851-8C5AC85A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A9C74-1730-4C2B-A5D6-F12D9AEB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BAF74C-CA4E-47E2-8923-B45DA720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7087-2B27-42B7-9CFE-19462471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3B83B-C711-40D7-8709-D41FC66D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8EAAF-79C8-461E-B3A9-8BF77AD1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71A-5197-4358-8231-EA280B56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8115-1166-4919-9A1A-67D0DA54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0A302-C48B-4026-8908-B72E5EE3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9FC68-F94D-4D11-8830-1BEB1035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EC904-8C94-4F31-9C37-8E2AF3C5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DFB9-3D5A-484D-9F59-2252A5C8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1412B-07C1-44C8-A99D-53691228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3B0FF-3D23-4AE6-9839-5F996882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172CD-7568-4E87-9C57-38840D92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5CD9-A379-4869-9CC2-C85C3A72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C9708-AE15-43A9-9AF3-019F0171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C0B-9804-4F66-BAC0-1115D9DC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A2EB4-90E6-4F61-9BA4-9326788F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F515B-03CE-4D66-89C5-6D4AE72C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33A6D-D28B-4968-B8E7-6B18E96E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85C87-3B54-4E3A-BC89-0E32D4C1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3A0E6-943F-4B97-BCA2-4A8CE943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B607B-C03A-4EFE-8FBA-A701DC74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FF6B9-96D5-44C2-82EC-960341EF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303E3-0200-4356-BA28-4C99F237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863E4-5D7A-4D96-A651-BB3EEE9F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019E5-5A44-4866-849F-45702F6C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92C-51CA-4FBB-B5FA-801A006B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31DC1-A4CB-416D-BDDD-52C54996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49B8B-4F2F-4E2E-8058-EB8D9B2B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FBD32-4F1C-453A-A928-E77F488B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5E171-B4E7-493B-ACD5-54D4F165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85A0C-36CE-4D6B-BDD9-1185523A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64138-B89A-4214-91CF-4055E7BE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28250-D66A-4CDA-B09C-04205B2C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3B6CA-A0D9-4B62-9A36-33B2F08D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6349B-5D7D-4A5C-984F-60C058DA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370D9-7660-4806-8C8D-89677DD5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148-5E6F-4E7F-AF9E-55F19958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84DD-F884-46A8-AB14-8C1C05EE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AA2C2-F6D8-4309-8851-9CF5EAF3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04746-68B8-4D2E-A236-1B080766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5146-D95E-4DC8-8AC8-0705E4C4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8C3-7703-4794-8A49-38D0C0CE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509A-6296-4113-8453-B7A75F5372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E91C-686D-4CEF-BE64-E8BC0635A7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54F6-20F3-4114-A128-C4530010507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B6B8-8AE1-415D-8D5E-63E8B65B638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1F4C-93DE-4096-AC2C-D1DDA1C8F7C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89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36A6-337D-4EEC-9304-2C1DC7661D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62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image" Target="../media/image14.gi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file:///&#30913;&#29616;&#35937;%20&#35838;&#20214;1.swf" TargetMode="External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hyperlink" Target="file:///&#30913;&#38081;&#21560;&#24341;&#38081;&#23633;.swf" TargetMode="External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30913;&#29616;&#35937;%20&#35838;&#20214;1.swf" TargetMode="External"/><Relationship Id="rId2" Type="http://schemas.openxmlformats.org/officeDocument/2006/relationships/hyperlink" Target="file:///&#30913;&#29616;&#35937;%20&#35838;&#20214;1.swf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30913;&#21270;.swf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9320" y="646200"/>
            <a:ext cx="1912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磁现象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826920" y="26028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隶书"/>
              </a:rPr>
              <a:t>应用：磁悬浮列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95280" y="3284640"/>
            <a:ext cx="8424720" cy="3389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2052000" y="1197000"/>
            <a:ext cx="487476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连接上海国际机场与市区的磁悬浮列车最高速度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3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千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小时，全线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7.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千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该列车由德国磁悬浮高速列车国际公司承建，并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首次通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1332000" y="1341360"/>
            <a:ext cx="6408720" cy="46087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023840" y="260280"/>
            <a:ext cx="66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隶书"/>
              </a:rPr>
              <a:t>起重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85800" y="380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幼圆"/>
              </a:rPr>
              <a:t>磁现象在现代科技生产生活中的应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523880" y="990720"/>
            <a:ext cx="2819520" cy="2303640"/>
            <a:chOff x="1523880" y="990720"/>
            <a:chExt cx="2819520" cy="2303640"/>
          </a:xfrm>
        </p:grpSpPr>
        <p:graphicFrame>
          <p:nvGraphicFramePr>
            <p:cNvPr id="388" name=""/>
            <p:cNvGraphicFramePr/>
            <p:nvPr/>
          </p:nvGraphicFramePr>
          <p:xfrm>
            <a:off x="1523880" y="990720"/>
            <a:ext cx="2819520" cy="1922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990720"/>
                      <a:ext cx="2819520" cy="192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0" name=""/>
            <p:cNvSpPr/>
            <p:nvPr/>
          </p:nvSpPr>
          <p:spPr>
            <a:xfrm>
              <a:off x="1600200" y="2895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Times New Roman"/>
                </a:rPr>
                <a:t>地质工作者正在进行磁法勘探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181480" y="1600200"/>
            <a:ext cx="3581280" cy="2456280"/>
            <a:chOff x="5181480" y="1600200"/>
            <a:chExt cx="3581280" cy="2456280"/>
          </a:xfrm>
        </p:grpSpPr>
        <p:graphicFrame>
          <p:nvGraphicFramePr>
            <p:cNvPr id="392" name=""/>
            <p:cNvGraphicFramePr/>
            <p:nvPr/>
          </p:nvGraphicFramePr>
          <p:xfrm>
            <a:off x="5410080" y="1600200"/>
            <a:ext cx="3048120" cy="202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1600200"/>
                      <a:ext cx="3048120" cy="202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4" name=""/>
            <p:cNvSpPr/>
            <p:nvPr/>
          </p:nvSpPr>
          <p:spPr>
            <a:xfrm>
              <a:off x="5181480" y="3657600"/>
              <a:ext cx="358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Times New Roman"/>
                </a:rPr>
                <a:t>磁共振成像的胸部显影片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57200" y="3870360"/>
            <a:ext cx="3048120" cy="2837520"/>
            <a:chOff x="457200" y="3870360"/>
            <a:chExt cx="3048120" cy="2837520"/>
          </a:xfrm>
        </p:grpSpPr>
        <p:graphicFrame>
          <p:nvGraphicFramePr>
            <p:cNvPr id="396" name=""/>
            <p:cNvGraphicFramePr/>
            <p:nvPr/>
          </p:nvGraphicFramePr>
          <p:xfrm>
            <a:off x="457200" y="3870360"/>
            <a:ext cx="3048120" cy="2128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7200" y="3870360"/>
                      <a:ext cx="3048120" cy="212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8" name=""/>
            <p:cNvSpPr/>
            <p:nvPr/>
          </p:nvSpPr>
          <p:spPr>
            <a:xfrm>
              <a:off x="914400" y="60040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计算机房的磁带和磁盘存储器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7"/>
          <a:stretch/>
        </p:blipFill>
        <p:spPr>
          <a:xfrm>
            <a:off x="3124080" y="5334120"/>
            <a:ext cx="1163880" cy="121896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5105520" y="4419720"/>
            <a:ext cx="2666880" cy="1999080"/>
            <a:chOff x="5105520" y="4419720"/>
            <a:chExt cx="2666880" cy="1999080"/>
          </a:xfrm>
        </p:grpSpPr>
        <p:pic>
          <p:nvPicPr>
            <p:cNvPr id="401" name="" descr=""/>
            <p:cNvPicPr/>
            <p:nvPr/>
          </p:nvPicPr>
          <p:blipFill>
            <a:blip r:embed="rId8"/>
            <a:stretch/>
          </p:blipFill>
          <p:spPr>
            <a:xfrm>
              <a:off x="5410440" y="4419720"/>
              <a:ext cx="236196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5105520" y="60199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ff"/>
                  </a:solidFill>
                  <a:latin typeface="Arial"/>
                </a:rPr>
                <a:t>录音带、录像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68360" y="1341360"/>
            <a:ext cx="8209080" cy="48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物体能够吸引含铁质物体的性质，叫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具有这一性质的物体叫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根磁铁上磁性最强的部分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这个部分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分别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用一根细线系在一根条形磁铁的中间，悬挂在空气静止，可发现条形磁铁总是指向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方向，条形磁铁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指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指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95280" y="600120"/>
            <a:ext cx="1728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68360" y="1206360"/>
            <a:ext cx="8209080" cy="51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４、用条形磁铁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去靠近某物体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端，发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能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端吸引过来，则物体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端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定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   　　　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能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能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　　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定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５、某物体的一端靠近静止的一根小磁针，当靠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小磁针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时都能吸引，则这物体的这端（    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能是无磁性的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能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可能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极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定有磁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24000" y="528480"/>
            <a:ext cx="1655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552600" y="2412720"/>
            <a:ext cx="8123040" cy="22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zh-CN" sz="8800" spc="-1" strike="noStrike">
                <a:solidFill>
                  <a:srgbClr val="ffff00"/>
                </a:solidFill>
                <a:latin typeface="Arial"/>
              </a:rPr>
              <a:t>磁现象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5191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Garamond"/>
              </a:rPr>
              <a:t>动手动脑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39720" y="2157480"/>
            <a:ext cx="8540640" cy="27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通过做实验解决下面的问题</a:t>
            </a: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磁体能够吸引桌上的哪些东西</a:t>
            </a: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磁体上的磁性强弱处处一样吗</a:t>
            </a: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3.“</a:t>
            </a: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指南针”是如何得名的</a:t>
            </a:r>
            <a:r>
              <a:rPr b="1" lang="zh-CN" sz="3600" spc="-1" strike="noStrike">
                <a:solidFill>
                  <a:srgbClr val="ffff00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3520" y="12193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: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能吸引铁、钴、镍 等物质的性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>
            <a:hlinkClick r:id="rId1" action="ppaction://hlinksldjump"/>
          </p:cNvPr>
          <p:cNvSpPr/>
          <p:nvPr/>
        </p:nvSpPr>
        <p:spPr>
          <a:xfrm>
            <a:off x="611280" y="236232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>
                <a:solidFill>
                  <a:srgbClr val="e5e5ff"/>
                </a:solidFill>
                <a:latin typeface="黑体"/>
                <a:ea typeface="黑体"/>
              </a:rPr>
              <a:t>具有磁性的物体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1280" y="3716280"/>
            <a:ext cx="9145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12193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磁性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971640" y="234936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磁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62120" y="3276720"/>
          <a:ext cx="4314600" cy="29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4314600" cy="29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5410080" y="342900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条形、针形、蹄形、圆柱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3808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、磁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602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fla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24000" y="404640"/>
            <a:ext cx="10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95480" y="117000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4920" y="9907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把铁屑均匀地铺在白纸上，将磁体依次平放在铁屑上，然后将磁体提起，观察现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0"/>
            <a:ext cx="3276720" cy="304920"/>
          </a:xfrm>
          <a:prstGeom prst="cloudCallout">
            <a:avLst>
              <a:gd name="adj1" fmla="val -1791"/>
              <a:gd name="adj2" fmla="val 326564"/>
            </a:avLst>
          </a:prstGeom>
          <a:solidFill>
            <a:srgbClr val="ffcc00"/>
          </a:solidFill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实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251460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磁体两端的磁性最强，中间磁性最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40384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磁体上磁性最强的部位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6172200" y="40384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磁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324480" y="60199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5410080" cy="40384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7740720" y="55166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fla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24000" y="3789360"/>
            <a:ext cx="100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77080" y="386064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9810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rcRect l="96675" t="15748" r="2953" b="3937"/>
          <a:stretch/>
        </p:blipFill>
        <p:spPr>
          <a:xfrm>
            <a:off x="10261440" y="297000"/>
            <a:ext cx="46080" cy="7343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684360" y="0"/>
            <a:ext cx="3384360" cy="1224000"/>
          </a:xfrm>
          <a:prstGeom prst="wedgeEllipseCallout">
            <a:avLst>
              <a:gd name="adj1" fmla="val 55254"/>
              <a:gd name="adj2" fmla="val 82166"/>
            </a:avLst>
          </a:prstGeom>
          <a:solidFill>
            <a:srgbClr val="ffcc00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1268280"/>
            <a:ext cx="907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将小磁针放在针尖上，用手拨动小磁针，观察静止时的指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隶书"/>
              </a:rPr>
              <a:t>注意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669999"/>
                </a:solidFill>
                <a:latin typeface="隶书"/>
                <a:ea typeface="隶书"/>
              </a:rPr>
              <a:t>、不要让磁体靠近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669999"/>
                </a:solidFill>
                <a:latin typeface="隶书"/>
                <a:ea typeface="隶书"/>
              </a:rPr>
              <a:t>、观察其他同学小磁针的指向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32000" y="0"/>
            <a:ext cx="2392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实验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414972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磁针静止后的位置总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指向南北方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55640" y="4869000"/>
            <a:ext cx="7016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磁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指向北面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一端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极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指向南面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一端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极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24000" y="260280"/>
            <a:ext cx="2190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4" name=""/>
          <p:cNvSpPr/>
          <p:nvPr/>
        </p:nvSpPr>
        <p:spPr>
          <a:xfrm>
            <a:off x="1187280" y="129528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果磁体被分割成两段或几段后，每一段磁体上是否仍然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极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43000" y="2438280"/>
            <a:ext cx="74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每一段磁体上仍然有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极和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7696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68360" y="1506600"/>
            <a:ext cx="77644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zh-CN" sz="5400" spc="-1" strike="noStrike" u="sng">
                <a:solidFill>
                  <a:srgbClr val="7e9ce8"/>
                </a:solidFill>
                <a:uFillTx/>
                <a:latin typeface="Arial"/>
                <a:ea typeface="隶书"/>
                <a:hlinkClick r:id="rId1"/>
              </a:rPr>
              <a:t>磁极间相互作用的规律</a:t>
            </a:r>
            <a:r>
              <a:rPr b="0" lang="zh-CN" sz="5400" spc="-1" strike="noStrike" u="sng">
                <a:solidFill>
                  <a:srgbClr val="7e9ce8"/>
                </a:solidFill>
                <a:uFillTx/>
                <a:latin typeface="Arial"/>
                <a:ea typeface="隶书"/>
                <a:hlinkClick r:id="rId2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43120" y="3284640"/>
            <a:ext cx="707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同名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磁极相互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排斥</a:t>
            </a:r>
            <a:r>
              <a:rPr b="1" lang="zh-CN" sz="5400" spc="-1" strike="noStrike">
                <a:solidFill>
                  <a:srgbClr val="330066"/>
                </a:solidFill>
                <a:latin typeface="Arial"/>
                <a:ea typeface="隶书"/>
              </a:rPr>
              <a:t>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隶书"/>
              </a:rPr>
              <a:t>异名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隶书"/>
              </a:rPr>
              <a:t>磁极相互</a:t>
            </a: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隶书"/>
              </a:rPr>
              <a:t>吸引</a:t>
            </a:r>
            <a:r>
              <a:rPr b="1" lang="zh-CN" sz="5400" spc="-1" strike="noStrike">
                <a:solidFill>
                  <a:srgbClr val="330066"/>
                </a:solidFill>
                <a:latin typeface="Arial"/>
                <a:ea typeface="隶书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04920" y="1219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磁化现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使原来没有磁性的物体获得磁性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50920" y="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实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72" name=""/>
          <p:cNvSpPr/>
          <p:nvPr/>
        </p:nvSpPr>
        <p:spPr>
          <a:xfrm>
            <a:off x="1258920" y="404640"/>
            <a:ext cx="3384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磁化实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1828800"/>
            <a:ext cx="81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被磁化的物体如果是铁棒，获得的磁性会立即消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8360" y="2362320"/>
            <a:ext cx="80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被磁化的物体如果是钢棒，获得的磁性就会保持较长的时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9840" y="3886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磁化方式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3962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、接触或靠近磁体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4495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、用磁体的一极沿同一方向多次摩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5" descr=""/>
          <p:cNvPicPr/>
          <p:nvPr/>
        </p:nvPicPr>
        <p:blipFill>
          <a:blip r:embed="rId2"/>
          <a:stretch/>
        </p:blipFill>
        <p:spPr>
          <a:xfrm>
            <a:off x="0" y="45720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2:07:32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3:59Z</dcterms:modified>
  <cp:revision>1</cp:revision>
  <dc:subject>恒谦教育网(www.hengqian.com)</dc:subject>
  <dc:title>恒谦教育网(www.hengqian.com)</dc:title>
</cp:coreProperties>
</file>