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2E3-A49F-4826-8BD5-1E5834B6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D7E-0B93-428B-B9C0-3D31BE76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4DA-3EFE-4A39-9BA2-11DB6ADF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624-6755-4F0D-B484-034A5ECC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6C7-0CE2-40BE-95C0-3753E1F5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628-A24A-495B-9B4B-158A6B71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A18-5A50-4CD4-9C54-C0B432C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94A-8A2B-4A0D-8737-03070970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012-EF11-43DF-B98B-947032A2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F15-BBA1-4E06-BD79-7DF039D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F3C-2BF2-48F1-8BC8-3C6B6FE5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574-ED83-431E-AFA2-9F209143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EE44-7D64-4018-8C42-62BF781CB9B2}" type="slidenum">
              <a:rPr b="0" lang="zh-CN" sz="1400" spc="-1" strike="noStrike">
                <a:solidFill>
                  <a:srgbClr val="00009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68280"/>
            <a:ext cx="91440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电 功 率 与</a:t>
            </a:r>
            <a:endParaRPr b="0" lang="en-US" sz="129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安 全 用 电</a:t>
            </a:r>
            <a:endParaRPr b="0" lang="en-US" sz="1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98108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71800" y="2819520"/>
            <a:ext cx="36576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981080"/>
            <a:ext cx="496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19520" y="2666880"/>
            <a:ext cx="3276360" cy="327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981080"/>
            <a:ext cx="5038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115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981080"/>
            <a:ext cx="496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见几种不常见的保险丝：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71800" y="2819520"/>
            <a:ext cx="3137040" cy="2816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71640" y="17002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四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924280"/>
            <a:ext cx="56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道怎么更换保险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4292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了安全起见，首先断开电路，然后更换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1044720"/>
            <a:ext cx="1850760" cy="47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90440" y="1447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家庭生活中怎样预防火灾？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9150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8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达标反馈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8713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我国家庭电路电压是（       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所以用电功率越大，电路中电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越（  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      ）是烧坏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保险丝的原因，甚至引起火灾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保险丝是用（     ）制作的，它的熔点比较（    ）电阻比较（      ），不能用（        ）（　）代替保险丝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安装保险丝时应使得保险丝的（　　）电流略大于电路中所有用电器正常工作时的（　　）电流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５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更换保险丝时首先要（　　　　）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楷体_GB2312"/>
              </a:rPr>
              <a:t>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33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巩固练习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197000"/>
            <a:ext cx="8207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现要安装“２２０Ｖ，２５Ｗ”的灯泡２５只应选择下列哪种规格的保险丝（　　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熔断电流为３Ａ　　　　Ｂ额定电流为３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熔断电流为５Ａ　　　　Ｄ额定电流为５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71628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某家庭用电器总功率不超过２０００Ｗ，可选做合适的电能表是（　　　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３８０Ｖ５Ａ　　　　　　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３８０Ｖ１０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２２０Ｖ１０Ａ　　　　　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２２０Ｖ１０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260280"/>
            <a:ext cx="8785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某家庭电路中，已知两盏电灯正常发光，如果再使用一个电熨斗，则该电路的（　　　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总电流变大　　　　　　　　Ｂ总电压变大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总电阻变大　　　　　　　　Ｄ总功率变大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21300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家庭电路中的保险丝不能用铜导线代替的原因是（　）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Ａ电阻率大，熔点高　　　Ｂ电阻率大，熔点低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Ｃ电阻率小，熔点高　　　Ｄ电阻率小，熔点低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2205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５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只“２２０Ｖ５Ａ”的电能表，可以用在最大功率为（　　　）瓦的家庭电路中，现有额定电流为３安、５安、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５安三种规格的保险丝，这个电路应选用（　　　）安的保险丝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9120" y="990720"/>
            <a:ext cx="1954080" cy="50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74800" y="1447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你了解电的用途吗？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473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64880" y="189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家庭用电“十要十不要”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92280"/>
            <a:ext cx="87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   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一、要使用功率大的家电（如空调器等），须先到供电部门申请报装扩容，不要私自在原有的线路上增加用电器具。  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   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二、选用合格的用电器具，不要图便宜而采用不合格的用电器具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三、要严格按照用电器具有的容量选用适当截面的电线，不要盲目增加用电器，使电线超负荷运行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四、要选用与电线负荷相适应的保险熔丝，不要任意用粗铜丝来代替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五、要将相线（也称火线）进开关，不要使用“一线一地制”。     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189000"/>
            <a:ext cx="86421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六、要对规定使用接地的用电器具金属外壳做好接地保护，不要忘记用三线插座、插头和安装接地线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七、要牢记在更换熔丝或检修电器前须拉开电源开关做好安全保护措施，不要冒险带电工作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八、要将电视机室外天线安装牢固可靠，不要高出附近避雷针或靠近高压线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九、使用完毕，要及时切断电熨斗、电吹风、电炉等电器的电源，不要在无人看管的情况下使用这类电器。      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十、要爱护公用电线，不要在架空线附近放风筝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10080" y="147780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、超负荷用电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10426" r="0" b="15134"/>
          <a:stretch/>
        </p:blipFill>
        <p:spPr>
          <a:xfrm>
            <a:off x="2362320" y="2133720"/>
            <a:ext cx="4800600" cy="3539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613760" y="5729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用电器的总功率过大，容易发生火灾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0920" y="162864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一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781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道家庭电路中的用电功率和电流之间的关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1523880"/>
            <a:ext cx="7263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根据电功率和电流、电压的关系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=I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可以得到：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　　　　　　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 = P / U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324240"/>
            <a:ext cx="7162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　　家庭电路中的电压是一定的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=220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所以用电功率越大，电路中的电流就越大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4664160"/>
            <a:ext cx="7483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　　注意：电路中同时使用的用电器不能太多太大，否则容易烧坏保险丝，甚至引起火灾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1413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二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2565360"/>
            <a:ext cx="66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了解保险丝的作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860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当电路中的电流超过保险丝的额定电流时，保险丝自动熔断而切断电路，起到保险的作用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95640" y="148428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互动三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270828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道保险丝的材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386064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观察各种各样的保险丝，得到保险丝是由熔点比较低、电阻比较大的铅锑合金制作的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138400"/>
            <a:ext cx="739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怎样来保护家用电器不会因为电流过大而烧坏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19564" r="0" b="11986"/>
          <a:stretch/>
        </p:blipFill>
        <p:spPr>
          <a:xfrm>
            <a:off x="2133720" y="3048120"/>
            <a:ext cx="5048280" cy="266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143240" y="5683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保险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60000" y="1477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保险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86120"/>
            <a:ext cx="754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怎样来保护家用电器不会因为电流过大而烧坏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2682720"/>
            <a:ext cx="5333760" cy="3413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7:03:11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7Z</dcterms:modified>
  <cp:revision>1</cp:revision>
  <dc:subject>恒谦教育网(www.hengqian.com)</dc:subject>
  <dc:title>恒谦教育网(www.hengqian.com)</dc:title>
</cp:coreProperties>
</file>