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explode.wav" ContentType="audio/x-wav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8.gif" ContentType="image/gif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gif" ContentType="image/gif"/>
  <Override PartName="/ppt/media/image23.png" ContentType="image/png"/>
  <Override PartName="/ppt/media/image21.png" ContentType="image/png"/>
  <Override PartName="/ppt/media/image20.png" ContentType="image/png"/>
  <Override PartName="/ppt/media/image19.png" ContentType="image/png"/>
  <Override PartName="/ppt/media/image22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9ABF2-D55C-4182-9200-6FF6B985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E9EAC-C3FE-4A52-A915-A30B7523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17D7A-C7D1-49A1-8572-92E5A656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E6AD5-65F7-423F-9157-6B119E49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579A9-58ED-4491-AAF1-101101A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8F7A4-EC28-455A-B4DB-D13BEFCD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E3C0E-651C-4914-8570-5E984B3D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F4F91-7C9D-4FDC-BB70-C93189EC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6BC8F-4509-4A88-8B8A-92001D6F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7C38B-A98B-49C0-A6C2-A21323D5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A1E37-4D34-4C1E-BE93-1800BCBE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C6E95-B2A9-4A47-82DC-89BBE961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73BD4-33F6-4D28-A326-53FE2D50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94E18-1E18-4156-A864-189C8151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9D9C4-06C3-493B-87D5-9F52ACAF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4672A-2335-4502-AA67-D1769AA0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25393-4453-4ABF-AB29-60DB29E6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9909F-3BC1-4079-9C45-55EB357B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6BA52-F925-4014-9E48-2F52A17C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CC73D-28AB-43D2-A149-5FDE49A5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5826A-0867-4FE1-BC79-44712288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BB2-A0F3-4216-96F5-3A7D06A9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766-DC93-44C6-A555-F8E1BC42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7CB-781C-4009-985C-28C96B2E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324-4C88-4A76-AE1D-7BEEDF4F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D25-CB92-4740-B3D9-A25C4BE1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C73-7D85-4E2D-868B-D536867F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0AB-EC9F-4538-8F9C-12C36D2B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FC0-A4F9-497A-8610-0284B23F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DB2-040A-4357-8AF6-BDB37845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C66-F145-46EC-89FC-C861D5D5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937-10C3-47F8-900D-6E19EF2E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748-3360-4EFF-AB7B-86432A75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A090-CCC1-4C3F-9D0B-9F0831B2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5AC6-8D4A-4F64-A763-45DE23B8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9612-E20A-479E-907A-EAF028FB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D989-8CDF-4A42-B40E-5A10C4C7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8B01-7917-4E3C-8C14-9BD7922E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88C6-DE8C-424F-B69F-774FC4E7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420E-5D8E-4D41-8C24-2E1B994D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2FBF-3940-423E-A02A-75A4D659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92C5-C187-44FE-91D4-B6617CA3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BBD8-867E-43CE-AC4E-B9D3D3ED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274E-E84C-4341-A085-ED34C067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9B0A-8638-4E35-80E6-2B6AB11D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3428-AE60-4113-A1E3-33F9B5E7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7ADE-5E51-43B4-B014-FA972060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AAAA-358E-464B-87EE-6B49E72B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CF0D2-55B5-447B-A98D-6DEEF3AA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C6504-D834-458A-95C7-9A568B56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84AF-0430-433E-8734-23933440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579E9-2CA6-4273-8AAE-B0CB1F32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8EB0D-4034-4823-B71A-0007B407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4055-E2E8-4FD9-B497-C7388195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3075C-F289-4D3D-8F76-407E5358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31504-03F1-4ED5-BEF8-287307AC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2047-26D3-4D78-954C-D276F3B0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C9321-DBB1-4C20-816B-47D2248F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BB3FD-390D-4B0C-B13A-0F188EF2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BBE93-9DC8-4472-9EA1-002EC5BE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8C20-8CD7-46C1-8836-744794E6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78ED-F92A-40F2-8361-3B8FDA89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99B9-6365-4A92-8DB4-50DB43D6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C1073-A837-499C-8432-BE967DED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91680-30AC-48AA-B526-32036AEF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A9098-B0E6-4368-9993-0DDCEAF0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FA44B-8D53-4953-9538-575BB674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DDF8A-352B-4C24-9C3C-98C6082C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6E364-EE39-4E7C-9FF2-D422E49F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482F7-AA1D-4046-9621-6765841B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10208-C785-4C6E-AEE9-C3512281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F1934-5FE1-4F64-8E54-B8AEDCB6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E5B7A-19C3-4B13-AC05-F278ABBA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D917B-7BF6-4D58-B8ED-61A2DE15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74DA4-6979-4048-9C47-6DF70C71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7CF9-4726-4002-8000-89B07F9E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4FDDE-BCF0-496B-827F-43F2A85D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781CA-AD87-4665-90F1-D6384E8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EAC19-AA33-4CD2-859D-88CE436B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BCC0A-4FAC-4F85-9811-9BBFC68B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9D4D9-4CC0-469B-8B95-E9B6D5A9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1CA9E-5E53-4200-B73D-68A928EB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A7A92-53FF-4910-9397-A7E827B4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EA35-3629-4294-A36D-96170177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E5464-DF9E-41A6-AC06-B1A48013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BE8AC-B07E-49D5-B91C-3EFDEE06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E12B5-E61F-4903-AD29-01463B7D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61743-30D3-40B2-9FDC-1CEB18D6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29DE-3A07-4D8F-A130-5D7C2BF0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F0229-1F02-4FDA-BAA3-9C66D837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6C52D-6190-4E4F-8DF1-6E6FB494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BF178-03F2-4FC5-B1E1-CE409773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F71D0-4447-4B01-AEA8-1AA42A7E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1E289-2CCC-4E02-A6FB-A6595242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8CF40-F996-4A70-AE6A-53D5C601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E1DBC-85F6-4E50-8EDE-1F7507DA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E933D-4754-4F25-9CBB-0305240A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7B453-F8AF-4FEF-866B-A96CBB6C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B8D96-C47B-4545-B050-54B57BAF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281FC-4C4D-4A64-8C85-507E5856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BD831-10DA-44C1-AE58-74C9EAC3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01AE8-7F68-4505-8CA3-46557FB9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EC6F2-FC4C-4D45-A4C2-450ECAC2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5BCF8-9787-4841-9383-CB4F9BD9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644C9-FE16-477D-A760-D2CD72D4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4C5B9-02D2-4E3A-875C-D0197325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CD0D9-8673-4F31-9600-DF079490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E0936-457E-4EDF-B5B2-8F62A4CD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3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F2FF-5480-428F-AE14-505C62332336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0AA8-C474-40D6-930B-000758312D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6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9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120B-149C-4C1C-9A23-A918B97DE2F8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6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9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1B8F-333E-44E2-AA2A-05652AD84C75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2F84-A0A5-420C-ADF8-B91DBC5127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5350-C601-4787-88C9-B34CCFE43C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65B4-43A5-46A2-B979-1DA0025DCD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F6BB-0D27-4C69-B642-A7A5B9ACE5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45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49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C890-E96E-4A72-9972-1B1E38E8CCFA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629080" y="5445000"/>
            <a:ext cx="65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主讲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福田河中心学校  陈平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68360" y="3357720"/>
            <a:ext cx="658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第六节    生活用电常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5600" y="1314360"/>
            <a:ext cx="16434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华文彩云"/>
                <a:ea typeface="华文彩云"/>
              </a:rPr>
              <a:t>Physic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71640" y="1341360"/>
            <a:ext cx="554544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第八章    电功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477800" cy="1477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二、插座   接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38680" cy="42926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4067280" y="2492280"/>
            <a:ext cx="4968720" cy="4321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826920" y="3789360"/>
            <a:ext cx="755640" cy="2017800"/>
          </a:xfrm>
          <a:custGeom>
            <a:avLst/>
            <a:gdLst>
              <a:gd name="textAreaLeft" fmla="*/ 47880 w 755640"/>
              <a:gd name="textAreaRight" fmla="*/ 707760 w 755640"/>
              <a:gd name="textAreaTop" fmla="*/ 47880 h 2017800"/>
              <a:gd name="textAreaBottom" fmla="*/ 1969920 h 2017800"/>
            </a:gdLst>
            <a:ahLst/>
            <a:rect l="textAreaLeft" t="textAreaTop" r="textAreaRight" b="textAreaBottom"/>
            <a:pathLst>
              <a:path w="21600" h="57662">
                <a:moveTo>
                  <a:pt x="4680" y="0"/>
                </a:moveTo>
                <a:arcTo wR="4680" hR="4680" stAng="16200000" swAng="-5400000"/>
                <a:lnTo>
                  <a:pt x="0" y="52982"/>
                </a:lnTo>
                <a:arcTo wR="4680" hR="4680" stAng="10800000" swAng="-5400000"/>
                <a:lnTo>
                  <a:pt x="16920" y="57662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孔插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16360" y="5805360"/>
            <a:ext cx="2160720" cy="567000"/>
          </a:xfrm>
          <a:prstGeom prst="roundRect">
            <a:avLst>
              <a:gd name="adj" fmla="val 21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孔插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77407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900000" y="6291360"/>
            <a:ext cx="3024360" cy="566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隶书"/>
              </a:rPr>
              <a:t>接法：左零右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826920" y="404640"/>
            <a:ext cx="13716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用电器外壳没有接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6337080" cy="613404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6257880" y="1654200"/>
            <a:ext cx="76212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250" autoRev="1" fill="hold"/>
                                        <p:tgtEl>
                                          <p:spTgt spid="6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24000" y="404640"/>
            <a:ext cx="5545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三、触电的几种形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3816360" cy="45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9" name=""/>
          <p:cNvGraphicFramePr/>
          <p:nvPr/>
        </p:nvGraphicFramePr>
        <p:xfrm>
          <a:off x="1476360" y="4653000"/>
          <a:ext cx="871560" cy="15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4653000"/>
                    <a:ext cx="8715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1" name="" descr=""/>
          <p:cNvPicPr/>
          <p:nvPr/>
        </p:nvPicPr>
        <p:blipFill>
          <a:blip r:embed="rId4"/>
          <a:stretch/>
        </p:blipFill>
        <p:spPr>
          <a:xfrm>
            <a:off x="2239920" y="3932280"/>
            <a:ext cx="676440" cy="95256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96720" y="2492280"/>
            <a:ext cx="755640" cy="3097440"/>
          </a:xfrm>
          <a:custGeom>
            <a:avLst/>
            <a:gdLst>
              <a:gd name="textAreaLeft" fmla="*/ 47880 w 755640"/>
              <a:gd name="textAreaRight" fmla="*/ 707760 w 755640"/>
              <a:gd name="textAreaTop" fmla="*/ 47880 h 3097440"/>
              <a:gd name="textAreaBottom" fmla="*/ 3049560 h 3097440"/>
            </a:gdLst>
            <a:ahLst/>
            <a:rect l="textAreaLeft" t="textAreaTop" r="textAreaRight" b="textAreaBottom"/>
            <a:pathLst>
              <a:path w="21600" h="88509">
                <a:moveTo>
                  <a:pt x="4680" y="0"/>
                </a:moveTo>
                <a:arcTo wR="4680" hR="4680" stAng="16200000" swAng="-5400000"/>
                <a:lnTo>
                  <a:pt x="0" y="83829"/>
                </a:lnTo>
                <a:arcTo wR="4680" hR="4680" stAng="10800000" swAng="-5400000"/>
                <a:lnTo>
                  <a:pt x="16920" y="88509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压电弧触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4572000" y="2276640"/>
            <a:ext cx="4572000" cy="4536720"/>
            <a:chOff x="4572000" y="2276640"/>
            <a:chExt cx="4572000" cy="4536720"/>
          </a:xfrm>
        </p:grpSpPr>
        <p:grpSp>
          <p:nvGrpSpPr>
            <p:cNvPr id="634" name=""/>
            <p:cNvGrpSpPr/>
            <p:nvPr/>
          </p:nvGrpSpPr>
          <p:grpSpPr>
            <a:xfrm>
              <a:off x="4572000" y="2276640"/>
              <a:ext cx="4572000" cy="4536720"/>
              <a:chOff x="4572000" y="2276640"/>
              <a:chExt cx="4572000" cy="4536720"/>
            </a:xfrm>
          </p:grpSpPr>
          <p:graphicFrame>
            <p:nvGraphicFramePr>
              <p:cNvPr id="635" name=""/>
              <p:cNvGraphicFramePr/>
              <p:nvPr/>
            </p:nvGraphicFramePr>
            <p:xfrm>
              <a:off x="4572000" y="2276640"/>
              <a:ext cx="4572000" cy="4536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3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72000" y="2276640"/>
                        <a:ext cx="4572000" cy="4536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7" name=""/>
              <p:cNvSpPr/>
              <p:nvPr/>
            </p:nvSpPr>
            <p:spPr>
              <a:xfrm>
                <a:off x="4958280" y="5874840"/>
                <a:ext cx="321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Times New Roman"/>
                    <a:ea typeface="隶书"/>
                  </a:rPr>
                  <a:t>U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280120" y="6187320"/>
                <a:ext cx="19296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4829400" y="6187320"/>
                <a:ext cx="25704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893840" y="5418360"/>
                <a:ext cx="579240" cy="612720"/>
              </a:xfrm>
              <a:custGeom>
                <a:avLst/>
                <a:gdLst/>
                <a:ahLst/>
                <a:rect l="l" t="t" r="r" b="b"/>
                <a:pathLst>
                  <a:path w="432" h="376">
                    <a:moveTo>
                      <a:pt x="0" y="376"/>
                    </a:moveTo>
                    <a:cubicBezTo>
                      <a:pt x="28" y="228"/>
                      <a:pt x="56" y="80"/>
                      <a:pt x="96" y="40"/>
                    </a:cubicBezTo>
                    <a:cubicBezTo>
                      <a:pt x="136" y="0"/>
                      <a:pt x="184" y="80"/>
                      <a:pt x="240" y="136"/>
                    </a:cubicBezTo>
                    <a:cubicBezTo>
                      <a:pt x="296" y="192"/>
                      <a:pt x="400" y="336"/>
                      <a:pt x="432" y="376"/>
                    </a:cubicBezTo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41" name="" descr=""/>
            <p:cNvPicPr/>
            <p:nvPr/>
          </p:nvPicPr>
          <p:blipFill>
            <a:blip r:embed="rId7"/>
            <a:stretch/>
          </p:blipFill>
          <p:spPr>
            <a:xfrm>
              <a:off x="7740720" y="3573360"/>
              <a:ext cx="865080" cy="69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619280" y="1197000"/>
            <a:ext cx="5545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高压触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40360" y="2421000"/>
            <a:ext cx="755640" cy="3097080"/>
          </a:xfrm>
          <a:custGeom>
            <a:avLst/>
            <a:gdLst>
              <a:gd name="textAreaLeft" fmla="*/ 47880 w 755640"/>
              <a:gd name="textAreaRight" fmla="*/ 707760 w 755640"/>
              <a:gd name="textAreaTop" fmla="*/ 47880 h 3097080"/>
              <a:gd name="textAreaBottom" fmla="*/ 3049200 h 3097080"/>
            </a:gdLst>
            <a:ahLst/>
            <a:rect l="textAreaLeft" t="textAreaTop" r="textAreaRight" b="textAreaBottom"/>
            <a:pathLst>
              <a:path w="21600" h="88498">
                <a:moveTo>
                  <a:pt x="4680" y="0"/>
                </a:moveTo>
                <a:arcTo wR="4680" hR="4680" stAng="16200000" swAng="-5400000"/>
                <a:lnTo>
                  <a:pt x="0" y="83818"/>
                </a:lnTo>
                <a:arcTo wR="4680" hR="4680" stAng="10800000" swAng="-5400000"/>
                <a:lnTo>
                  <a:pt x="16920" y="88498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压跨步电压触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56000" y="2276640"/>
            <a:ext cx="1368360" cy="576000"/>
          </a:xfrm>
          <a:prstGeom prst="cloudCallout">
            <a:avLst>
              <a:gd name="adj1" fmla="val -24013"/>
              <a:gd name="adj2" fmla="val 132643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高压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6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686040" cy="453708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4906800" y="1844640"/>
            <a:ext cx="3913200" cy="453708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395280" y="3139920"/>
            <a:ext cx="755640" cy="2017800"/>
          </a:xfrm>
          <a:custGeom>
            <a:avLst/>
            <a:gdLst>
              <a:gd name="textAreaLeft" fmla="*/ 47880 w 755640"/>
              <a:gd name="textAreaRight" fmla="*/ 707760 w 755640"/>
              <a:gd name="textAreaTop" fmla="*/ 47880 h 2017800"/>
              <a:gd name="textAreaBottom" fmla="*/ 1969920 h 2017800"/>
            </a:gdLst>
            <a:ahLst/>
            <a:rect l="textAreaLeft" t="textAreaTop" r="textAreaRight" b="textAreaBottom"/>
            <a:pathLst>
              <a:path w="21600" h="57662">
                <a:moveTo>
                  <a:pt x="4680" y="0"/>
                </a:moveTo>
                <a:arcTo wR="4680" hR="4680" stAng="16200000" swAng="-5400000"/>
                <a:lnTo>
                  <a:pt x="0" y="52982"/>
                </a:lnTo>
                <a:arcTo wR="4680" hR="4680" stAng="10800000" swAng="-5400000"/>
                <a:lnTo>
                  <a:pt x="16920" y="57662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双线触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812000" y="3139920"/>
            <a:ext cx="755640" cy="2017800"/>
          </a:xfrm>
          <a:custGeom>
            <a:avLst/>
            <a:gdLst>
              <a:gd name="textAreaLeft" fmla="*/ 47880 w 755640"/>
              <a:gd name="textAreaRight" fmla="*/ 707760 w 755640"/>
              <a:gd name="textAreaTop" fmla="*/ 47880 h 2017800"/>
              <a:gd name="textAreaBottom" fmla="*/ 1969920 h 2017800"/>
            </a:gdLst>
            <a:ahLst/>
            <a:rect l="textAreaLeft" t="textAreaTop" r="textAreaRight" b="textAreaBottom"/>
            <a:pathLst>
              <a:path w="21600" h="57662">
                <a:moveTo>
                  <a:pt x="4680" y="0"/>
                </a:moveTo>
                <a:arcTo wR="4680" hR="4680" stAng="16200000" swAng="-5400000"/>
                <a:lnTo>
                  <a:pt x="0" y="52982"/>
                </a:lnTo>
                <a:arcTo wR="4680" hR="4680" stAng="10800000" swAng="-5400000"/>
                <a:lnTo>
                  <a:pt x="16920" y="57662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单线触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19280" y="549360"/>
            <a:ext cx="5545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低压触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50920" y="134136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隶书"/>
                <a:ea typeface="华文隶书"/>
              </a:rPr>
              <a:t>四、安全用电的原则</a:t>
            </a:r>
            <a:r>
              <a:rPr b="1" lang="zh-CN" sz="4400" spc="-1" strike="noStrike">
                <a:solidFill>
                  <a:srgbClr val="0000ff"/>
                </a:solidFill>
                <a:latin typeface="华文隶书"/>
                <a:ea typeface="华文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80000" y="465300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不接触低压带电体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08360" y="306864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不靠近高压带电体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187308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611280" y="404640"/>
            <a:ext cx="5545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五、触电的急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103640" cy="326700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713120" y="1341360"/>
            <a:ext cx="4249800" cy="32400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1042920" y="501336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首先切断电源，然后进行抢救或灭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68360" y="69228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一、家庭电路的组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84160" y="2455920"/>
            <a:ext cx="7620120" cy="243036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655560" y="4513320"/>
            <a:ext cx="2683080" cy="764280"/>
            <a:chOff x="655560" y="4513320"/>
            <a:chExt cx="2683080" cy="764280"/>
          </a:xfrm>
        </p:grpSpPr>
        <p:sp>
          <p:nvSpPr>
            <p:cNvPr id="547" name=""/>
            <p:cNvSpPr/>
            <p:nvPr/>
          </p:nvSpPr>
          <p:spPr>
            <a:xfrm>
              <a:off x="655560" y="4817880"/>
              <a:ext cx="2683080" cy="459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进户线和连接导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46280" y="4513320"/>
              <a:ext cx="0" cy="30456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842920" y="3369960"/>
            <a:ext cx="1905120" cy="1907640"/>
            <a:chOff x="2842920" y="3369960"/>
            <a:chExt cx="1905120" cy="1907640"/>
          </a:xfrm>
        </p:grpSpPr>
        <p:sp>
          <p:nvSpPr>
            <p:cNvPr id="550" name=""/>
            <p:cNvSpPr/>
            <p:nvPr/>
          </p:nvSpPr>
          <p:spPr>
            <a:xfrm>
              <a:off x="3513240" y="4817880"/>
              <a:ext cx="1234800" cy="459720"/>
            </a:xfrm>
            <a:prstGeom prst="rect">
              <a:avLst/>
            </a:prstGeom>
            <a:solidFill>
              <a:srgbClr val="ff5050">
                <a:alpha val="50000"/>
              </a:srgbClr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电能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2842920" y="3369960"/>
              <a:ext cx="1066680" cy="144756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617720" y="3218040"/>
            <a:ext cx="1829160" cy="2059560"/>
            <a:chOff x="4617720" y="3218040"/>
            <a:chExt cx="1829160" cy="2059560"/>
          </a:xfrm>
        </p:grpSpPr>
        <p:sp>
          <p:nvSpPr>
            <p:cNvPr id="553" name=""/>
            <p:cNvSpPr/>
            <p:nvPr/>
          </p:nvSpPr>
          <p:spPr>
            <a:xfrm>
              <a:off x="4998960" y="4817880"/>
              <a:ext cx="1447920" cy="459720"/>
            </a:xfrm>
            <a:prstGeom prst="rect">
              <a:avLst/>
            </a:prstGeom>
            <a:solidFill>
              <a:srgbClr val="ff5050">
                <a:alpha val="50000"/>
              </a:srgbClr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闸刀开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4617720" y="3218040"/>
              <a:ext cx="685800" cy="159984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617720" y="3827160"/>
            <a:ext cx="3200760" cy="1450440"/>
            <a:chOff x="4617720" y="3827160"/>
            <a:chExt cx="3200760" cy="1450440"/>
          </a:xfrm>
        </p:grpSpPr>
        <p:sp>
          <p:nvSpPr>
            <p:cNvPr id="556" name=""/>
            <p:cNvSpPr/>
            <p:nvPr/>
          </p:nvSpPr>
          <p:spPr>
            <a:xfrm>
              <a:off x="6599160" y="4817880"/>
              <a:ext cx="1219320" cy="459720"/>
            </a:xfrm>
            <a:prstGeom prst="rect">
              <a:avLst/>
            </a:prstGeom>
            <a:solidFill>
              <a:srgbClr val="ff5050">
                <a:alpha val="50000"/>
              </a:srgbClr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熔断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4617720" y="3827160"/>
              <a:ext cx="2514600" cy="99036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370560" y="3141720"/>
            <a:ext cx="2378160" cy="1447920"/>
            <a:chOff x="6370560" y="3141720"/>
            <a:chExt cx="2378160" cy="1447920"/>
          </a:xfrm>
        </p:grpSpPr>
        <p:sp>
          <p:nvSpPr>
            <p:cNvPr id="559" name=""/>
            <p:cNvSpPr/>
            <p:nvPr/>
          </p:nvSpPr>
          <p:spPr>
            <a:xfrm>
              <a:off x="6370560" y="3141720"/>
              <a:ext cx="1447920" cy="1447920"/>
            </a:xfrm>
            <a:prstGeom prst="rect">
              <a:avLst/>
            </a:prstGeom>
            <a:noFill/>
            <a:ln cap="rnd" w="50760">
              <a:solidFill>
                <a:srgbClr val="ff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94800" y="3218040"/>
              <a:ext cx="853920" cy="825480"/>
            </a:xfrm>
            <a:prstGeom prst="rect">
              <a:avLst/>
            </a:prstGeom>
            <a:solidFill>
              <a:srgbClr val="ff5050">
                <a:alpha val="50000"/>
              </a:srgbClr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插座灯座开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10382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家庭电路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供电。我国家庭电路的电压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516720" y="168588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19640" y="10382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户外低压电力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0920" y="3070080"/>
            <a:ext cx="26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进户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252360" y="3933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两根线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124000" y="3068640"/>
            <a:ext cx="142920" cy="17272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40000" y="307008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火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68360" y="393372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零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3640" y="393372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电源端接地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6659640" y="2997360"/>
            <a:ext cx="216000" cy="1726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64200" y="3213000"/>
            <a:ext cx="217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线间电压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:220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179280" y="476280"/>
            <a:ext cx="2016000" cy="2016000"/>
            <a:chOff x="179280" y="476280"/>
            <a:chExt cx="2016000" cy="2016000"/>
          </a:xfrm>
        </p:grpSpPr>
        <p:sp>
          <p:nvSpPr>
            <p:cNvPr id="573" name=""/>
            <p:cNvSpPr/>
            <p:nvPr/>
          </p:nvSpPr>
          <p:spPr>
            <a:xfrm>
              <a:off x="179280" y="547920"/>
              <a:ext cx="2016000" cy="1944360"/>
            </a:xfrm>
            <a:custGeom>
              <a:avLst/>
              <a:gdLst>
                <a:gd name="textAreaLeft" fmla="*/ 460080 w 2016000"/>
                <a:gd name="textAreaRight" fmla="*/ 1555920 w 2016000"/>
                <a:gd name="textAreaTop" fmla="*/ 443880 h 1944360"/>
                <a:gd name="textAreaBottom" fmla="*/ 1500480 h 19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7499d0">
                <a:alpha val="50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26920" y="476280"/>
              <a:ext cx="7192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0" spc="-1" strike="noStrike">
                  <a:solidFill>
                    <a:srgbClr val="ffff00"/>
                  </a:solidFill>
                  <a:latin typeface="Times New Roman"/>
                </a:rPr>
                <a:t>!</a:t>
              </a:r>
              <a:endParaRPr b="0" lang="en-US" sz="1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431640" y="1700280"/>
            <a:ext cx="871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手没触笔尾金属体，                               笔尖金属体触到火线时氖管也不会发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使用时手一定不能碰到笔尖金属体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7451640" y="5445000"/>
            <a:ext cx="12067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1197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闸刀开关的作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68360" y="260280"/>
            <a:ext cx="8050320" cy="2435400"/>
            <a:chOff x="468360" y="260280"/>
            <a:chExt cx="8050320" cy="2435400"/>
          </a:xfrm>
        </p:grpSpPr>
        <p:pic>
          <p:nvPicPr>
            <p:cNvPr id="579" name="" descr=""/>
            <p:cNvPicPr/>
            <p:nvPr/>
          </p:nvPicPr>
          <p:blipFill>
            <a:blip r:embed="rId1"/>
            <a:stretch/>
          </p:blipFill>
          <p:spPr>
            <a:xfrm>
              <a:off x="6156360" y="333360"/>
              <a:ext cx="23623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468360" y="260280"/>
              <a:ext cx="41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Times New Roman"/>
                  <a:ea typeface="华文隶书"/>
                </a:rPr>
                <a:t>闸刀开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04800" y="1916280"/>
            <a:ext cx="50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接通和切断电源，便于更换电器或维修设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2997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闸刀开关的结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400536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闸刀开关的安装原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5280" y="48164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源线连在静触头上，静触头一定要在上边，切不可倒装。否则断开的闸刀可能自动落下合上，造成事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2492280" cy="33573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7524720" y="2728800"/>
            <a:ext cx="1541520" cy="1133640"/>
            <a:chOff x="7524720" y="2728800"/>
            <a:chExt cx="1541520" cy="1133640"/>
          </a:xfrm>
        </p:grpSpPr>
        <p:sp>
          <p:nvSpPr>
            <p:cNvPr id="587" name=""/>
            <p:cNvSpPr/>
            <p:nvPr/>
          </p:nvSpPr>
          <p:spPr>
            <a:xfrm>
              <a:off x="8245440" y="2728800"/>
              <a:ext cx="820800" cy="520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静触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7524720" y="3284640"/>
              <a:ext cx="504720" cy="577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873320" y="3645000"/>
            <a:ext cx="1714680" cy="520560"/>
            <a:chOff x="4873320" y="3645000"/>
            <a:chExt cx="1714680" cy="520560"/>
          </a:xfrm>
        </p:grpSpPr>
        <p:sp>
          <p:nvSpPr>
            <p:cNvPr id="590" name=""/>
            <p:cNvSpPr/>
            <p:nvPr/>
          </p:nvSpPr>
          <p:spPr>
            <a:xfrm>
              <a:off x="4873320" y="3645000"/>
              <a:ext cx="820800" cy="520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动触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40360" y="3933720"/>
              <a:ext cx="647640" cy="7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012000" y="5157720"/>
            <a:ext cx="1512720" cy="1130400"/>
            <a:chOff x="6012000" y="5157720"/>
            <a:chExt cx="1512720" cy="1130400"/>
          </a:xfrm>
        </p:grpSpPr>
        <p:sp>
          <p:nvSpPr>
            <p:cNvPr id="593" name=""/>
            <p:cNvSpPr/>
            <p:nvPr/>
          </p:nvSpPr>
          <p:spPr>
            <a:xfrm>
              <a:off x="6012000" y="5767560"/>
              <a:ext cx="1296720" cy="520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保险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811920" y="5157720"/>
              <a:ext cx="16056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804000" y="5229360"/>
              <a:ext cx="720720" cy="50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24000" y="391680"/>
            <a:ext cx="2233440" cy="64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保险丝（装在保险盒里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417920" cy="68580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191280" y="476280"/>
            <a:ext cx="29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工作原理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78560" y="1052640"/>
            <a:ext cx="26654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当电路中有过大电流通过，保险丝上产生较多的热量，使它的温度达到熔点而熔断，自动切断电路，起到保险作用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1371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保险丝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的规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11280" y="69228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保险丝的规格用额定电流来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2484360" y="1700280"/>
          <a:ext cx="6429600" cy="2558880"/>
        </p:xfrm>
        <a:graphic>
          <a:graphicData uri="http://schemas.openxmlformats.org/drawingml/2006/table">
            <a:tbl>
              <a:tblPr/>
              <a:tblGrid>
                <a:gridCol w="1071720"/>
                <a:gridCol w="1071360"/>
                <a:gridCol w="1071720"/>
                <a:gridCol w="1071360"/>
                <a:gridCol w="1071720"/>
                <a:gridCol w="1071720"/>
              </a:tblGrid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直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（毫米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额定电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（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熔断电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（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直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（毫米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额定电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（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熔断电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（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3" name=""/>
          <p:cNvSpPr/>
          <p:nvPr/>
        </p:nvSpPr>
        <p:spPr>
          <a:xfrm>
            <a:off x="2484360" y="479916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保险丝越粗，额定电流和熔断电流就越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21080" y="587700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熔断电流是额定电流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1371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对</a:t>
            </a:r>
            <a:r>
              <a:rPr b="1" lang="zh-CN" sz="54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保险丝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的要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46200" y="981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制作材料：用电阻率较大而熔点较低的铅锑合金制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11280" y="2708280"/>
            <a:ext cx="650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选用要求：保险丝的规格应等于或略大于电路中所有电器正常工作时的总电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27280" y="5084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隶书"/>
                <a:ea typeface="华文隶书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华文隶书"/>
                <a:ea typeface="华文隶书"/>
              </a:rPr>
              <a:t>、不能用铁丝、铜丝代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808360" cy="5373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0" y="404640"/>
            <a:ext cx="55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电灯及其开关的接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419640" y="493704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控制电灯的开关应与电灯串联，并接在火线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5580000" y="260280"/>
            <a:ext cx="2979720" cy="461016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3421080" y="691920"/>
            <a:ext cx="3095640" cy="2665800"/>
            <a:chOff x="3421080" y="691920"/>
            <a:chExt cx="3095640" cy="2665800"/>
          </a:xfrm>
        </p:grpSpPr>
        <p:sp>
          <p:nvSpPr>
            <p:cNvPr id="614" name=""/>
            <p:cNvSpPr/>
            <p:nvPr/>
          </p:nvSpPr>
          <p:spPr>
            <a:xfrm>
              <a:off x="3421080" y="1989000"/>
              <a:ext cx="1942920" cy="7034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接火线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364000" y="691920"/>
              <a:ext cx="936720" cy="1657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64000" y="2349360"/>
              <a:ext cx="1152720" cy="100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10:03:34Z</dcterms:created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3:58Z</dcterms:modified>
  <cp:revision>1</cp:revision>
  <dc:subject>恒谦教育网(www.hengqian.com)</dc:subject>
  <dc:title>恒谦教育网(www.hengqian.com)</dc:title>
</cp:coreProperties>
</file>