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.jpeg" ContentType="image/jpeg"/>
  <Override PartName="/ppt/media/image10.png" ContentType="image/png"/>
  <Override PartName="/ppt/media/image2.gif" ContentType="image/gif"/>
  <Override PartName="/ppt/media/image11.png" ContentType="image/png"/>
  <Override PartName="/ppt/media/image3.gif" ContentType="image/gif"/>
  <Override PartName="/ppt/media/image12.png" ContentType="image/png"/>
  <Override PartName="/ppt/media/image4.png" ContentType="image/png"/>
  <Override PartName="/ppt/media/image6.gif" ContentType="image/gif"/>
  <Override PartName="/ppt/media/PW.wav" ContentType="audio/x-wav"/>
  <Override PartName="/ppt/media/image5.jpeg" ContentType="image/jpeg"/>
  <Override PartName="/ppt/media/image7.gif" ContentType="image/gif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936C-956E-412A-A008-0892329E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1FAE-0714-4900-B295-B8D30D4E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5FB2-F620-4C96-A1DF-DFD5CBEF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F143-EBAB-4F23-A639-38EE5C68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730D-D7AA-4A28-AC2B-B141CAFF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7EDA-C23B-4C68-A1C6-0C44EAB6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5148-F1B1-4A74-BF1C-510E12DD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D6C9-E138-4F0A-9E73-4E4411B2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43F1-B1E4-4145-97C5-6616B5AF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DD14-A371-403D-AAE3-B2811928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8A3B-991C-4114-8D97-0353D8DC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639C-6998-47F8-8092-135189BD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3F6E-FDE8-495A-85E8-E5F6F200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7EC0-DD12-47F4-BBF7-5BDDC380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5C6A-6F4A-4D2D-98E8-B51D9CBE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AFB8-E8B2-4A98-84DE-2DAE33FD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6B39-C726-49EE-9B7B-9C3C6485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31DD-45B0-4239-A04C-8092576F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DA15-D1A1-4606-801F-477E34B9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AB44-FE4F-4159-8A8E-F1B04E18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6DA8-ACA0-4C95-9D57-AB74E46C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4019-CABE-4EF2-893D-20EEF095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8B26-05C8-455D-A78D-9D0E3A85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1D9B-8271-4331-94CB-E444C343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4B6C-5997-4C4F-9153-869A42F29C8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8160" cy="691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DF40-F056-4013-9147-847F4574BE6C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audio" Target="../media/PW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.hc360.com/xjd/Market/product/P2_2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hyperlink" Target="http://images.google.com.tw/imgres?imgurl=http://www.tunglee.com.tw/images/age05.jpg&amp;imgrefurl=http://www.tunglee.com.tw/age_m.htm&amp;h=189&amp;w=300&amp;sz=14&amp;tbnid=oqrpGeS5XnsJ:&amp;tbnh=69&amp;tbnw=109&amp;start=1&amp;prev=/images%3Fq%3D%25E4%25B8%2589%25E7%259B%25B8%25E6%2584%259F%25E6%2587%2589%25E9%259B%25BB%25E5%258B%2595%25E6%25A9%259F%26hl%3Dzh-TW%26lr%3D%26ie%3DUTF-8%26newwindow%3D1" TargetMode="External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627280" y="2852280"/>
            <a:ext cx="406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ahoma"/>
              </a:rPr>
              <a:t>欢迎各位老师</a:t>
            </a:r>
            <a:br>
              <a:rPr sz="4800"/>
            </a:br>
            <a:r>
              <a:rPr b="1" lang="zh-CN" sz="4800" spc="-1" strike="noStrike">
                <a:solidFill>
                  <a:srgbClr val="008000"/>
                </a:solidFill>
                <a:latin typeface="Tahoma"/>
              </a:rPr>
              <a:t>   莅临指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1524240" cy="1270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588000" y="3933720"/>
            <a:ext cx="1600200" cy="1333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476360" y="1052640"/>
            <a:ext cx="244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例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1989000"/>
            <a:ext cx="81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一盏电灯连在电压是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220V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的电路中，灯泡中通过的电流是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68mA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，这个灯泡的电功率是多少瓦？一个月总共通电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100h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，电流所做的功是多少焦，多少千瓦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32000" y="4221000"/>
            <a:ext cx="640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P=UI=220V×0.068A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＝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15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4360" y="3716280"/>
            <a:ext cx="432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解：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68mA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＝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0.068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32000" y="4797360"/>
            <a:ext cx="7812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W=Pt=15W×3.6×10</a:t>
            </a:r>
            <a:r>
              <a:rPr b="0" lang="zh-CN" sz="2800" spc="-1" strike="noStrike" baseline="30000">
                <a:solidFill>
                  <a:srgbClr val="ff0000"/>
                </a:solidFill>
                <a:latin typeface="Tahoma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＝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5.4×10</a:t>
            </a:r>
            <a:r>
              <a:rPr b="0" lang="zh-CN" sz="2800" spc="-1" strike="noStrike" baseline="30000">
                <a:solidFill>
                  <a:srgbClr val="ff0000"/>
                </a:solidFill>
                <a:latin typeface="Tahoma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5445000"/>
            <a:ext cx="432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61040" y="4786200"/>
            <a:ext cx="20829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＝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1.5KW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·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11680" y="5616720"/>
            <a:ext cx="345600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1KW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·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h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＝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3.6×10</a:t>
            </a:r>
            <a:r>
              <a:rPr b="0" lang="zh-CN" sz="2800" spc="-1" strike="noStrike" baseline="30000">
                <a:solidFill>
                  <a:srgbClr val="333399"/>
                </a:solidFill>
                <a:latin typeface="Tahoma"/>
              </a:rPr>
              <a:t>6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J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1760760" cy="846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2060640"/>
            <a:ext cx="7777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一盏电灯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25h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耗电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1KW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·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h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，这盏电灯的功率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1640" y="3573360"/>
            <a:ext cx="1296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835280" y="3645000"/>
            <a:ext cx="1655280" cy="880920"/>
            <a:chOff x="1835280" y="3645000"/>
            <a:chExt cx="1655280" cy="880920"/>
          </a:xfrm>
        </p:grpSpPr>
        <p:sp>
          <p:nvSpPr>
            <p:cNvPr id="182" name=""/>
            <p:cNvSpPr/>
            <p:nvPr/>
          </p:nvSpPr>
          <p:spPr>
            <a:xfrm>
              <a:off x="2698560" y="4076640"/>
              <a:ext cx="647280" cy="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1835280" y="3645000"/>
              <a:ext cx="1655280" cy="880920"/>
              <a:chOff x="1835280" y="3645000"/>
              <a:chExt cx="1655280" cy="880920"/>
            </a:xfrm>
          </p:grpSpPr>
          <p:sp>
            <p:nvSpPr>
              <p:cNvPr id="184" name=""/>
              <p:cNvSpPr/>
              <p:nvPr/>
            </p:nvSpPr>
            <p:spPr>
              <a:xfrm>
                <a:off x="1835280" y="3789360"/>
                <a:ext cx="100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ff0000"/>
                    </a:solidFill>
                    <a:latin typeface="Tahoma"/>
                  </a:rPr>
                  <a:t>P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ahoma"/>
                  </a:rPr>
                  <a:t>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771640" y="3645000"/>
                <a:ext cx="57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ff0000"/>
                    </a:solidFill>
                    <a:latin typeface="Tahoma"/>
                  </a:rPr>
                  <a:t>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842920" y="400536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ff0000"/>
                    </a:solidFill>
                    <a:latin typeface="Tahoma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547640" y="907920"/>
            <a:ext cx="2448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想一想：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2565360"/>
            <a:ext cx="7777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在不同的电压下，同一个用电器的电功率总是一样大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76360" y="1052640"/>
            <a:ext cx="604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实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122480" y="1895400"/>
            <a:ext cx="6911640" cy="4552920"/>
            <a:chOff x="1122480" y="1895400"/>
            <a:chExt cx="6911640" cy="4552920"/>
          </a:xfrm>
        </p:grpSpPr>
        <p:grpSp>
          <p:nvGrpSpPr>
            <p:cNvPr id="191" name=""/>
            <p:cNvGrpSpPr/>
            <p:nvPr/>
          </p:nvGrpSpPr>
          <p:grpSpPr>
            <a:xfrm>
              <a:off x="1122480" y="1895400"/>
              <a:ext cx="6911640" cy="4552920"/>
              <a:chOff x="1122480" y="1895400"/>
              <a:chExt cx="6911640" cy="4552920"/>
            </a:xfrm>
          </p:grpSpPr>
          <p:pic>
            <p:nvPicPr>
              <p:cNvPr id="19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2480" y="1895400"/>
                <a:ext cx="6911640" cy="455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3440880" y="5275080"/>
                <a:ext cx="30168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51560" y="5871960"/>
                <a:ext cx="343440" cy="4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06520" y="5923080"/>
                <a:ext cx="343440" cy="4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40880" y="5916960"/>
                <a:ext cx="343080" cy="43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3492360" y="5373720"/>
              <a:ext cx="8280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564000" y="5373360"/>
              <a:ext cx="8244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476360" y="1052640"/>
            <a:ext cx="604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额定电压与额定功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1916280"/>
            <a:ext cx="8604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用电器正常工作时的电压叫额定电压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U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额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9640" y="2565360"/>
            <a:ext cx="8604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2.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用电器在额定电压下的功率叫额定功率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额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9120" y="3289320"/>
            <a:ext cx="8317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实际功率与额定功率的关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1280" y="4005360"/>
            <a:ext cx="279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当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U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实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＝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U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额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2200" y="4797360"/>
            <a:ext cx="8317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当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U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实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＞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U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额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，则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实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＞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额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，用电器容易烧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4000" y="5661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当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U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实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＜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U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额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，则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实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＜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额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，用电器不能正常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06560" y="4011480"/>
            <a:ext cx="2952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则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实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＝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额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37280" y="4017960"/>
            <a:ext cx="381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用电器正常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68360" y="2349360"/>
            <a:ext cx="83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一个用电器只有一个额定电压和额定功率，但可有多个实际电压和实际功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47640" y="98100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知识拓展：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3789360"/>
            <a:ext cx="83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灯的亮度是由灯在电路中工作时的实际功率所决定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76360" y="1052640"/>
            <a:ext cx="604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用电器的铭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2205000"/>
            <a:ext cx="4174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电灯泡“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PZ220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－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25”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21240" y="2193840"/>
            <a:ext cx="4643280" cy="1509480"/>
            <a:chOff x="4521240" y="2193840"/>
            <a:chExt cx="4643280" cy="1509480"/>
          </a:xfrm>
        </p:grpSpPr>
        <p:sp>
          <p:nvSpPr>
            <p:cNvPr id="214" name=""/>
            <p:cNvSpPr/>
            <p:nvPr/>
          </p:nvSpPr>
          <p:spPr>
            <a:xfrm>
              <a:off x="4521240" y="2193840"/>
              <a:ext cx="46432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33399"/>
                  </a:solidFill>
                  <a:latin typeface="Tahoma"/>
                </a:rPr>
                <a:t>表示额定电压是</a:t>
              </a:r>
              <a:r>
                <a:rPr b="0" lang="zh-CN" sz="3200" spc="-1" strike="noStrike">
                  <a:solidFill>
                    <a:srgbClr val="333399"/>
                  </a:solidFill>
                  <a:latin typeface="Tahoma"/>
                </a:rPr>
                <a:t>220V</a:t>
              </a:r>
              <a:r>
                <a:rPr b="0" lang="zh-CN" sz="3200" spc="-1" strike="noStrike">
                  <a:solidFill>
                    <a:srgbClr val="333399"/>
                  </a:solidFill>
                  <a:latin typeface="Tahoma"/>
                </a:rPr>
                <a:t>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21240" y="2984400"/>
              <a:ext cx="46432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33399"/>
                  </a:solidFill>
                  <a:latin typeface="Tahoma"/>
                </a:rPr>
                <a:t>额定功率是</a:t>
              </a:r>
              <a:r>
                <a:rPr b="0" lang="zh-CN" sz="3200" spc="-1" strike="noStrike">
                  <a:solidFill>
                    <a:srgbClr val="333399"/>
                  </a:solidFill>
                  <a:latin typeface="Tahoma"/>
                </a:rPr>
                <a:t>25W</a:t>
              </a:r>
              <a:r>
                <a:rPr b="0" lang="zh-CN" sz="3200" spc="-1" strike="noStrike">
                  <a:solidFill>
                    <a:srgbClr val="333399"/>
                  </a:solidFill>
                  <a:latin typeface="Tahoma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11280" y="4149720"/>
            <a:ext cx="4174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电烙铁“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36V   60W”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500720" y="4149720"/>
            <a:ext cx="4643280" cy="1438200"/>
            <a:chOff x="4500720" y="4149720"/>
            <a:chExt cx="4643280" cy="1438200"/>
          </a:xfrm>
        </p:grpSpPr>
        <p:sp>
          <p:nvSpPr>
            <p:cNvPr id="218" name=""/>
            <p:cNvSpPr/>
            <p:nvPr/>
          </p:nvSpPr>
          <p:spPr>
            <a:xfrm>
              <a:off x="4500720" y="4149720"/>
              <a:ext cx="46432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33399"/>
                  </a:solidFill>
                  <a:latin typeface="Tahoma"/>
                </a:rPr>
                <a:t>表示额定电压是</a:t>
              </a:r>
              <a:r>
                <a:rPr b="0" lang="zh-CN" sz="3200" spc="-1" strike="noStrike">
                  <a:solidFill>
                    <a:srgbClr val="333399"/>
                  </a:solidFill>
                  <a:latin typeface="Tahoma"/>
                </a:rPr>
                <a:t>36V</a:t>
              </a:r>
              <a:r>
                <a:rPr b="0" lang="zh-CN" sz="3200" spc="-1" strike="noStrike">
                  <a:solidFill>
                    <a:srgbClr val="333399"/>
                  </a:solidFill>
                  <a:latin typeface="Tahoma"/>
                </a:rPr>
                <a:t>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00720" y="4869000"/>
              <a:ext cx="46432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33399"/>
                  </a:solidFill>
                  <a:latin typeface="Tahoma"/>
                </a:rPr>
                <a:t>额定功率是</a:t>
              </a:r>
              <a:r>
                <a:rPr b="0" lang="zh-CN" sz="3200" spc="-1" strike="noStrike">
                  <a:solidFill>
                    <a:srgbClr val="333399"/>
                  </a:solidFill>
                  <a:latin typeface="Tahoma"/>
                </a:rPr>
                <a:t>60W</a:t>
              </a:r>
              <a:r>
                <a:rPr b="0" lang="zh-CN" sz="3200" spc="-1" strike="noStrike">
                  <a:solidFill>
                    <a:srgbClr val="333399"/>
                  </a:solidFill>
                  <a:latin typeface="Tahoma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948360" y="5300640"/>
            <a:ext cx="1600200" cy="10666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763640" y="98100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谈谈你的收获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227664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．通过本节课的探究，你学到了什么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4360" y="328464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．能区分电功率与上节课学习的电功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84360" y="4292640"/>
            <a:ext cx="8459640" cy="1387800"/>
            <a:chOff x="684360" y="4292640"/>
            <a:chExt cx="8459640" cy="1387800"/>
          </a:xfrm>
        </p:grpSpPr>
        <p:sp>
          <p:nvSpPr>
            <p:cNvPr id="225" name=""/>
            <p:cNvSpPr/>
            <p:nvPr/>
          </p:nvSpPr>
          <p:spPr>
            <a:xfrm>
              <a:off x="684360" y="4292640"/>
              <a:ext cx="845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Tahoma"/>
                </a:rPr>
                <a:t>3</a:t>
              </a:r>
              <a:r>
                <a:rPr b="1" lang="zh-CN" sz="3200" spc="-1" strike="noStrike">
                  <a:solidFill>
                    <a:srgbClr val="3333ff"/>
                  </a:solidFill>
                  <a:latin typeface="Tahoma"/>
                </a:rPr>
                <a:t>．通过学习电功率，你在生活实际中应怎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78080" y="5099040"/>
              <a:ext cx="52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Tahoma"/>
                </a:rPr>
                <a:t>去实践，还有应如何节能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763640" y="836640"/>
            <a:ext cx="2521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课外活动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164360" y="836640"/>
            <a:ext cx="1447920" cy="1206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39640" y="530064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作业：课本第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131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页，第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题、第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题、第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788000" y="5229360"/>
            <a:ext cx="3352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ByeBye</a:t>
            </a: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！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1" name=""/>
          <p:cNvSpPr/>
          <p:nvPr/>
        </p:nvSpPr>
        <p:spPr>
          <a:xfrm>
            <a:off x="866880" y="2303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每个家庭都需要照明的电灯，目前市场上既有白炽灯，又有电子节能灯，究竟哪一种灯更好呢？同学们就这个问题进行调查。然后根据你收集的数据，说明你应选择何种灯更经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0920" y="907560"/>
            <a:ext cx="55087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第九章  电功和电功率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2492280"/>
            <a:ext cx="55450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99"/>
                </a:solidFill>
                <a:latin typeface="Tahoma"/>
              </a:rPr>
              <a:t>第二节  电功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671480" y="87948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隶书"/>
                <a:ea typeface="隶书"/>
              </a:rPr>
              <a:t>复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3499920"/>
            <a:ext cx="1582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电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050920" y="2637000"/>
            <a:ext cx="433440" cy="2663640"/>
          </a:xfrm>
          <a:custGeom>
            <a:avLst/>
            <a:gdLst>
              <a:gd name="textAreaLeft" fmla="*/ 276840 w 433440"/>
              <a:gd name="textAreaRight" fmla="*/ 433800 w 43344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27280" y="2276640"/>
            <a:ext cx="19447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公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84720" y="2276640"/>
            <a:ext cx="31669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W=U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3429000"/>
            <a:ext cx="19447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单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429000"/>
            <a:ext cx="71928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35640" y="3429000"/>
            <a:ext cx="331164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KW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·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h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（度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56000" y="4724280"/>
            <a:ext cx="316836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测量仪表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6720" y="4724280"/>
            <a:ext cx="44640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电能表（电度表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671480" y="879480"/>
            <a:ext cx="21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92360" y="836640"/>
            <a:ext cx="3527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电流做功相同吗</a:t>
            </a: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?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340000" y="2133720"/>
            <a:ext cx="4896000" cy="3784320"/>
            <a:chOff x="2340000" y="2133720"/>
            <a:chExt cx="4896000" cy="3784320"/>
          </a:xfrm>
        </p:grpSpPr>
        <p:pic>
          <p:nvPicPr>
            <p:cNvPr id="118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5508720" y="2205000"/>
              <a:ext cx="172728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jd3.gif (5765 bytes)"/>
            <p:cNvPicPr/>
            <p:nvPr/>
          </p:nvPicPr>
          <p:blipFill>
            <a:blip r:embed="rId3"/>
            <a:stretch/>
          </p:blipFill>
          <p:spPr>
            <a:xfrm>
              <a:off x="2484360" y="2133720"/>
              <a:ext cx="1339920" cy="18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light4.gif (6498 bytes)"/>
            <p:cNvPicPr/>
            <p:nvPr/>
          </p:nvPicPr>
          <p:blipFill>
            <a:blip r:embed="rId4"/>
            <a:stretch/>
          </p:blipFill>
          <p:spPr>
            <a:xfrm>
              <a:off x="5724360" y="4365720"/>
              <a:ext cx="1279800" cy="15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2340000" y="4365720"/>
              <a:ext cx="1800360" cy="1552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32000" y="87948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隶书"/>
                <a:ea typeface="隶书"/>
              </a:rPr>
              <a:t>怎样衡量电流做功的快慢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3120" y="2205000"/>
            <a:ext cx="8064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家用电饭锅和灯泡，在通电时间相同时，哪一个电流做功更快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1720" y="4051440"/>
            <a:ext cx="85330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若家用电饭锅和灯泡，都要消耗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度电，那么哪一个消耗电能更快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92720" y="53737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隶书"/>
                <a:ea typeface="隶书"/>
              </a:rPr>
              <a:t>电饭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64000" y="3068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隶书"/>
                <a:ea typeface="隶书"/>
              </a:rPr>
              <a:t>电饭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42920" y="4724280"/>
            <a:ext cx="711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ahoma"/>
              </a:rPr>
              <a:t>②</a:t>
            </a:r>
            <a:r>
              <a:rPr b="1" lang="zh-CN" sz="2800" spc="-1" strike="noStrike">
                <a:solidFill>
                  <a:srgbClr val="6600ff"/>
                </a:solidFill>
                <a:latin typeface="Tahoma"/>
              </a:rPr>
              <a:t>电流做功相同，通电时间短的电流做功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33577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ahoma"/>
              </a:rPr>
              <a:t>①</a:t>
            </a:r>
            <a:r>
              <a:rPr b="1" lang="zh-CN" sz="2800" spc="-1" strike="noStrike">
                <a:solidFill>
                  <a:srgbClr val="6600ff"/>
                </a:solidFill>
                <a:latin typeface="Tahoma"/>
              </a:rPr>
              <a:t>通电时间相同，电流做功多的做功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2276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ahoma"/>
              </a:rPr>
              <a:t>有哪些办法可以比较电流做功的快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19280" y="549360"/>
            <a:ext cx="137160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议一议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35040" y="2081160"/>
            <a:ext cx="8316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物理学中用电功率表示电流做功的快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1052640"/>
            <a:ext cx="244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电功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70160" y="2757600"/>
            <a:ext cx="55753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电流在单位时间内所做的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2440" y="2776680"/>
            <a:ext cx="2447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2.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定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5280" y="3471840"/>
            <a:ext cx="2447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3.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公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59200" y="3549600"/>
            <a:ext cx="244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=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132000" y="4292640"/>
            <a:ext cx="1440000" cy="792000"/>
            <a:chOff x="3132000" y="4292640"/>
            <a:chExt cx="1440000" cy="792000"/>
          </a:xfrm>
        </p:grpSpPr>
        <p:sp>
          <p:nvSpPr>
            <p:cNvPr id="138" name=""/>
            <p:cNvSpPr/>
            <p:nvPr/>
          </p:nvSpPr>
          <p:spPr>
            <a:xfrm>
              <a:off x="3132000" y="4508640"/>
              <a:ext cx="1440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ahoma"/>
                </a:rPr>
                <a:t>W=UI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32000" y="4292640"/>
              <a:ext cx="287640" cy="288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84360" y="4203720"/>
            <a:ext cx="3527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4.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国际单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6320" y="4227480"/>
            <a:ext cx="2894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瓦特（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W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4941720"/>
            <a:ext cx="3527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常用单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4938840"/>
            <a:ext cx="2449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千瓦（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KW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1280" y="5661000"/>
            <a:ext cx="331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1KW=1000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274840" y="3538440"/>
            <a:ext cx="1655280" cy="880920"/>
            <a:chOff x="2274840" y="3538440"/>
            <a:chExt cx="1655280" cy="880920"/>
          </a:xfrm>
        </p:grpSpPr>
        <p:sp>
          <p:nvSpPr>
            <p:cNvPr id="146" name=""/>
            <p:cNvSpPr/>
            <p:nvPr/>
          </p:nvSpPr>
          <p:spPr>
            <a:xfrm>
              <a:off x="3138120" y="3970080"/>
              <a:ext cx="647280" cy="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2274840" y="3538440"/>
              <a:ext cx="1655280" cy="880920"/>
              <a:chOff x="2274840" y="3538440"/>
              <a:chExt cx="1655280" cy="880920"/>
            </a:xfrm>
          </p:grpSpPr>
          <p:sp>
            <p:nvSpPr>
              <p:cNvPr id="148" name=""/>
              <p:cNvSpPr/>
              <p:nvPr/>
            </p:nvSpPr>
            <p:spPr>
              <a:xfrm>
                <a:off x="2274840" y="3682800"/>
                <a:ext cx="100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333399"/>
                    </a:solidFill>
                    <a:latin typeface="Tahoma"/>
                  </a:rPr>
                  <a:t>P</a:t>
                </a:r>
                <a:r>
                  <a:rPr b="1" lang="en-US" sz="2800" spc="-1" strike="noStrike">
                    <a:solidFill>
                      <a:srgbClr val="333399"/>
                    </a:solidFill>
                    <a:latin typeface="Tahoma"/>
                  </a:rPr>
                  <a:t>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211200" y="3538440"/>
                <a:ext cx="57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333399"/>
                    </a:solidFill>
                    <a:latin typeface="Tahoma"/>
                  </a:rPr>
                  <a:t>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282480" y="389880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333399"/>
                    </a:solidFill>
                    <a:latin typeface="Tahoma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"/>
          <p:cNvSpPr/>
          <p:nvPr/>
        </p:nvSpPr>
        <p:spPr>
          <a:xfrm>
            <a:off x="5376960" y="3552840"/>
            <a:ext cx="331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1W=1J</a:t>
            </a: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/s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=1V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·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58920" y="907920"/>
            <a:ext cx="74167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功率为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1KW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的用电器在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1h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内所做的功，就是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1KW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·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42920" y="2708280"/>
            <a:ext cx="1225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=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8360" y="2717640"/>
            <a:ext cx="223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=1KW×1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79840" y="2719440"/>
            <a:ext cx="2232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=1KW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·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360" y="3789360"/>
            <a:ext cx="331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=1000W×360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9240" y="3797280"/>
            <a:ext cx="331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=3.6×10</a:t>
            </a:r>
            <a:r>
              <a:rPr b="0" lang="en-US" sz="3200" spc="-1" strike="noStrike" baseline="30000">
                <a:solidFill>
                  <a:srgbClr val="333399"/>
                </a:solidFill>
                <a:latin typeface="Tahoma"/>
              </a:rPr>
              <a:t>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即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1KW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·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h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＝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3.6×10</a:t>
            </a:r>
            <a:r>
              <a:rPr b="0" lang="zh-CN" sz="3200" spc="-1" strike="noStrike" baseline="30000">
                <a:solidFill>
                  <a:srgbClr val="333399"/>
                </a:solidFill>
                <a:latin typeface="Tahoma"/>
              </a:rPr>
              <a:t>6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J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843280" y="3429000"/>
            <a:ext cx="4897440" cy="1008000"/>
            <a:chOff x="2843280" y="3429000"/>
            <a:chExt cx="4897440" cy="1008000"/>
          </a:xfrm>
        </p:grpSpPr>
        <p:sp>
          <p:nvSpPr>
            <p:cNvPr id="160" name=""/>
            <p:cNvSpPr/>
            <p:nvPr/>
          </p:nvSpPr>
          <p:spPr>
            <a:xfrm>
              <a:off x="2843280" y="3429000"/>
              <a:ext cx="649080" cy="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67280" y="3429000"/>
              <a:ext cx="433440" cy="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76720" y="3429000"/>
              <a:ext cx="1008000" cy="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4437000"/>
              <a:ext cx="431640" cy="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19640" y="4437000"/>
              <a:ext cx="289080" cy="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51640" y="4437000"/>
              <a:ext cx="289080" cy="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476360" y="549360"/>
            <a:ext cx="2286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快速抢答：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7" name=""/>
          <p:cNvSpPr/>
          <p:nvPr/>
        </p:nvSpPr>
        <p:spPr>
          <a:xfrm>
            <a:off x="406440" y="1989000"/>
            <a:ext cx="8532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从公式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W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＝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Pt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中你想到了节能的办法吗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141720"/>
            <a:ext cx="75596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可以在不改变用电时间的情况下，尽可能的减小用电器的功率，也可以在不减小用电器功率的情况下，减少用电时间。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14240" y="4776840"/>
            <a:ext cx="7559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也可以同时减小用电器的功率和用电时间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1:49:26Z</dcterms:created>
  <dc:creator>恒谦教育网(www.hengqian.com)</dc:creator>
  <dc:description>恒谦教育网(www.hengqian.com)</dc:description>
  <cp:keywords>恒谦教育网(www.hengqian.com)</cp:keywords>
  <dc:language>en-US</dc:language>
  <cp:lastModifiedBy>恒谦教育网 http://www.hengqian.com</cp:lastModifiedBy>
  <dcterms:modified xsi:type="dcterms:W3CDTF">2010-05-09T23:34:01Z</dcterms:modified>
  <cp:revision>1</cp:revision>
  <dc:subject>恒谦教育网(www.hengqian.com)</dc:subject>
  <dc:title>恒谦教育网(www.hengqian.com)</dc:title>
</cp:coreProperties>
</file>