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40.jpeg" ContentType="image/jpeg"/>
  <Override PartName="/ppt/media/image5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jpeg" ContentType="image/jpe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7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7.png" ContentType="image/png"/>
  <Override PartName="/ppt/media/image84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9.jpeg" ContentType="image/jpeg"/>
  <Override PartName="/ppt/media/image65.png" ContentType="image/png"/>
  <Override PartName="/ppt/media/image66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4.png" ContentType="image/png"/>
  <Override PartName="/ppt/media/image103.png" ContentType="image/png"/>
  <Override PartName="/ppt/media/image89.png" ContentType="image/png"/>
  <Override PartName="/ppt/media/image77.png" ContentType="image/png"/>
  <Override PartName="/ppt/media/image102.png" ContentType="image/png"/>
  <Override PartName="/ppt/media/image30.png" ContentType="image/png"/>
  <Override PartName="/ppt/media/image88.png" ContentType="image/png"/>
  <Override PartName="/ppt/media/image73.png" ContentType="image/png"/>
  <Override PartName="/ppt/media/image87.jpeg" ContentType="image/jpeg"/>
  <Override PartName="/ppt/media/image76.png" ContentType="image/png"/>
  <Override PartName="/ppt/media/image9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99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67.png" ContentType="image/png"/>
  <Override PartName="/ppt/media/image24.wmf" ContentType="image/x-wmf"/>
  <Override PartName="/ppt/media/image98.png" ContentType="image/png"/>
  <Override PartName="/ppt/media/image97.png" ContentType="image/png"/>
  <Override PartName="/ppt/media/image101.png" ContentType="image/png"/>
  <Override PartName="/ppt/media/image79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8.wmf" ContentType="image/x-wmf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16.png" ContentType="image/png"/>
  <Override PartName="/ppt/media/image81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93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C99-667E-474A-AED8-0B7D4528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CBE-52A4-4FFF-99FE-EE20D2D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BBA-9CFB-4651-93CE-F1B6358F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8D1-DB1D-4A3D-9E0A-57FCF2BD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37D-A186-4615-8D43-0BF2C31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95B-D145-4AC3-95EE-FDEEAD06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75C-783A-4401-9B49-B0CDBF73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652-D8A0-4096-B6A1-A0052F8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5FF-433F-4AE6-8864-7332808A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1A5-F502-4B98-9815-45826A5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7E6-8372-4932-8FB3-69643E6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7BD-7148-4965-A7F4-2E3F990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05C6-E211-4A51-998A-7744305392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image" Target="../media/image3.jpeg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" Target="slide8.xml"/><Relationship Id="rId9" Type="http://schemas.openxmlformats.org/officeDocument/2006/relationships/image" Target="../media/image3.jpeg"/><Relationship Id="rId10" Type="http://schemas.openxmlformats.org/officeDocument/2006/relationships/slide" Target="slide7.xml"/><Relationship Id="rId11" Type="http://schemas.openxmlformats.org/officeDocument/2006/relationships/image" Target="../media/image3.jpeg"/><Relationship Id="rId12" Type="http://schemas.openxmlformats.org/officeDocument/2006/relationships/slide" Target="slide4.xml"/><Relationship Id="rId13" Type="http://schemas.openxmlformats.org/officeDocument/2006/relationships/image" Target="../media/image3.jpeg"/><Relationship Id="rId14" Type="http://schemas.openxmlformats.org/officeDocument/2006/relationships/slide" Target="slide5.xml"/><Relationship Id="rId15" Type="http://schemas.openxmlformats.org/officeDocument/2006/relationships/image" Target="../media/image3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slide" Target="slide21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" Target="slide3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" Target="slide3.xml"/><Relationship Id="rId4" Type="http://schemas.openxmlformats.org/officeDocument/2006/relationships/slide" Target="slide27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wmf"/><Relationship Id="rId3" Type="http://schemas.openxmlformats.org/officeDocument/2006/relationships/slide" Target="slide3.xml"/><Relationship Id="rId4" Type="http://schemas.openxmlformats.org/officeDocument/2006/relationships/slide" Target="slide29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wmf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png"/><Relationship Id="rId3" Type="http://schemas.openxmlformats.org/officeDocument/2006/relationships/slide" Target="slide3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3.xml"/><Relationship Id="rId3" Type="http://schemas.openxmlformats.org/officeDocument/2006/relationships/slide" Target="slide32.xml"/><Relationship Id="rId4" Type="http://schemas.openxmlformats.org/officeDocument/2006/relationships/slide" Target="slide31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" Target="slide4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png"/><Relationship Id="rId3" Type="http://schemas.openxmlformats.org/officeDocument/2006/relationships/slide" Target="slide4.xml"/><Relationship Id="rId4" Type="http://schemas.openxmlformats.org/officeDocument/2006/relationships/slide" Target="slide40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4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image" Target="../media/image7.png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png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" Target="slide4.xml"/><Relationship Id="rId4" Type="http://schemas.openxmlformats.org/officeDocument/2006/relationships/slide" Target="slide45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43.xml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5.xml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" Target="slide5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" Target="slide50.xml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8.xml"/><Relationship Id="rId3" Type="http://schemas.openxmlformats.org/officeDocument/2006/relationships/slide" Target="slide60.xml"/><Relationship Id="rId4" Type="http://schemas.openxmlformats.org/officeDocument/2006/relationships/slide" Target="slide56.xml"/><Relationship Id="rId5" Type="http://schemas.openxmlformats.org/officeDocument/2006/relationships/image" Target="../media/image8.png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4.png"/><Relationship Id="rId3" Type="http://schemas.openxmlformats.org/officeDocument/2006/relationships/slide" Target="slide5.xml"/><Relationship Id="rId4" Type="http://schemas.openxmlformats.org/officeDocument/2006/relationships/slide" Target="slide5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52.xml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5.png"/><Relationship Id="rId3" Type="http://schemas.openxmlformats.org/officeDocument/2006/relationships/slide" Target="slide5.xml"/><Relationship Id="rId4" Type="http://schemas.openxmlformats.org/officeDocument/2006/relationships/slide" Target="slide54.xml"/><Relationship Id="rId5" Type="http://schemas.openxmlformats.org/officeDocument/2006/relationships/slide" Target="slide50.xml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54.xml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6.png"/><Relationship Id="rId3" Type="http://schemas.openxmlformats.org/officeDocument/2006/relationships/slide" Target="slide5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4.xml"/><Relationship Id="rId3" Type="http://schemas.openxmlformats.org/officeDocument/2006/relationships/slide" Target="slide73.xml"/><Relationship Id="rId4" Type="http://schemas.openxmlformats.org/officeDocument/2006/relationships/slide" Target="slide72.xml"/><Relationship Id="rId5" Type="http://schemas.openxmlformats.org/officeDocument/2006/relationships/image" Target="../media/image9.png"/><Relationship Id="rId6" Type="http://schemas.openxmlformats.org/officeDocument/2006/relationships/slide" Target="slide63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8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6.xml"/><Relationship Id="rId3" Type="http://schemas.openxmlformats.org/officeDocument/2006/relationships/image" Target="../media/image61.wmf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5.png"/><Relationship Id="rId3" Type="http://schemas.openxmlformats.org/officeDocument/2006/relationships/slide" Target="slide6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65.pn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6.png"/><Relationship Id="rId3" Type="http://schemas.openxmlformats.org/officeDocument/2006/relationships/slide" Target="slide6.xml"/><Relationship Id="rId4" Type="http://schemas.openxmlformats.org/officeDocument/2006/relationships/slide" Target="slide68.xml"/><Relationship Id="rId5" Type="http://schemas.openxmlformats.org/officeDocument/2006/relationships/slide" Target="slide64.xml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66.png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7.png"/><Relationship Id="rId3" Type="http://schemas.openxmlformats.org/officeDocument/2006/relationships/slide" Target="slide6.xml"/><Relationship Id="rId4" Type="http://schemas.openxmlformats.org/officeDocument/2006/relationships/slide" Target="slide70.xml"/><Relationship Id="rId5" Type="http://schemas.openxmlformats.org/officeDocument/2006/relationships/slide" Target="slide66.xml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67.png"/><Relationship Id="rId3" Type="http://schemas.openxmlformats.org/officeDocument/2006/relationships/slide" Target="slide7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5.xml"/><Relationship Id="rId3" Type="http://schemas.openxmlformats.org/officeDocument/2006/relationships/slide" Target="slide90.xml"/><Relationship Id="rId4" Type="http://schemas.openxmlformats.org/officeDocument/2006/relationships/slide" Target="slide87.xml"/><Relationship Id="rId5" Type="http://schemas.openxmlformats.org/officeDocument/2006/relationships/slide" Target="slide74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8.png"/><Relationship Id="rId3" Type="http://schemas.openxmlformats.org/officeDocument/2006/relationships/slide" Target="slide6.xml"/><Relationship Id="rId4" Type="http://schemas.openxmlformats.org/officeDocument/2006/relationships/slide" Target="slide68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8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image" Target="../media/image61.wmf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7.xml"/><Relationship Id="rId3" Type="http://schemas.openxmlformats.org/officeDocument/2006/relationships/slide" Target="slide77.xm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7.xml"/><Relationship Id="rId3" Type="http://schemas.openxmlformats.org/officeDocument/2006/relationships/slide" Target="slide79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7.xml"/><Relationship Id="rId3" Type="http://schemas.openxmlformats.org/officeDocument/2006/relationships/slide" Target="slide81.xml"/><Relationship Id="rId4" Type="http://schemas.openxmlformats.org/officeDocument/2006/relationships/slide" Target="slide77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7.xml"/><Relationship Id="rId3" Type="http://schemas.openxmlformats.org/officeDocument/2006/relationships/slide" Target="slide83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7.xml"/><Relationship Id="rId3" Type="http://schemas.openxmlformats.org/officeDocument/2006/relationships/slide" Target="slide85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7.xml"/><Relationship Id="rId3" Type="http://schemas.openxmlformats.org/officeDocument/2006/relationships/slide" Target="slide83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" Target="slide7.xml"/><Relationship Id="rId4" Type="http://schemas.openxmlformats.org/officeDocument/2006/relationships/slide" Target="slide94.xml"/><Relationship Id="rId5" Type="http://schemas.openxmlformats.org/officeDocument/2006/relationships/slide" Target="slide93.xml"/><Relationship Id="rId6" Type="http://schemas.openxmlformats.org/officeDocument/2006/relationships/slide" Target="slide92.xml"/><Relationship Id="rId7" Type="http://schemas.openxmlformats.org/officeDocument/2006/relationships/slide" Target="slide91.xml"/><Relationship Id="rId8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slide" Target="slide90.xml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" Target="slide90.xml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" Target="slide90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9.png"/><Relationship Id="rId3" Type="http://schemas.openxmlformats.org/officeDocument/2006/relationships/slide" Target="slide90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8.xml"/><Relationship Id="rId3" Type="http://schemas.openxmlformats.org/officeDocument/2006/relationships/image" Target="../media/image61.wmf"/><Relationship Id="rId4" Type="http://schemas.openxmlformats.org/officeDocument/2006/relationships/image" Target="../media/image11.png"/><Relationship Id="rId5" Type="http://schemas.openxmlformats.org/officeDocument/2006/relationships/image" Target="../media/image90.png"/><Relationship Id="rId6" Type="http://schemas.openxmlformats.org/officeDocument/2006/relationships/image" Target="../media/image12.png"/><Relationship Id="rId7" Type="http://schemas.openxmlformats.org/officeDocument/2006/relationships/image" Target="../media/image91.png"/><Relationship Id="rId8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9.xml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97.xml"/><Relationship Id="rId3" Type="http://schemas.openxmlformats.org/officeDocument/2006/relationships/image" Target="../media/image93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1143000"/>
            <a:ext cx="7848720" cy="1335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隶书"/>
              </a:rPr>
              <a:t>初中物理测量仪器使用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隶书"/>
              <a:ea typeface="隶书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3716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28195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力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8862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  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746748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53341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2" action="ppaction://hlinksldjump"/>
          </p:cNvPr>
          <p:cNvSpPr/>
          <p:nvPr/>
        </p:nvSpPr>
        <p:spPr>
          <a:xfrm>
            <a:off x="64008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4" action="ppaction://hlinksldjump"/>
          </p:cNvPr>
          <p:cNvSpPr/>
          <p:nvPr/>
        </p:nvSpPr>
        <p:spPr>
          <a:xfrm>
            <a:off x="5335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  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本软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6248520"/>
            <a:ext cx="3124080" cy="609480"/>
          </a:xfrm>
          <a:custGeom>
            <a:avLst/>
            <a:gdLst>
              <a:gd name="textAreaLeft" fmla="*/ 39240 w 3124080"/>
              <a:gd name="textAreaRight" fmla="*/ 3084840 w 3124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65" h="21600">
                <a:moveTo>
                  <a:pt x="0" y="0"/>
                </a:moveTo>
                <a:lnTo>
                  <a:pt x="110665" y="0"/>
                </a:lnTo>
                <a:lnTo>
                  <a:pt x="110665" y="21600"/>
                </a:lnTo>
                <a:lnTo>
                  <a:pt x="0" y="21600"/>
                </a:lnTo>
                <a:close/>
              </a:path>
              <a:path fill="lightenLess" w="110665" h="21600">
                <a:moveTo>
                  <a:pt x="0" y="0"/>
                </a:moveTo>
                <a:lnTo>
                  <a:pt x="110665" y="0"/>
                </a:lnTo>
                <a:lnTo>
                  <a:pt x="109265" y="1400"/>
                </a:lnTo>
                <a:lnTo>
                  <a:pt x="1400" y="1400"/>
                </a:lnTo>
                <a:close/>
              </a:path>
              <a:path fill="darken" w="110665" h="21600">
                <a:moveTo>
                  <a:pt x="110665" y="0"/>
                </a:moveTo>
                <a:lnTo>
                  <a:pt x="110665" y="21600"/>
                </a:lnTo>
                <a:lnTo>
                  <a:pt x="109265" y="20200"/>
                </a:lnTo>
                <a:lnTo>
                  <a:pt x="109265" y="1400"/>
                </a:lnTo>
                <a:close/>
              </a:path>
              <a:path fill="darkenLess" w="110665" h="21600">
                <a:moveTo>
                  <a:pt x="110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65" y="20200"/>
                </a:lnTo>
                <a:close/>
              </a:path>
              <a:path fill="lighten" w="110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3124080" y="6248520"/>
            <a:ext cx="2895840" cy="609480"/>
          </a:xfrm>
          <a:custGeom>
            <a:avLst/>
            <a:gdLst>
              <a:gd name="textAreaLeft" fmla="*/ 39240 w 2895840"/>
              <a:gd name="textAreaRight" fmla="*/ 2856600 w 2895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2581" h="21600">
                <a:moveTo>
                  <a:pt x="0" y="0"/>
                </a:moveTo>
                <a:lnTo>
                  <a:pt x="102581" y="0"/>
                </a:lnTo>
                <a:lnTo>
                  <a:pt x="102581" y="21600"/>
                </a:lnTo>
                <a:lnTo>
                  <a:pt x="0" y="21600"/>
                </a:lnTo>
                <a:close/>
              </a:path>
              <a:path fill="lightenLess" w="102581" h="21600">
                <a:moveTo>
                  <a:pt x="0" y="0"/>
                </a:moveTo>
                <a:lnTo>
                  <a:pt x="102581" y="0"/>
                </a:lnTo>
                <a:lnTo>
                  <a:pt x="101181" y="1400"/>
                </a:lnTo>
                <a:lnTo>
                  <a:pt x="1400" y="1400"/>
                </a:lnTo>
                <a:close/>
              </a:path>
              <a:path fill="darken" w="102581" h="21600">
                <a:moveTo>
                  <a:pt x="102581" y="0"/>
                </a:moveTo>
                <a:lnTo>
                  <a:pt x="102581" y="21600"/>
                </a:lnTo>
                <a:lnTo>
                  <a:pt x="101181" y="20200"/>
                </a:lnTo>
                <a:lnTo>
                  <a:pt x="101181" y="1400"/>
                </a:lnTo>
                <a:close/>
              </a:path>
              <a:path fill="darkenLess" w="102581" h="21600">
                <a:moveTo>
                  <a:pt x="102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81" y="20200"/>
                </a:lnTo>
                <a:close/>
              </a:path>
              <a:path fill="lighten" w="102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4480" y="42721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物体的长度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89080" y="472356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7.8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149880" y="4944240"/>
            <a:ext cx="14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6 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128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dy66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2496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dy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070680" y="49442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3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4960" y="38088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dy22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47268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dy77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00600"/>
          </a:xfrm>
          <a:prstGeom prst="rect">
            <a:avLst/>
          </a:prstGeom>
          <a:ln w="0">
            <a:noFill/>
          </a:ln>
        </p:spPr>
      </p:pic>
      <p:sp>
        <p:nvSpPr>
          <p:cNvPr id="847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215040" y="49442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.4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4900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dy77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2496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dy33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58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6215040" y="49442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9000" y="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dy33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62496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dy88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68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2496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35760" y="54856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8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dy88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v-4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874" name="v-5" descr=""/>
          <p:cNvPicPr/>
          <p:nvPr/>
        </p:nvPicPr>
        <p:blipFill>
          <a:blip r:embed="rId2"/>
          <a:stretch/>
        </p:blipFill>
        <p:spPr>
          <a:xfrm>
            <a:off x="6705720" y="2666880"/>
            <a:ext cx="2438280" cy="2743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520640" y="349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81320" y="1143000"/>
            <a:ext cx="40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首先判断电压表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接线柱确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302120" y="19810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学校实验室常用的电压表如右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83960" y="2514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98560" y="251460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的量程都是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834560" y="363384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上图电压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76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” “15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负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49040" y="5257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下图电压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65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” “15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正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16002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46748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46748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5800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93432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vv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908" name="aa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318708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728360" y="1371600"/>
            <a:ext cx="54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量程确定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大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和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小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所表示的电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97240" y="2614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左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6880" y="35812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4880" y="441972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3200" y="5334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32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23592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35920" y="541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54720" y="586728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70920" y="533412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77600" y="594360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171640" y="54100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21120" y="246204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545240" y="4267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4668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nextslide"/>
          </p:cNvPr>
          <p:cNvSpPr/>
          <p:nvPr/>
        </p:nvSpPr>
        <p:spPr>
          <a:xfrm>
            <a:off x="45720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vv" descr=""/>
          <p:cNvPicPr/>
          <p:nvPr/>
        </p:nvPicPr>
        <p:blipFill>
          <a:blip r:embed="rId1"/>
          <a:stretch/>
        </p:blipFill>
        <p:spPr>
          <a:xfrm>
            <a:off x="0" y="15238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836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928280" y="167652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1224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最终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96880" y="31240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=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36160" y="533412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+3.5=8.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593400" y="42670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=3.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73440" y="251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大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73440" y="3657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小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800000">
            <a:off x="1447920" y="60955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0800000">
            <a:off x="1447920" y="60955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19200000">
            <a:off x="380880" y="25142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21000000">
            <a:off x="19810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21000000">
            <a:off x="2057040" y="20574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21180000">
            <a:off x="220968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21300000">
            <a:off x="236232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21360000">
            <a:off x="251460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21540000">
            <a:off x="266688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20000">
            <a:off x="297144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21540000">
            <a:off x="2819520" y="20574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300000">
            <a:off x="312372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319400" cy="251460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44760" y="442800"/>
            <a:ext cx="729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05120" y="882000"/>
            <a:ext cx="67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电压表也有必须遵守的使用规则．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01080" y="5028480"/>
            <a:ext cx="55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被测电压不要超过电压表的量程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 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55360" y="380916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“十”、“一”接线性的接法要正确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..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17640" y="266616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电压表应并联在电路中           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75560" y="533520"/>
            <a:ext cx="4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44360" y="533520"/>
            <a:ext cx="507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测量某一部分电路两端的电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把电压表跟这部分电路并联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hh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964" name="rr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2971800" cy="244152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5662800" y="4648320"/>
            <a:ext cx="28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灯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端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把电压表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灯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联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00720" y="4648320"/>
            <a:ext cx="24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小灯泡两端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把电压表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灯泡并联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111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3973680" cy="34783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2875680" y="762120"/>
            <a:ext cx="49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使电流从“十”接线柱流进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“一 ”接线柱流出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30200" y="304920"/>
            <a:ext cx="115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40480" y="4648320"/>
            <a:ext cx="114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ak22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201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869560" y="6858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测电压流超过电压表的量程时，不仅测不出电压值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压表的指针还会被打弯，甚至烧杯电压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不能预先估计被测电压大小的情况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要先用电路的一个线头迅速试触电压表的接线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看指针的偏转是否在量程之内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超出量程，就要改用更大量程的电压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2680" y="533520"/>
            <a:ext cx="6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8680" y="4627080"/>
            <a:ext cx="2286000" cy="739440"/>
          </a:xfrm>
          <a:prstGeom prst="wedgeEllipseCallout">
            <a:avLst>
              <a:gd name="adj1" fmla="val -59018"/>
              <a:gd name="adj2" fmla="val 879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6920" y="494424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2.75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2000" y="494424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6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0" y="494424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8.6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517320"/>
            <a:ext cx="60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 测 物 体 的 长 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 以 看 作 由 以 下 两 部 分 组 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0560" y="187416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一 部 分   整 数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36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二 部 分    小 数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7311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 们 的 测 量 也 可 以 分 成 以 下 两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66760" y="159912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   读出整数部分的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5898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   读出小数部分的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9000" y="2132640"/>
            <a:ext cx="35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个大格  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c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9600" y="3427920"/>
            <a:ext cx="38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个小格  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1 c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0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04200"/>
            <a:ext cx="66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整数部分的读数和小数部分的读数相加即为待测物体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8.6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9560" y="17517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1120" y="2086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确测量时要求读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9280" y="2594880"/>
            <a:ext cx="5356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18040" y="3291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13120" y="3412440"/>
            <a:ext cx="37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最终答案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8.6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58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3880" y="1295640"/>
            <a:ext cx="53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刻度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1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5029200" cy="16416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762120" y="54864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3581280" y="48769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6553080" y="4267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728720" cy="3252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235120" y="1112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9880" y="669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何要读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3920" y="20570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更加精确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5840" y="3442680"/>
            <a:ext cx="4444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物体的长度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7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末一位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虽然是估读的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它告诉我们该物体的长度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之间更接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7467480" y="61722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前页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8120" y="-108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6320" y="516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960" y="456840"/>
            <a:ext cx="1095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零刻线的位置  观察是否磨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量程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最小刻度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76320" y="2345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78344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刻度尺有刻度的一面立于或贴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被测物体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并使刻度线与被测物垂直相交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读数时视线应垂直与所读刻度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应当估读到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结果由数字和单位组成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3429000" y="525780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图   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dxx1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394000" cy="1457280"/>
          </a:xfrm>
          <a:prstGeom prst="rect">
            <a:avLst/>
          </a:prstGeom>
          <a:ln w="0">
            <a:noFill/>
          </a:ln>
        </p:spPr>
      </p:pic>
      <p:pic>
        <p:nvPicPr>
          <p:cNvPr id="192" name="dxx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2666880" cy="3113280"/>
          </a:xfrm>
          <a:prstGeom prst="rect">
            <a:avLst/>
          </a:prstGeom>
          <a:ln w="0">
            <a:noFill/>
          </a:ln>
        </p:spPr>
      </p:pic>
      <p:pic>
        <p:nvPicPr>
          <p:cNvPr id="193" name="dxx2" descr=""/>
          <p:cNvPicPr/>
          <p:nvPr/>
        </p:nvPicPr>
        <p:blipFill>
          <a:blip r:embed="rId4"/>
          <a:stretch/>
        </p:blipFill>
        <p:spPr>
          <a:xfrm>
            <a:off x="6351480" y="3657600"/>
            <a:ext cx="2792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28880" y="4438800"/>
            <a:ext cx="14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数时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与尺面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276000" y="16765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测量右图所示木块的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刻度尺应如右上图所示放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有刻度的一面立于或贴靠在被测物体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使刻度线与被测物垂直相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3160" y="276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正确使用刻度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696080" y="25909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48800" y="4937040"/>
            <a:ext cx="6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b7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4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3434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5560" y="4944240"/>
            <a:ext cx="11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61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mb7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40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34340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548240"/>
          </a:xfrm>
          <a:prstGeom prst="rect">
            <a:avLst/>
          </a:prstGeom>
          <a:ln w="0">
            <a:noFill/>
          </a:ln>
        </p:spPr>
      </p:pic>
      <p:pic>
        <p:nvPicPr>
          <p:cNvPr id="214" name="mb6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243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06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548240"/>
          </a:xfrm>
          <a:prstGeom prst="rect">
            <a:avLst/>
          </a:prstGeom>
          <a:ln w="0">
            <a:noFill/>
          </a:ln>
        </p:spPr>
      </p:pic>
      <p:pic>
        <p:nvPicPr>
          <p:cNvPr id="222" name="mb6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2432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mb5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79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mb5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mb3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95280" y="838440"/>
            <a:ext cx="53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62120" y="54864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3581280" y="48769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6553080" y="4267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b1" descr=""/>
          <p:cNvPicPr/>
          <p:nvPr/>
        </p:nvPicPr>
        <p:blipFill>
          <a:blip r:embed="rId5"/>
          <a:stretch/>
        </p:blipFill>
        <p:spPr>
          <a:xfrm>
            <a:off x="2971800" y="1066680"/>
            <a:ext cx="4863960" cy="3003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808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pic>
        <p:nvPicPr>
          <p:cNvPr id="247" name="mb3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91120" y="4272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秒表分钟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mb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254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2720" y="4267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幼圆"/>
                <a:ea typeface="幼圆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880" y="5943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剩余部分的秒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70120" y="5105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剩余值是否已过半刻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61960" y="5105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2336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514600"/>
            <a:ext cx="35053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最后测量值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79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秒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533520"/>
            <a:ext cx="35053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数据处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9 </a:t>
            </a:r>
            <a:r>
              <a:rPr b="1" lang="zh-CN" sz="3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60 + 3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= 579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秒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9a7b"/>
            </a:gs>
            <a:gs pos="50000">
              <a:srgbClr val="66ffcc"/>
            </a:gs>
            <a:gs pos="100000">
              <a:srgbClr val="3d9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51880" y="381960"/>
            <a:ext cx="4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8000" y="39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18760" y="456840"/>
            <a:ext cx="29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秒表上端带滚花的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紧发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21680" y="2377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214992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为开始   停止   秒表清零 三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记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开始走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止记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停止走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数时视线应垂直与所读刻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表清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复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876c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dxx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468360" cy="6705720"/>
          </a:xfrm>
          <a:prstGeom prst="rect">
            <a:avLst/>
          </a:prstGeom>
          <a:ln w="0">
            <a:noFill/>
          </a:ln>
        </p:spPr>
      </p:pic>
      <p:pic>
        <p:nvPicPr>
          <p:cNvPr id="276" name="dxx5" descr=""/>
          <p:cNvPicPr/>
          <p:nvPr/>
        </p:nvPicPr>
        <p:blipFill>
          <a:blip r:embed="rId2"/>
          <a:stretch/>
        </p:blipFill>
        <p:spPr>
          <a:xfrm>
            <a:off x="6494400" y="1523880"/>
            <a:ext cx="657360" cy="4295880"/>
          </a:xfrm>
          <a:prstGeom prst="rect">
            <a:avLst/>
          </a:prstGeom>
          <a:ln w="0">
            <a:noFill/>
          </a:ln>
        </p:spPr>
      </p:pic>
      <p:pic>
        <p:nvPicPr>
          <p:cNvPr id="277" name="dxx6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254240" cy="4181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444480" y="380880"/>
            <a:ext cx="26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常 见 的 温 度 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6440" y="161352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实验室用温度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5440" y="191412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家用寒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00040" y="206640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医用体温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wdj1" descr=""/>
          <p:cNvPicPr/>
          <p:nvPr/>
        </p:nvPicPr>
        <p:blipFill>
          <a:blip r:embed="rId2"/>
          <a:stretch/>
        </p:blipFill>
        <p:spPr>
          <a:xfrm>
            <a:off x="0" y="0"/>
            <a:ext cx="5100480" cy="594360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6477120" y="3505320"/>
            <a:ext cx="1676160" cy="761760"/>
          </a:xfrm>
          <a:custGeom>
            <a:avLst/>
            <a:gdLst>
              <a:gd name="textAreaLeft" fmla="*/ 49320 w 1676160"/>
              <a:gd name="textAreaRight" fmla="*/ 1626840 w 1676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7516" h="21600">
                <a:moveTo>
                  <a:pt x="0" y="0"/>
                </a:moveTo>
                <a:lnTo>
                  <a:pt x="47516" y="0"/>
                </a:lnTo>
                <a:lnTo>
                  <a:pt x="47516" y="21600"/>
                </a:lnTo>
                <a:lnTo>
                  <a:pt x="0" y="21600"/>
                </a:lnTo>
                <a:close/>
              </a:path>
              <a:path fill="lightenLess" w="47516" h="21600">
                <a:moveTo>
                  <a:pt x="0" y="0"/>
                </a:moveTo>
                <a:lnTo>
                  <a:pt x="47516" y="0"/>
                </a:lnTo>
                <a:lnTo>
                  <a:pt x="46116" y="1400"/>
                </a:lnTo>
                <a:lnTo>
                  <a:pt x="1400" y="1400"/>
                </a:lnTo>
                <a:close/>
              </a:path>
              <a:path fill="darken" w="47516" h="21600">
                <a:moveTo>
                  <a:pt x="47516" y="0"/>
                </a:moveTo>
                <a:lnTo>
                  <a:pt x="47516" y="21600"/>
                </a:lnTo>
                <a:lnTo>
                  <a:pt x="46116" y="20200"/>
                </a:lnTo>
                <a:lnTo>
                  <a:pt x="46116" y="1400"/>
                </a:lnTo>
                <a:close/>
              </a:path>
              <a:path fill="darkenLess" w="47516" h="21600">
                <a:moveTo>
                  <a:pt x="4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6" y="20200"/>
                </a:lnTo>
                <a:close/>
              </a:path>
              <a:path fill="lighten" w="4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38720" y="365688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5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wdj1" descr=""/>
          <p:cNvPicPr/>
          <p:nvPr/>
        </p:nvPicPr>
        <p:blipFill>
          <a:blip r:embed="rId2"/>
          <a:stretch/>
        </p:blipFill>
        <p:spPr>
          <a:xfrm>
            <a:off x="0" y="0"/>
            <a:ext cx="5100480" cy="594360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wdj2" descr=""/>
          <p:cNvPicPr/>
          <p:nvPr/>
        </p:nvPicPr>
        <p:blipFill>
          <a:blip r:embed="rId2"/>
          <a:stretch/>
        </p:blipFill>
        <p:spPr>
          <a:xfrm>
            <a:off x="0" y="0"/>
            <a:ext cx="4883040" cy="5715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72960" y="365688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零下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wdj2" descr=""/>
          <p:cNvPicPr/>
          <p:nvPr/>
        </p:nvPicPr>
        <p:blipFill>
          <a:blip r:embed="rId2"/>
          <a:stretch/>
        </p:blipFill>
        <p:spPr>
          <a:xfrm>
            <a:off x="0" y="0"/>
            <a:ext cx="4883040" cy="571500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wdj3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5638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38720" y="365688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79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wdj3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563868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1645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温度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6553080" y="1981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6553080" y="480060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553080" y="33526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dj00" descr=""/>
          <p:cNvPicPr/>
          <p:nvPr/>
        </p:nvPicPr>
        <p:blipFill>
          <a:blip r:embed="rId5"/>
          <a:stretch/>
        </p:blipFill>
        <p:spPr>
          <a:xfrm>
            <a:off x="2514600" y="457200"/>
            <a:ext cx="337500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553080" y="6094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wdj4" descr=""/>
          <p:cNvPicPr/>
          <p:nvPr/>
        </p:nvPicPr>
        <p:blipFill>
          <a:blip r:embed="rId2"/>
          <a:stretch/>
        </p:blipFill>
        <p:spPr>
          <a:xfrm>
            <a:off x="0" y="0"/>
            <a:ext cx="5013360" cy="5867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4" action="ppaction://hlinksldjump"/>
          </p:cNvPr>
          <p:cNvSpPr/>
          <p:nvPr/>
        </p:nvSpPr>
        <p:spPr>
          <a:xfrm>
            <a:off x="7391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17680" y="3656880"/>
            <a:ext cx="250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零下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9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wdj4" descr=""/>
          <p:cNvPicPr/>
          <p:nvPr/>
        </p:nvPicPr>
        <p:blipFill>
          <a:blip r:embed="rId2"/>
          <a:stretch/>
        </p:blipFill>
        <p:spPr>
          <a:xfrm>
            <a:off x="0" y="0"/>
            <a:ext cx="5013360" cy="58672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9144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观察液柱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零度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04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零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5520" y="4419720"/>
            <a:ext cx="175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读出剩余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分的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56880" y="383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74520" y="556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幼圆"/>
                <a:ea typeface="幼圆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wdj55" descr=""/>
          <p:cNvPicPr/>
          <p:nvPr/>
        </p:nvPicPr>
        <p:blipFill>
          <a:blip r:embed="rId2"/>
          <a:stretch/>
        </p:blipFill>
        <p:spPr>
          <a:xfrm>
            <a:off x="2514600" y="0"/>
            <a:ext cx="45054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23640" y="26668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读出测量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的整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685800"/>
            <a:ext cx="35053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数据处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0 +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= 57 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摄氏度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3657600"/>
            <a:ext cx="350532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最后测量值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7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摄氏度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42670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38862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34290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2514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1239840" cy="2361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06440" y="221040"/>
            <a:ext cx="73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2680" y="68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7280" y="8074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量程 认清最小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76320" y="152316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27560" y="4723920"/>
            <a:ext cx="434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数时玻璃泡要继续留在被测液体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线与温度计中液柱的上表面相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38862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0680" y="3580920"/>
            <a:ext cx="424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玻璃泡浸入液体后要稍候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温度计的示数稳定后再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08840" y="2285640"/>
            <a:ext cx="45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的玻璃泡全部浸入被测的液体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碰到容器底或容器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7620120" y="5181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0"/>
            <a:ext cx="914400" cy="38862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7391520" y="2819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45240" y="706320"/>
            <a:ext cx="52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温度计的玻璃泡要全部浸入被测的液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不要碰到容器底或容器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00200" y="2286000"/>
            <a:ext cx="5943600" cy="3362400"/>
            <a:chOff x="1600200" y="2286000"/>
            <a:chExt cx="5943600" cy="3362400"/>
          </a:xfrm>
        </p:grpSpPr>
        <p:pic>
          <p:nvPicPr>
            <p:cNvPr id="362" name="dxx8" descr=""/>
            <p:cNvPicPr/>
            <p:nvPr/>
          </p:nvPicPr>
          <p:blipFill>
            <a:blip r:embed="rId2"/>
            <a:stretch/>
          </p:blipFill>
          <p:spPr>
            <a:xfrm>
              <a:off x="4419720" y="2894040"/>
              <a:ext cx="2361960" cy="268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" name=""/>
            <p:cNvGrpSpPr/>
            <p:nvPr/>
          </p:nvGrpSpPr>
          <p:grpSpPr>
            <a:xfrm>
              <a:off x="4800600" y="2895480"/>
              <a:ext cx="295200" cy="297000"/>
              <a:chOff x="4800600" y="2895480"/>
              <a:chExt cx="295200" cy="297000"/>
            </a:xfrm>
          </p:grpSpPr>
          <p:sp>
            <p:nvSpPr>
              <p:cNvPr id="364" name=""/>
              <p:cNvSpPr/>
              <p:nvPr/>
            </p:nvSpPr>
            <p:spPr>
              <a:xfrm>
                <a:off x="4800600" y="2895480"/>
                <a:ext cx="295200" cy="29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800600" y="2895480"/>
                <a:ext cx="295200" cy="29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6" name="dxx7" descr=""/>
            <p:cNvPicPr/>
            <p:nvPr/>
          </p:nvPicPr>
          <p:blipFill>
            <a:blip r:embed="rId3"/>
            <a:stretch/>
          </p:blipFill>
          <p:spPr>
            <a:xfrm>
              <a:off x="1600200" y="2895480"/>
              <a:ext cx="2870280" cy="275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"/>
            <p:cNvGrpSpPr/>
            <p:nvPr/>
          </p:nvGrpSpPr>
          <p:grpSpPr>
            <a:xfrm>
              <a:off x="2133360" y="2971800"/>
              <a:ext cx="341280" cy="364680"/>
              <a:chOff x="2133360" y="2971800"/>
              <a:chExt cx="341280" cy="364680"/>
            </a:xfrm>
          </p:grpSpPr>
          <p:sp>
            <p:nvSpPr>
              <p:cNvPr id="368" name=""/>
              <p:cNvSpPr/>
              <p:nvPr/>
            </p:nvSpPr>
            <p:spPr>
              <a:xfrm>
                <a:off x="2133720" y="2971800"/>
                <a:ext cx="340920" cy="36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133360" y="2971800"/>
                <a:ext cx="340920" cy="36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580920" y="2895480"/>
              <a:ext cx="341280" cy="365040"/>
              <a:chOff x="3580920" y="2895480"/>
              <a:chExt cx="341280" cy="365040"/>
            </a:xfrm>
          </p:grpSpPr>
          <p:sp>
            <p:nvSpPr>
              <p:cNvPr id="371" name=""/>
              <p:cNvSpPr/>
              <p:nvPr/>
            </p:nvSpPr>
            <p:spPr>
              <a:xfrm>
                <a:off x="3581280" y="2895480"/>
                <a:ext cx="340920" cy="36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3580920" y="2895480"/>
                <a:ext cx="340920" cy="36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867280" y="2286000"/>
              <a:ext cx="167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404440" y="457200"/>
            <a:ext cx="4569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数时玻璃泡要继续留在被测液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线与温度计中液柱的上表面相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38080" y="1768320"/>
            <a:ext cx="8227800" cy="4023000"/>
            <a:chOff x="838080" y="1768320"/>
            <a:chExt cx="8227800" cy="4023000"/>
          </a:xfrm>
        </p:grpSpPr>
        <p:pic>
          <p:nvPicPr>
            <p:cNvPr id="377" name="dxx9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3886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dxx10" descr="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38102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"/>
            <p:cNvGrpSpPr/>
            <p:nvPr/>
          </p:nvGrpSpPr>
          <p:grpSpPr>
            <a:xfrm>
              <a:off x="7848720" y="2438280"/>
              <a:ext cx="304560" cy="304560"/>
              <a:chOff x="7848720" y="2438280"/>
              <a:chExt cx="304560" cy="304560"/>
            </a:xfrm>
          </p:grpSpPr>
          <p:sp>
            <p:nvSpPr>
              <p:cNvPr id="380" name=""/>
              <p:cNvSpPr/>
              <p:nvPr/>
            </p:nvSpPr>
            <p:spPr>
              <a:xfrm>
                <a:off x="7848720" y="2438280"/>
                <a:ext cx="30456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848720" y="2438280"/>
                <a:ext cx="30456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95720" y="4876920"/>
              <a:ext cx="305280" cy="304560"/>
              <a:chOff x="7695720" y="4876920"/>
              <a:chExt cx="30528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7696080" y="4876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695720" y="4876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294920" y="2590920"/>
              <a:ext cx="305280" cy="304560"/>
              <a:chOff x="1294920" y="2590920"/>
              <a:chExt cx="305280" cy="304560"/>
            </a:xfrm>
          </p:grpSpPr>
          <p:sp>
            <p:nvSpPr>
              <p:cNvPr id="386" name=""/>
              <p:cNvSpPr/>
              <p:nvPr/>
            </p:nvSpPr>
            <p:spPr>
              <a:xfrm>
                <a:off x="1295280" y="2590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1294920" y="2590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507120" y="1768320"/>
              <a:ext cx="1140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25040" y="3200400"/>
              <a:ext cx="1140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cc1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4038480" cy="2595600"/>
          </a:xfrm>
          <a:prstGeom prst="rect">
            <a:avLst/>
          </a:prstGeom>
          <a:ln w="0">
            <a:noFill/>
          </a:ln>
        </p:spPr>
      </p:pic>
      <p:pic>
        <p:nvPicPr>
          <p:cNvPr id="391" name="cc2" descr=""/>
          <p:cNvPicPr/>
          <p:nvPr/>
        </p:nvPicPr>
        <p:blipFill>
          <a:blip r:embed="rId3"/>
          <a:stretch/>
        </p:blipFill>
        <p:spPr>
          <a:xfrm>
            <a:off x="0" y="4132440"/>
            <a:ext cx="4648320" cy="2725560"/>
          </a:xfrm>
          <a:prstGeom prst="rect">
            <a:avLst/>
          </a:prstGeom>
          <a:ln w="0">
            <a:noFill/>
          </a:ln>
        </p:spPr>
      </p:pic>
      <p:pic>
        <p:nvPicPr>
          <p:cNvPr id="392" name="cc3" descr=""/>
          <p:cNvPicPr/>
          <p:nvPr/>
        </p:nvPicPr>
        <p:blipFill>
          <a:blip r:embed="rId4"/>
          <a:stretch/>
        </p:blipFill>
        <p:spPr>
          <a:xfrm>
            <a:off x="0" y="0"/>
            <a:ext cx="3411360" cy="3657600"/>
          </a:xfrm>
          <a:prstGeom prst="rect">
            <a:avLst/>
          </a:prstGeom>
          <a:ln w="0">
            <a:noFill/>
          </a:ln>
        </p:spPr>
      </p:pic>
      <p:pic>
        <p:nvPicPr>
          <p:cNvPr id="393" name="cc4" descr=""/>
          <p:cNvPicPr/>
          <p:nvPr/>
        </p:nvPicPr>
        <p:blipFill>
          <a:blip r:embed="rId5"/>
          <a:stretch/>
        </p:blipFill>
        <p:spPr>
          <a:xfrm>
            <a:off x="5969160" y="0"/>
            <a:ext cx="3174840" cy="27748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971880" y="533520"/>
            <a:ext cx="1241280" cy="30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生 活 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6600" spc="-1" strike="noStrike">
                <a:solidFill>
                  <a:srgbClr val="66ffcc"/>
                </a:solidFill>
                <a:latin typeface="宋体"/>
              </a:rPr>
              <a:t>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1523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64400" y="1371600"/>
            <a:ext cx="17409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托盘天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0440" y="5105520"/>
            <a:ext cx="17409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物理天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43000" y="533520"/>
            <a:ext cx="69343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808080"/>
                </a:solidFill>
                <a:latin typeface="幼圆"/>
              </a:rPr>
              <a:t>学校实验室中常用的天平有两种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808080"/>
              </a:solidFill>
              <a:latin typeface="幼圆"/>
              <a:ea typeface="幼圆"/>
            </a:endParaRPr>
          </a:p>
        </p:txBody>
      </p:sp>
      <p:pic>
        <p:nvPicPr>
          <p:cNvPr id="401" name="dxx11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402" name="dxx12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357516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tp1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4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84840" y="494424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00.5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p1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4120"/>
          </a:xfrm>
          <a:prstGeom prst="rect">
            <a:avLst/>
          </a:prstGeom>
          <a:ln w="0">
            <a:noFill/>
          </a:ln>
        </p:spPr>
      </p:pic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952920"/>
            <a:ext cx="914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657600" y="39625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3657600" y="51814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6705720" y="38862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p00" descr=""/>
          <p:cNvPicPr/>
          <p:nvPr/>
        </p:nvPicPr>
        <p:blipFill>
          <a:blip r:embed="rId5"/>
          <a:stretch/>
        </p:blipFill>
        <p:spPr>
          <a:xfrm>
            <a:off x="3048120" y="609480"/>
            <a:ext cx="4875120" cy="31258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685800" y="51814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分    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tp2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6232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74280" y="494424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.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tp2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232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30" name="tp3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5116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74280" y="494424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4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tp3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5116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43" name="tp4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52960"/>
          </a:xfrm>
          <a:prstGeom prst="rect">
            <a:avLst/>
          </a:prstGeom>
          <a:ln w="0">
            <a:noFill/>
          </a:ln>
        </p:spPr>
      </p:pic>
      <p:sp>
        <p:nvSpPr>
          <p:cNvPr id="444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4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84840" y="494424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0.4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tp4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5296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14160" y="43243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物体的质量由砝码和游码两部分的示数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556272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tp55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54560" y="2970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91200" y="5029200"/>
            <a:ext cx="393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分别读出砝码的质量和游码的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再将其相加即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31440" y="4343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1 </a:t>
            </a: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砝码的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754560" y="2970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66920" y="4343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游码的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75560" y="4343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0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8920" y="434340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0.88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38960" y="4952880"/>
            <a:ext cx="29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3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将其相加得最终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74200" y="50292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10.88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3426480" y="6267960"/>
            <a:ext cx="2903400" cy="597600"/>
          </a:xfrm>
          <a:custGeom>
            <a:avLst/>
            <a:gdLst>
              <a:gd name="textAreaLeft" fmla="*/ 38520 w 2903400"/>
              <a:gd name="textAreaRight" fmla="*/ 2864880 w 2903400"/>
              <a:gd name="textAreaTop" fmla="*/ 38520 h 597600"/>
              <a:gd name="textAreaBottom" fmla="*/ 559080 h 597600"/>
            </a:gdLst>
            <a:ahLst/>
            <a:rect l="textAreaLeft" t="textAreaTop" r="textAreaRight" b="textAreaBottom"/>
            <a:pathLst>
              <a:path w="104892" h="21600">
                <a:moveTo>
                  <a:pt x="0" y="0"/>
                </a:moveTo>
                <a:lnTo>
                  <a:pt x="104892" y="0"/>
                </a:lnTo>
                <a:lnTo>
                  <a:pt x="104892" y="21600"/>
                </a:lnTo>
                <a:lnTo>
                  <a:pt x="0" y="21600"/>
                </a:lnTo>
                <a:close/>
              </a:path>
              <a:path fill="lightenLess" w="104892" h="21600">
                <a:moveTo>
                  <a:pt x="0" y="0"/>
                </a:moveTo>
                <a:lnTo>
                  <a:pt x="104892" y="0"/>
                </a:lnTo>
                <a:lnTo>
                  <a:pt x="103492" y="1400"/>
                </a:lnTo>
                <a:lnTo>
                  <a:pt x="1400" y="1400"/>
                </a:lnTo>
                <a:close/>
              </a:path>
              <a:path fill="darken" w="104892" h="21600">
                <a:moveTo>
                  <a:pt x="104892" y="0"/>
                </a:moveTo>
                <a:lnTo>
                  <a:pt x="104892" y="21600"/>
                </a:lnTo>
                <a:lnTo>
                  <a:pt x="103492" y="20200"/>
                </a:lnTo>
                <a:lnTo>
                  <a:pt x="103492" y="1400"/>
                </a:lnTo>
                <a:close/>
              </a:path>
              <a:path fill="darkenLess" w="104892" h="21600">
                <a:moveTo>
                  <a:pt x="104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492" y="20200"/>
                </a:lnTo>
                <a:close/>
              </a:path>
              <a:path fill="lighten" w="104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如何读出游码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 flipH="1">
            <a:off x="297180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8" name="">
            <a:hlinkClick r:id="rId3" action="ppaction://hlinksldjump"/>
          </p:cNvPr>
          <p:cNvSpPr/>
          <p:nvPr/>
        </p:nvSpPr>
        <p:spPr>
          <a:xfrm>
            <a:off x="7772400" y="6324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2286000"/>
            <a:ext cx="990720" cy="12952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324480" y="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2286000"/>
            <a:ext cx="990720" cy="12952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p55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pic>
        <p:nvPicPr>
          <p:cNvPr id="474" name="tp666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4343400" cy="1219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75" name=""/>
          <p:cNvSpPr/>
          <p:nvPr/>
        </p:nvSpPr>
        <p:spPr>
          <a:xfrm>
            <a:off x="398880" y="762120"/>
            <a:ext cx="1277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看到右图游码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05640" y="4572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最大量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1200" y="4572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则每一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04680" y="5334120"/>
            <a:ext cx="56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每一大格分为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小格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则每小格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02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tp666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4343400" cy="1219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3139560" y="457200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17920" y="464832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1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p666" descr=""/>
          <p:cNvPicPr/>
          <p:nvPr/>
        </p:nvPicPr>
        <p:blipFill>
          <a:blip r:embed="rId4"/>
          <a:stretch/>
        </p:blipFill>
        <p:spPr>
          <a:xfrm>
            <a:off x="2362320" y="0"/>
            <a:ext cx="6781680" cy="41148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172200" y="1600200"/>
            <a:ext cx="38088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0120" y="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p666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14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41480" y="457200"/>
            <a:ext cx="127764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观察右图游码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96440" y="4191120"/>
            <a:ext cx="47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游码所在处共包含 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8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个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5320" y="419112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8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0720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余下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1219320"/>
            <a:ext cx="30492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66440" y="5029200"/>
            <a:ext cx="50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个 小格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08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50280" y="5815080"/>
            <a:ext cx="47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故游码的读数  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0.88 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7848720" y="6145560"/>
            <a:ext cx="1295280" cy="667800"/>
          </a:xfrm>
          <a:custGeom>
            <a:avLst/>
            <a:gdLst>
              <a:gd name="textAreaLeft" fmla="*/ 43200 w 1295280"/>
              <a:gd name="textAreaRight" fmla="*/ 1252080 w 1295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1885" h="21600">
                <a:moveTo>
                  <a:pt x="0" y="0"/>
                </a:moveTo>
                <a:lnTo>
                  <a:pt x="41885" y="0"/>
                </a:lnTo>
                <a:lnTo>
                  <a:pt x="41885" y="21600"/>
                </a:lnTo>
                <a:lnTo>
                  <a:pt x="0" y="21600"/>
                </a:lnTo>
                <a:close/>
              </a:path>
              <a:path fill="lightenLess" w="41885" h="21600">
                <a:moveTo>
                  <a:pt x="0" y="0"/>
                </a:moveTo>
                <a:lnTo>
                  <a:pt x="41885" y="0"/>
                </a:lnTo>
                <a:lnTo>
                  <a:pt x="40485" y="1400"/>
                </a:lnTo>
                <a:lnTo>
                  <a:pt x="1400" y="1400"/>
                </a:lnTo>
                <a:close/>
              </a:path>
              <a:path fill="darken" w="41885" h="21600">
                <a:moveTo>
                  <a:pt x="41885" y="0"/>
                </a:moveTo>
                <a:lnTo>
                  <a:pt x="41885" y="21600"/>
                </a:lnTo>
                <a:lnTo>
                  <a:pt x="40485" y="20200"/>
                </a:lnTo>
                <a:lnTo>
                  <a:pt x="40485" y="1400"/>
                </a:lnTo>
                <a:close/>
              </a:path>
              <a:path fill="darkenLess" w="41885" h="21600">
                <a:moveTo>
                  <a:pt x="41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85" y="20200"/>
                </a:lnTo>
                <a:close/>
              </a:path>
              <a:path fill="lighten" w="41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149256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测力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553080" y="21337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6553080" y="502920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6629400" y="36576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lj00" descr=""/>
          <p:cNvPicPr/>
          <p:nvPr/>
        </p:nvPicPr>
        <p:blipFill>
          <a:blip r:embed="rId5"/>
          <a:stretch/>
        </p:blipFill>
        <p:spPr>
          <a:xfrm>
            <a:off x="1828800" y="1066680"/>
            <a:ext cx="3886200" cy="510552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6477120" y="838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各类实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80880" y="419904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64880" y="91476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33720" y="127944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把天平放在水平台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码放在标尺左端的零刻线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33720" y="402300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物理天平，   在调节横梁平衡之前要先调节底板上的底脚螺钉，  让重垂线上的小锤尖端跟底板上小锥体的尖端正对，  这时底板水平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23619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调节横梁右端的平衡螺母，使指针          指在分度盘的中线处，这时横梁平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683640" y="129528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66920" y="14479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被测物体放在左盘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镊子向右盘里加减砝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调节游码在标尺上的位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到横梁恢复平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79800" y="3961800"/>
            <a:ext cx="3381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盘中砝码的总质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上游码在标尺上所对的刻度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等于被测物体的质量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8072280" y="608796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3640" y="838440"/>
            <a:ext cx="39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75680" y="88344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了保持天平测量精确，使用时要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89160" y="3886200"/>
            <a:ext cx="433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保持天平干燥、清洁．不要把潮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和化学药品直接放在天平盘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把砝码弄湿弄脏，以免锈蚀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7200" y="2590560"/>
            <a:ext cx="35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不能超过最大秤量．用镊子往盘里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砝码时要轻拿轻放．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662440" y="54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弹簧秤是测力计的一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52560" y="167544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各种生活中常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测力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2" action="ppaction://hlinksldjump"/>
          </p:cNvPr>
          <p:cNvSpPr/>
          <p:nvPr/>
        </p:nvSpPr>
        <p:spPr>
          <a:xfrm>
            <a:off x="7620120" y="609588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3124080" cy="2227320"/>
          </a:xfrm>
          <a:prstGeom prst="rect">
            <a:avLst/>
          </a:prstGeom>
          <a:ln w="0">
            <a:noFill/>
          </a:ln>
        </p:spPr>
      </p:pic>
      <p:pic>
        <p:nvPicPr>
          <p:cNvPr id="520" name="cc1" descr=""/>
          <p:cNvPicPr/>
          <p:nvPr/>
        </p:nvPicPr>
        <p:blipFill>
          <a:blip r:embed="rId4"/>
          <a:stretch/>
        </p:blipFill>
        <p:spPr>
          <a:xfrm>
            <a:off x="5791320" y="3200400"/>
            <a:ext cx="2762280" cy="2662200"/>
          </a:xfrm>
          <a:prstGeom prst="rect">
            <a:avLst/>
          </a:prstGeom>
          <a:ln w="0">
            <a:noFill/>
          </a:ln>
        </p:spPr>
      </p:pic>
      <p:pic>
        <p:nvPicPr>
          <p:cNvPr id="521" name="cc2" descr=""/>
          <p:cNvPicPr/>
          <p:nvPr/>
        </p:nvPicPr>
        <p:blipFill>
          <a:blip r:embed="rId5"/>
          <a:stretch/>
        </p:blipFill>
        <p:spPr>
          <a:xfrm>
            <a:off x="1752480" y="2438280"/>
            <a:ext cx="1100160" cy="3949920"/>
          </a:xfrm>
          <a:prstGeom prst="rect">
            <a:avLst/>
          </a:prstGeom>
          <a:ln w="0">
            <a:noFill/>
          </a:ln>
        </p:spPr>
      </p:pic>
      <p:pic>
        <p:nvPicPr>
          <p:cNvPr id="522" name="cc3" descr=""/>
          <p:cNvPicPr/>
          <p:nvPr/>
        </p:nvPicPr>
        <p:blipFill>
          <a:blip r:embed="rId6"/>
          <a:stretch/>
        </p:blipFill>
        <p:spPr>
          <a:xfrm>
            <a:off x="4038480" y="3200400"/>
            <a:ext cx="88272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43280" y="4191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525" name="clj01" descr=""/>
          <p:cNvPicPr/>
          <p:nvPr/>
        </p:nvPicPr>
        <p:blipFill>
          <a:blip r:embed="rId2"/>
          <a:stretch/>
        </p:blipFill>
        <p:spPr>
          <a:xfrm>
            <a:off x="5064120" y="0"/>
            <a:ext cx="4079880" cy="487692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02680" y="426708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5120" y="510480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.9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930680" cy="4343400"/>
          </a:xfrm>
          <a:prstGeom prst="rect">
            <a:avLst/>
          </a:prstGeom>
          <a:ln w="0">
            <a:noFill/>
          </a:ln>
        </p:spPr>
      </p:pic>
      <p:pic>
        <p:nvPicPr>
          <p:cNvPr id="532" name="clj01" descr=""/>
          <p:cNvPicPr/>
          <p:nvPr/>
        </p:nvPicPr>
        <p:blipFill>
          <a:blip r:embed="rId2"/>
          <a:stretch/>
        </p:blipFill>
        <p:spPr>
          <a:xfrm>
            <a:off x="5064120" y="0"/>
            <a:ext cx="4079880" cy="487692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1876320" cy="39625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20360" y="403848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clj02" descr=""/>
          <p:cNvPicPr/>
          <p:nvPr/>
        </p:nvPicPr>
        <p:blipFill>
          <a:blip r:embed="rId2"/>
          <a:stretch/>
        </p:blipFill>
        <p:spPr>
          <a:xfrm>
            <a:off x="5091120" y="0"/>
            <a:ext cx="4052880" cy="487692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173640" y="49442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4.3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79000" y="43434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1930320" cy="4343400"/>
          </a:xfrm>
          <a:prstGeom prst="rect">
            <a:avLst/>
          </a:prstGeom>
          <a:ln w="0">
            <a:noFill/>
          </a:ln>
        </p:spPr>
      </p:pic>
      <p:pic>
        <p:nvPicPr>
          <p:cNvPr id="545" name="clj02" descr=""/>
          <p:cNvPicPr/>
          <p:nvPr/>
        </p:nvPicPr>
        <p:blipFill>
          <a:blip r:embed="rId2"/>
          <a:stretch/>
        </p:blipFill>
        <p:spPr>
          <a:xfrm>
            <a:off x="5091120" y="0"/>
            <a:ext cx="4052880" cy="4876920"/>
          </a:xfrm>
          <a:prstGeom prst="rect">
            <a:avLst/>
          </a:prstGeom>
          <a:ln w="0">
            <a:noFill/>
          </a:ln>
        </p:spPr>
      </p:pic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876680" cy="3962520"/>
          </a:xfrm>
          <a:prstGeom prst="rect">
            <a:avLst/>
          </a:prstGeom>
          <a:ln w="0">
            <a:noFill/>
          </a:ln>
        </p:spPr>
      </p:pic>
      <p:pic>
        <p:nvPicPr>
          <p:cNvPr id="549" name="clj03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119240" y="411480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173640" y="49442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6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54960" y="41148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558" name="clj03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5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762480"/>
            <a:ext cx="53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电流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886200" y="41911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6553080" y="5410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3886200" y="5410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1219320" y="5410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-4" descr=""/>
          <p:cNvPicPr/>
          <p:nvPr/>
        </p:nvPicPr>
        <p:blipFill>
          <a:blip r:embed="rId6"/>
          <a:stretch/>
        </p:blipFill>
        <p:spPr>
          <a:xfrm>
            <a:off x="3124080" y="914400"/>
            <a:ext cx="4953240" cy="273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562" name="clj0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119240" y="411480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4" action="ppaction://hlinksldjump"/>
          </p:cNvPr>
          <p:cNvSpPr/>
          <p:nvPr/>
        </p:nvSpPr>
        <p:spPr>
          <a:xfrm>
            <a:off x="69343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153480" y="4944240"/>
            <a:ext cx="14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0 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02680" y="41148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1897200" cy="4267080"/>
          </a:xfrm>
          <a:prstGeom prst="rect">
            <a:avLst/>
          </a:prstGeom>
          <a:ln w="0">
            <a:noFill/>
          </a:ln>
        </p:spPr>
      </p:pic>
      <p:pic>
        <p:nvPicPr>
          <p:cNvPr id="570" name="clj0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7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85960" y="4114800"/>
            <a:ext cx="23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读出整数位牛顿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25520" y="34920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以 弹 簧 秤 为 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533412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将其相加为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3440" y="4724280"/>
            <a:ext cx="38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读出剩余刻度所含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0.1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牛顿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lj01" descr=""/>
          <p:cNvPicPr/>
          <p:nvPr/>
        </p:nvPicPr>
        <p:blipFill>
          <a:blip r:embed="rId1"/>
          <a:stretch/>
        </p:blipFill>
        <p:spPr>
          <a:xfrm>
            <a:off x="5383080" y="0"/>
            <a:ext cx="3760920" cy="58672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025640" y="1143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刻度盘分为左右两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3920" y="18288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左边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1880" y="25146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右边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8320" y="182880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表示质量  单位 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59840" y="24382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表示力    单位 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004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读数应读右边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步骤如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04520" y="533412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2.9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23840" y="457200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0.9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89680" y="40384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438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8720" y="1066680"/>
            <a:ext cx="685800" cy="152640"/>
          </a:xfrm>
          <a:prstGeom prst="left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1752480"/>
            <a:ext cx="685800" cy="152640"/>
          </a:xfrm>
          <a:prstGeom prst="left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924680" y="25146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72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72400" y="2743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72400" y="26668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72400" y="2819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772400" y="28954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3048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772400" y="3276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7240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2" action="ppaction://hlinksldjump"/>
          </p:cNvPr>
          <p:cNvSpPr/>
          <p:nvPr/>
        </p:nvSpPr>
        <p:spPr>
          <a:xfrm>
            <a:off x="8229960" y="6199560"/>
            <a:ext cx="754920" cy="667800"/>
          </a:xfrm>
          <a:custGeom>
            <a:avLst/>
            <a:gdLst>
              <a:gd name="textAreaLeft" fmla="*/ 43200 w 754920"/>
              <a:gd name="textAreaRight" fmla="*/ 711720 w 7549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4416" h="21600">
                <a:moveTo>
                  <a:pt x="0" y="0"/>
                </a:moveTo>
                <a:lnTo>
                  <a:pt x="24416" y="0"/>
                </a:lnTo>
                <a:lnTo>
                  <a:pt x="24416" y="21600"/>
                </a:lnTo>
                <a:lnTo>
                  <a:pt x="0" y="21600"/>
                </a:lnTo>
                <a:close/>
              </a:path>
              <a:path fill="lightenLess" w="24416" h="21600">
                <a:moveTo>
                  <a:pt x="0" y="0"/>
                </a:moveTo>
                <a:lnTo>
                  <a:pt x="24416" y="0"/>
                </a:lnTo>
                <a:lnTo>
                  <a:pt x="23016" y="1400"/>
                </a:lnTo>
                <a:lnTo>
                  <a:pt x="1400" y="1400"/>
                </a:lnTo>
                <a:close/>
              </a:path>
              <a:path fill="darken" w="24416" h="21600">
                <a:moveTo>
                  <a:pt x="24416" y="0"/>
                </a:moveTo>
                <a:lnTo>
                  <a:pt x="24416" y="21600"/>
                </a:lnTo>
                <a:lnTo>
                  <a:pt x="23016" y="20200"/>
                </a:lnTo>
                <a:lnTo>
                  <a:pt x="23016" y="1400"/>
                </a:lnTo>
                <a:close/>
              </a:path>
              <a:path fill="darkenLess" w="24416" h="21600">
                <a:moveTo>
                  <a:pt x="24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6" y="20200"/>
                </a:lnTo>
                <a:close/>
              </a:path>
              <a:path fill="lighten" w="24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678680" y="3340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弹簧秤使用注意事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34880" y="135504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了保持测量精确，使用时要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72680" y="38091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认弹簧秤的指针在使用前指在零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85680" y="2285640"/>
            <a:ext cx="45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时要看清量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在弹簧称上的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超过该弹簧称的测量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0360" y="4952520"/>
            <a:ext cx="44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时注意避免弹簧秤秤钩与称壳之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摩擦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725640" y="42516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几 种 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电 流 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rId2" action="ppaction://hlinksldjump"/>
          </p:cNvPr>
          <p:cNvSpPr/>
          <p:nvPr/>
        </p:nvSpPr>
        <p:spPr>
          <a:xfrm>
            <a:off x="79246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13" name="a-1" descr=""/>
          <p:cNvPicPr/>
          <p:nvPr/>
        </p:nvPicPr>
        <p:blipFill>
          <a:blip r:embed="rId4"/>
          <a:stretch/>
        </p:blipFill>
        <p:spPr>
          <a:xfrm>
            <a:off x="6858000" y="990720"/>
            <a:ext cx="1562040" cy="1699920"/>
          </a:xfrm>
          <a:prstGeom prst="rect">
            <a:avLst/>
          </a:prstGeom>
          <a:ln w="0">
            <a:noFill/>
          </a:ln>
        </p:spPr>
      </p:pic>
      <p:pic>
        <p:nvPicPr>
          <p:cNvPr id="614" name="a-2" descr=""/>
          <p:cNvPicPr/>
          <p:nvPr/>
        </p:nvPicPr>
        <p:blipFill>
          <a:blip r:embed="rId5"/>
          <a:stretch/>
        </p:blipFill>
        <p:spPr>
          <a:xfrm>
            <a:off x="4267080" y="2286000"/>
            <a:ext cx="1962360" cy="2336760"/>
          </a:xfrm>
          <a:prstGeom prst="rect">
            <a:avLst/>
          </a:prstGeom>
          <a:ln w="0">
            <a:noFill/>
          </a:ln>
        </p:spPr>
      </p:pic>
      <p:pic>
        <p:nvPicPr>
          <p:cNvPr id="615" name="a-3" descr=""/>
          <p:cNvPicPr/>
          <p:nvPr/>
        </p:nvPicPr>
        <p:blipFill>
          <a:blip r:embed="rId6"/>
          <a:stretch/>
        </p:blipFill>
        <p:spPr>
          <a:xfrm>
            <a:off x="6858000" y="3733920"/>
            <a:ext cx="1787400" cy="1612800"/>
          </a:xfrm>
          <a:prstGeom prst="rect">
            <a:avLst/>
          </a:prstGeom>
          <a:ln w="0">
            <a:noFill/>
          </a:ln>
        </p:spPr>
      </p:pic>
      <p:pic>
        <p:nvPicPr>
          <p:cNvPr id="616" name="a-4" descr=""/>
          <p:cNvPicPr/>
          <p:nvPr/>
        </p:nvPicPr>
        <p:blipFill>
          <a:blip r:embed="rId7"/>
          <a:stretch/>
        </p:blipFill>
        <p:spPr>
          <a:xfrm>
            <a:off x="380880" y="3657600"/>
            <a:ext cx="3687840" cy="20368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256400" y="5943600"/>
            <a:ext cx="1887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验室用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74960" y="487692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学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85000" y="548640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灵敏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60960" y="297180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4480" y="380880"/>
            <a:ext cx="102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dl11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752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536080" y="510480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5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dl11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752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537120" y="304920"/>
            <a:ext cx="102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dl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81600"/>
          </a:xfrm>
          <a:prstGeom prst="rect">
            <a:avLst/>
          </a:prstGeom>
          <a:ln w="0">
            <a:noFill/>
          </a:ln>
        </p:spPr>
      </p:pic>
      <p:sp>
        <p:nvSpPr>
          <p:cNvPr id="633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204600" y="494424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7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dl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816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0452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dl33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788000"/>
          </a:xfrm>
          <a:prstGeom prst="rect">
            <a:avLst/>
          </a:prstGeom>
          <a:ln w="0">
            <a:noFill/>
          </a:ln>
        </p:spPr>
      </p:pic>
      <p:sp>
        <p:nvSpPr>
          <p:cNvPr id="644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219680"/>
            <a:ext cx="53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电压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7242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47242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57150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6386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-1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036960" cy="3087720"/>
          </a:xfrm>
          <a:prstGeom prst="rect">
            <a:avLst/>
          </a:prstGeom>
          <a:ln w="0">
            <a:noFill/>
          </a:ln>
        </p:spPr>
      </p:pic>
      <p:pic>
        <p:nvPicPr>
          <p:cNvPr id="100" name="v-4" descr=""/>
          <p:cNvPicPr/>
          <p:nvPr/>
        </p:nvPicPr>
        <p:blipFill>
          <a:blip r:embed="rId3"/>
          <a:stretch/>
        </p:blipFill>
        <p:spPr>
          <a:xfrm>
            <a:off x="5781600" y="380880"/>
            <a:ext cx="3362400" cy="334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059880" y="49442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5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dl33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7880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628200" y="38088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7592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dl44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2912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059880" y="49442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3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l44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291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55224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62820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dl55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4992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204600" y="494424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7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dl55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49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552240" y="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2820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dl66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0536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2820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25320" y="548568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dl66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0536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aa-2" descr=""/>
          <p:cNvPicPr/>
          <p:nvPr/>
        </p:nvPicPr>
        <p:blipFill>
          <a:blip r:embed="rId1"/>
          <a:stretch/>
        </p:blipFill>
        <p:spPr>
          <a:xfrm>
            <a:off x="6657840" y="2666880"/>
            <a:ext cx="2486160" cy="2743200"/>
          </a:xfrm>
          <a:prstGeom prst="rect">
            <a:avLst/>
          </a:prstGeom>
          <a:ln w="0">
            <a:noFill/>
          </a:ln>
        </p:spPr>
      </p:pic>
      <p:pic>
        <p:nvPicPr>
          <p:cNvPr id="685" name="aa-1" descr=""/>
          <p:cNvPicPr/>
          <p:nvPr/>
        </p:nvPicPr>
        <p:blipFill>
          <a:blip r:embed="rId2"/>
          <a:stretch/>
        </p:blipFill>
        <p:spPr>
          <a:xfrm>
            <a:off x="6656400" y="0"/>
            <a:ext cx="2487600" cy="2666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533600" y="349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11560" y="1143000"/>
            <a:ext cx="40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首先判断电流表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接线柱确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20480" y="19810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学校实验室常用的电流表如右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05920" y="25146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43560" y="25146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的量程都是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61560" y="363384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上图电流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76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0.6” “3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负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76040" y="5257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下图电流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765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0.6” “3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正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77320" y="48006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077320" y="48006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773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0773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71200" y="1371600"/>
            <a:ext cx="54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量程确定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大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和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小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所表示的电流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7240" y="2614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6880" y="35812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3600" y="441972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3200" y="5334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32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3592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35920" y="541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42120" y="586728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54720" y="533412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77600" y="594360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71640" y="54100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31200" y="246204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乙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07800" y="42670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4668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>
            <a:hlinkClick r:id="" action="ppaction://hlinkshowjump?jump=nextslide"/>
          </p:cNvPr>
          <p:cNvSpPr/>
          <p:nvPr/>
        </p:nvSpPr>
        <p:spPr>
          <a:xfrm>
            <a:off x="45720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aa-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2666880" cy="2614680"/>
          </a:xfrm>
          <a:prstGeom prst="rect">
            <a:avLst/>
          </a:prstGeom>
          <a:ln w="0">
            <a:noFill/>
          </a:ln>
        </p:spPr>
      </p:pic>
      <p:pic>
        <p:nvPicPr>
          <p:cNvPr id="734" name="aa-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2565360" cy="2590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aa-5" descr=""/>
          <p:cNvPicPr/>
          <p:nvPr/>
        </p:nvPicPr>
        <p:blipFill>
          <a:blip r:embed="rId1"/>
          <a:stretch/>
        </p:blipFill>
        <p:spPr>
          <a:xfrm>
            <a:off x="0" y="15238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 rot="1440000">
            <a:off x="2971800" y="3319560"/>
            <a:ext cx="257040" cy="3538440"/>
          </a:xfrm>
          <a:prstGeom prst="upArrow">
            <a:avLst>
              <a:gd name="adj1" fmla="val 50000"/>
              <a:gd name="adj2" fmla="val 34415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836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59600" y="167652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1224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最终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84280" y="31240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=0.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29960" y="53341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4+0.08=0.4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39120" y="426708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2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=0.0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3440" y="251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大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73440" y="3657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小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10800000">
            <a:off x="2590920" y="5638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9000000">
            <a:off x="1294560" y="37339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0800000">
            <a:off x="2514600" y="5638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0020000">
            <a:off x="2133360" y="327636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1400000">
            <a:off x="3199680" y="32767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1400000">
            <a:off x="3276360" y="320004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1400000">
            <a:off x="3428640" y="327636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1580000">
            <a:off x="3504960" y="327672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1640000">
            <a:off x="3581280" y="3352320"/>
            <a:ext cx="152640" cy="838440"/>
          </a:xfrm>
          <a:prstGeom prst="downArrow">
            <a:avLst>
              <a:gd name="adj1" fmla="val 50000"/>
              <a:gd name="adj2" fmla="val 137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1940000">
            <a:off x="3657240" y="342864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319400" cy="251460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644760" y="442800"/>
            <a:ext cx="729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05120" y="456840"/>
            <a:ext cx="67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电流表的内部构造比较精密，使用不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很容易烧杯电流表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因此，我们要掌握正确使用电流表的规则．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rId4" action="ppaction://hlinksldjump"/>
          </p:cNvPr>
          <p:cNvSpPr/>
          <p:nvPr/>
        </p:nvSpPr>
        <p:spPr>
          <a:xfrm>
            <a:off x="2256120" y="4800240"/>
            <a:ext cx="643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绝对不允许将电流表直接接到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电源的两极上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rId5" action="ppaction://hlinksldjump"/>
          </p:cNvPr>
          <p:cNvSpPr/>
          <p:nvPr/>
        </p:nvSpPr>
        <p:spPr>
          <a:xfrm>
            <a:off x="2839320" y="4037760"/>
            <a:ext cx="55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被测电流不要超过电流表的量程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 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rId6" action="ppaction://hlinksldjump"/>
          </p:cNvPr>
          <p:cNvSpPr/>
          <p:nvPr/>
        </p:nvSpPr>
        <p:spPr>
          <a:xfrm>
            <a:off x="2654640" y="335196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“十”、“一”接线性的接法要正确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..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>
            <a:hlinkClick r:id="rId7" action="ppaction://hlinksldjump"/>
          </p:cNvPr>
          <p:cNvSpPr/>
          <p:nvPr/>
        </p:nvSpPr>
        <p:spPr>
          <a:xfrm>
            <a:off x="1817640" y="266616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电流表应串联在电路中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xx1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2549520" cy="2287440"/>
          </a:xfrm>
          <a:prstGeom prst="rect">
            <a:avLst/>
          </a:prstGeom>
          <a:ln w="0">
            <a:noFill/>
          </a:ln>
        </p:spPr>
      </p:pic>
      <p:pic>
        <p:nvPicPr>
          <p:cNvPr id="770" name="xx2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71" name="xx3" descr=""/>
          <p:cNvPicPr/>
          <p:nvPr/>
        </p:nvPicPr>
        <p:blipFill>
          <a:blip r:embed="rId4"/>
          <a:stretch/>
        </p:blipFill>
        <p:spPr>
          <a:xfrm>
            <a:off x="6556320" y="2133720"/>
            <a:ext cx="2587680" cy="22860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94680" y="380880"/>
            <a:ext cx="4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96240" y="4776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通过小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泡的电流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71640" y="533520"/>
            <a:ext cx="48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测量某一部分电路中的电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把电流表串联在这部分电路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20800" y="4800600"/>
            <a:ext cx="14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电流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87680" y="4724280"/>
            <a:ext cx="14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L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电流时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rId5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xx4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873520" cy="3048120"/>
          </a:xfrm>
          <a:prstGeom prst="rect">
            <a:avLst/>
          </a:prstGeom>
          <a:ln w="0">
            <a:noFill/>
          </a:ln>
        </p:spPr>
      </p:pic>
      <p:pic>
        <p:nvPicPr>
          <p:cNvPr id="779" name="xx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92440" cy="28000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2875680" y="762120"/>
            <a:ext cx="49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使电流从“十”接线柱流进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“一 ”接线柱流出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0200" y="304920"/>
            <a:ext cx="115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97480" y="4038480"/>
            <a:ext cx="114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94440" y="411480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xx6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200400" cy="28749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961000" y="685800"/>
            <a:ext cx="438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测电流超过电流表的量程时，不仅测不出电流值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流表的指针还会被打弯，甚至烧杯电流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不能预先估计被测电流大小的情况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要先用电路的一个线头迅速试触电流表的接线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看指针的偏转是否在量程之内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超出量程，就要改用更大量程的电流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2680" y="533520"/>
            <a:ext cx="6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62720" y="2950560"/>
            <a:ext cx="2286000" cy="739440"/>
          </a:xfrm>
          <a:prstGeom prst="wedgeEllipseCallout">
            <a:avLst>
              <a:gd name="adj1" fmla="val -59018"/>
              <a:gd name="adj2" fmla="val 879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118680" y="762120"/>
            <a:ext cx="326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绝对不允许不经过用电器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电流表直接接到电源的两极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否则，电流表将很快烧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xx7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2678040" cy="3143520"/>
          </a:xfrm>
          <a:prstGeom prst="rect">
            <a:avLst/>
          </a:prstGeom>
          <a:ln w="0">
            <a:noFill/>
          </a:ln>
        </p:spPr>
      </p:pic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56800" y="99072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81440" y="495288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81160" y="533520"/>
            <a:ext cx="51976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本软件详细介绍了初中物理中常见测量工具的使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包括  刻度尺 、天平、秒表、弹簧秤、温度计、电流表、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压表的具体操作和读数示范。 并提供大量的习题供学生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本软件对于学生对测量工具的学习有很大的辅助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3429000"/>
            <a:ext cx="38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软件开发环境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PowerPoint 97</a:t>
            </a:r>
            <a:r>
              <a:rPr b="1" lang="zh-CN" sz="2400" spc="-1" strike="noStrike">
                <a:solidFill>
                  <a:srgbClr val="b2b2b2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5240" y="41148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软件运行环境   奔腾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以上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8M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7696080" y="62485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725640" y="42516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几 种 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电 压 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>
            <a:hlinkClick r:id="rId2" action="ppaction://hlinksldjump"/>
          </p:cNvPr>
          <p:cNvSpPr/>
          <p:nvPr/>
        </p:nvSpPr>
        <p:spPr>
          <a:xfrm>
            <a:off x="7620120" y="609588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6661440" y="5410080"/>
            <a:ext cx="16437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验室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89160" y="563868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学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45960" y="586728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v-1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1873080" cy="1904760"/>
          </a:xfrm>
          <a:prstGeom prst="rect">
            <a:avLst/>
          </a:prstGeom>
          <a:ln w="0">
            <a:noFill/>
          </a:ln>
        </p:spPr>
      </p:pic>
      <p:pic>
        <p:nvPicPr>
          <p:cNvPr id="807" name="v-2" descr=""/>
          <p:cNvPicPr/>
          <p:nvPr/>
        </p:nvPicPr>
        <p:blipFill>
          <a:blip r:embed="rId5"/>
          <a:stretch/>
        </p:blipFill>
        <p:spPr>
          <a:xfrm>
            <a:off x="3429000" y="1981080"/>
            <a:ext cx="2530440" cy="3124440"/>
          </a:xfrm>
          <a:prstGeom prst="rect">
            <a:avLst/>
          </a:prstGeom>
          <a:ln w="0">
            <a:noFill/>
          </a:ln>
        </p:spPr>
      </p:pic>
      <p:pic>
        <p:nvPicPr>
          <p:cNvPr id="808" name="v-4" descr=""/>
          <p:cNvPicPr/>
          <p:nvPr/>
        </p:nvPicPr>
        <p:blipFill>
          <a:blip r:embed="rId6"/>
          <a:stretch/>
        </p:blipFill>
        <p:spPr>
          <a:xfrm>
            <a:off x="6400800" y="2895480"/>
            <a:ext cx="2286000" cy="2276640"/>
          </a:xfrm>
          <a:prstGeom prst="rect">
            <a:avLst/>
          </a:prstGeom>
          <a:ln w="0">
            <a:noFill/>
          </a:ln>
        </p:spPr>
      </p:pic>
      <p:pic>
        <p:nvPicPr>
          <p:cNvPr id="809" name="v-5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227808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84480" y="380880"/>
            <a:ext cx="102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rId1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rId2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dy11" descr=""/>
          <p:cNvPicPr/>
          <p:nvPr/>
        </p:nvPicPr>
        <p:blipFill>
          <a:blip r:embed="rId3"/>
          <a:stretch/>
        </p:blipFill>
        <p:spPr>
          <a:xfrm>
            <a:off x="2514600" y="0"/>
            <a:ext cx="6624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5546880" y="51048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9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7120" y="304920"/>
            <a:ext cx="102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dy11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4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rId1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>
            <a:hlinkClick r:id="rId2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dy66" descr=""/>
          <p:cNvPicPr/>
          <p:nvPr/>
        </p:nvPicPr>
        <p:blipFill>
          <a:blip r:embed="rId3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25" name="">
            <a:hlinkClick r:id="rId4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3:46:24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2Z</dcterms:modified>
  <cp:revision>1</cp:revision>
  <dc:subject>恒谦教育网(www.hengqian.com)</dc:subject>
  <dc:title>恒谦教育网(www.hengqian.com)</dc:title>
</cp:coreProperties>
</file>